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470-4BDA-44C2-9F44-7BEB6845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3D2-A2E1-4A6B-A651-EFBC9DF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933-EB5A-4658-8648-A1BC9857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3FE-98B8-4102-B441-861AA051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766-6B59-427C-B1E4-6DCE277A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15C-A1C5-480C-A7D9-DE6BDDFF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3F5-F2EF-4608-8923-A9860B3F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D04-D68D-492E-B377-1085403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1A6-125F-4D88-8C7A-A1AFA74A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E5F-EF4F-4A39-A333-83948AA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053-9403-4B0C-AD08-EDE5DB7D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FF7-06A7-4580-91F2-E90E2EB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64C-F40C-4C97-8D82-EE9AEA7F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serimento in una lista ordin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gliamo inserire un  nuovo elemento in una lista in cui gli elementi sono memorizzati in ordine cresc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3400" y="3809880"/>
            <a:ext cx="54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2: trovare il punto di ins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4840" y="320040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1: creare un nuovo nodo della 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3040" y="4495680"/>
            <a:ext cx="63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3: realizzare l’inser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re i link  in modo opportu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BE4-35BD-42ED-8FF2-50D94A1B6D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esec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insListOrd2 (a, </a:t>
            </a:r>
            <a:r>
              <a:rPr b="1" lang="en-US" sz="14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3400" y="1523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0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83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960" y="3352680"/>
            <a:ext cx="2375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insListOrd2 (b,</a:t>
            </a:r>
            <a:r>
              <a:rPr b="1" lang="en-US" sz="16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440" y="3048120"/>
            <a:ext cx="420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 L=a,*L = A, A-&gt;elem=2 &lt; val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6560" y="3962520"/>
            <a:ext cx="2375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insListOrd2 (c,</a:t>
            </a:r>
            <a:r>
              <a:rPr b="1" lang="en-US" sz="16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0400" y="3657600"/>
            <a:ext cx="456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 L=b, *L = B, B-&gt;elem = 25 &lt; val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960" y="4343400"/>
            <a:ext cx="4082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 L=c, *L = C,  C-&gt;elem &gt; val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4572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790960" y="91440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560" y="5029200"/>
            <a:ext cx="23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-&gt;next = 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760" y="4800600"/>
            <a:ext cx="4448160" cy="17002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*L ==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|| (*L)-&gt;elem &gt;= val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new = malloc(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sizeo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(Lista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a3eb0"/>
                </a:solidFill>
                <a:latin typeface="Monaco"/>
              </a:rPr>
              <a:t>	</a:t>
            </a:r>
            <a:r>
              <a:rPr b="1" lang="it-IT" sz="1400" spc="-1" strike="noStrike">
                <a:solidFill>
                  <a:srgbClr val="1a3eb0"/>
                </a:solidFill>
                <a:latin typeface="Monaco"/>
              </a:rPr>
              <a:t>  </a:t>
            </a:r>
            <a:r>
              <a:rPr b="1" lang="it-IT" sz="1400" spc="-1" strike="noStrike">
                <a:solidFill>
                  <a:srgbClr val="1a3eb0"/>
                </a:solidFill>
                <a:latin typeface="Monaco"/>
              </a:rPr>
              <a:t>assert(new);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new-&gt;elem = val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new-&gt;next = *L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*L = new;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insListOrd2(&amp;(*L)-&gt;next, val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267080" y="837720"/>
            <a:ext cx="3505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37160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528"/>
                </a:moveTo>
                <a:cubicBezTo>
                  <a:pt x="160" y="308"/>
                  <a:pt x="320" y="8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129528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160" y="180"/>
                  <a:pt x="320" y="360"/>
                  <a:pt x="384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00" y="914400"/>
            <a:ext cx="14274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( X)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E05-50F7-4F1C-AF27-579C5ED3C2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Versione iterativa dell’inserimento di un elemento in una lista ord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void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insListOrdIt2 (ListaPtr *L,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v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/*versione iterativa dell'inserimento in una lista ord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rec: La lista deve essere ordinata in ordine cre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ostc: inserisce val nella prima posizione consistente con l'ordin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istaPtr prec 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,temp = *L, ne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 = malloc(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sizeo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(List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a3eb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1a3eb0"/>
                </a:solidFill>
                <a:latin typeface="Monaco"/>
              </a:rPr>
              <a:t>assert(n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-&gt;elem = v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temp !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&amp;&amp; temp-&gt;elem &lt;va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prec = temp;temp = temp-&gt;nex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prec !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prec-&gt;next = new; new -&gt; next = temp;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{ new -&gt; next = *L; *L = new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3280" y="762120"/>
            <a:ext cx="160272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sion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0CC-B895-406B-975D-7A50217763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esec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insListOrdIt2 (a, </a:t>
            </a:r>
            <a:r>
              <a:rPr b="1" lang="en-US" sz="14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39720" y="1523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40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468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960" y="3352680"/>
            <a:ext cx="249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prec = A , temp =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800" y="3048120"/>
            <a:ext cx="7617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temp=*L=A, prec = NULL, temp-&gt;elem=2 &lt; val temp-&gt;next = B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5840" y="3962520"/>
            <a:ext cx="249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prec = B , temp =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0400" y="3657600"/>
            <a:ext cx="7130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temp = B, prec = A, B-&gt;elem = 25&lt; val, temp-&gt;next = C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3040" y="4267080"/>
            <a:ext cx="4935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temp=C,prec = B, C-&gt;elem = 32 &gt; val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29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4572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90960" y="91440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267080" y="837720"/>
            <a:ext cx="3505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37160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528"/>
                </a:moveTo>
                <a:cubicBezTo>
                  <a:pt x="160" y="308"/>
                  <a:pt x="320" y="8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129528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160" y="180"/>
                  <a:pt x="320" y="360"/>
                  <a:pt x="384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080" y="4724280"/>
            <a:ext cx="4767840" cy="19360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temp = *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whil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temp !=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&amp;&amp; temp-&gt;elem &lt;val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prec = temp;temp = temp-&gt;next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prec !=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prec-&gt;next = new; new -&gt; next = temp;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{ new -&gt; next = *L; *L = new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26720" y="4267080"/>
            <a:ext cx="3435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cita ciclo prec !=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 -&gt; next (= C) diventa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 new -&gt;next = temp (=C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2080" y="838080"/>
            <a:ext cx="14274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( X)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D2B-2EB4-45D7-A73F-C99FA8C41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fronto ricorsione iterazione, seconda ver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no sostanzialmente equival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zi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corsione: si occupa uno spazio di memoria per le chiamate lineare nel numero degli elementi (caso peggio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azione: si occupa uno spazio di memoria cos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 la funzione è ricorsiva in coda! Quindi può essere trasformata nell’iterativa equivalente a tempo di compilazione, risparmiando al programmatore la gestione dei puntatori di scorrimento della lis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006-8D79-4B4B-8F6C-F7586257AE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di ins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47242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47242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47242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8320" y="236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576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92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276720"/>
            <a:ext cx="46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chè A -&gt; elem = 2 &lt; val = 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&gt;elem = 25 &lt; val 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&gt;elem = 32 &gt;= 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unto giusto  è tra C e 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iamo il nodo da inser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2E2-9153-4387-A09C-D7D88790A5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inserimen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41911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41911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41911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648320" y="281916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9240" y="36576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-&gt;next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69040" y="31240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2286000"/>
            <a:ext cx="60984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528"/>
                </a:moveTo>
                <a:cubicBezTo>
                  <a:pt x="160" y="308"/>
                  <a:pt x="320" y="8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23623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4640" y="236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576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32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220968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160" y="180"/>
                  <a:pt x="320" y="360"/>
                  <a:pt x="384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74F-4C51-4B46-B428-1635D1A6EC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Ricorsione su liste concatenate:</a:t>
            </a:r>
            <a:br>
              <a:rPr sz="2000"/>
            </a:b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’esempio dell’inserimento di un elemento in una lista ord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istaPtr insListOrd (ListaPtr L,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/*versione ricorsiva dell'inserimento in una lista ord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rec: La lista deve essere ordinata in ordine crescente*/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ostc: inserisce val nella prima posizione consistente con l'ordin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istaPtr ne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L =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|| (L)-&gt;elem &gt;= v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new = malloc(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sizeo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(Lista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1" lang="it-IT" sz="1800" spc="-1" strike="noStrike">
                <a:solidFill>
                  <a:srgbClr val="1a3eb0"/>
                </a:solidFill>
                <a:latin typeface="Monaco"/>
              </a:rPr>
              <a:t>assert(new);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-&gt;elem = val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-&gt;next = L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  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new;}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L -&gt; next = insListOrd(L-&gt;next, 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L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3120" y="990720"/>
            <a:ext cx="160272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sion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F14-5A8D-4169-82E5-F8F3EE8375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esec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insListOrd (A, </a:t>
            </a:r>
            <a:r>
              <a:rPr b="1" lang="en-US" sz="16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3400" y="1523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0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468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000" y="3124080"/>
            <a:ext cx="371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A -&gt; next = insListOrd (B,</a:t>
            </a:r>
            <a:r>
              <a:rPr b="1" lang="en-US" sz="16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440" y="2743200"/>
            <a:ext cx="420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L=A,L-&gt;elem &lt; val L-&gt;next = B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0600" y="3733920"/>
            <a:ext cx="371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B -&gt; next = insListOrd (C,</a:t>
            </a:r>
            <a:r>
              <a:rPr b="1" lang="en-US" sz="16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0400" y="3352680"/>
            <a:ext cx="4691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L = B, L-&gt;elem &lt; val, L-&gt;next = C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2520" y="3962520"/>
            <a:ext cx="286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L=C, L-&gt;elem &gt; val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05920" y="4572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790960" y="91440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6240" y="4267080"/>
            <a:ext cx="29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ituisce ne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new-&gt;next = 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5160" y="4572000"/>
            <a:ext cx="4661280" cy="21088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L ==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|| (L)-&gt;elem &gt;= val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new = malloc(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sizeo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(Lista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1" lang="it-IT" sz="1400" spc="-1" strike="noStrike">
                <a:solidFill>
                  <a:srgbClr val="1a3eb0"/>
                </a:solidFill>
                <a:latin typeface="Monaco"/>
              </a:rPr>
              <a:t>assert(new);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new-&gt;elem = val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new-&gt;next = L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  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new;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 -&gt; next = insListOrd(L-&gt;next, 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67080" y="837720"/>
            <a:ext cx="3505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3657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B-&gt;next =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304812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A-&gt;next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37160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528"/>
                </a:moveTo>
                <a:cubicBezTo>
                  <a:pt x="160" y="308"/>
                  <a:pt x="320" y="8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129528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160" y="180"/>
                  <a:pt x="320" y="360"/>
                  <a:pt x="384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7BE-4F36-4CCC-87F3-A2318C0FB4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Versione iterativa dell’inserimento di un elemento in una lista ord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istaPtr insListOrdIt (ListaPtr L,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/*versione iterativa dell'inserimento in una lista ord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rec: La lista deve essere ordinata in ordine cre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ostc: inserisce val nella prima posizione consistente con l'ordin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istaPtr temp = L,prec 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,ne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 = malloc(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sizeo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(Lista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a3eb0"/>
                </a:solidFill>
                <a:latin typeface="Monaco"/>
              </a:rPr>
              <a:t>assert(n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-&gt;elem = v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temp !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&amp;&amp; temp -&gt; elem &lt; val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prec = temp;temp = temp -&gt;next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prec !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prec-&gt;next = new; new -&gt; next = temp;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{ new -&gt; next = L; L = new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L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55920" y="762120"/>
            <a:ext cx="160272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sion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8BB-644F-4382-991D-315F4DD5E2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esec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insListOrdIt (A, </a:t>
            </a:r>
            <a:r>
              <a:rPr b="1" lang="en-US" sz="1400" spc="-1" strike="noStrike">
                <a:solidFill>
                  <a:srgbClr val="760f50"/>
                </a:solidFill>
                <a:latin typeface="Monaco"/>
              </a:rPr>
              <a:t>30</a:t>
            </a:r>
            <a:r>
              <a:rPr b="1" lang="en-US" sz="14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1523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15238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9720" y="1523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40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468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4960" y="3352680"/>
            <a:ext cx="249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prec = A , temp =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40" y="3048120"/>
            <a:ext cx="725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temp=L=A,prec = NULL,temp-&gt;elem=2 &lt; val temp-&gt;next = B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5840" y="3962520"/>
            <a:ext cx="249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prec = B , temp =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120" y="3657600"/>
            <a:ext cx="7008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temp = B,prec = A, B-&gt;elem = 25&lt; val, temp-&gt;next = C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7080" y="4419720"/>
            <a:ext cx="4935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Monaco"/>
              </a:rPr>
              <a:t>/*temp=C,prec = B, C-&gt;elem = 32 &gt; val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457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4572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790960" y="91440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267080" y="837720"/>
            <a:ext cx="3505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37160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528"/>
                </a:moveTo>
                <a:cubicBezTo>
                  <a:pt x="160" y="308"/>
                  <a:pt x="320" y="8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129528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160" y="180"/>
                  <a:pt x="320" y="360"/>
                  <a:pt x="384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7720" y="4952880"/>
            <a:ext cx="4981320" cy="1464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whil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temp !=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&amp;&amp; temp -&gt; elem &lt; val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prec = temp;temp = temp -&gt;next;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prec !=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prec-&gt;next = new; new -&gt; next = temp;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{ new -&gt; next = L; L = new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27080" y="4267080"/>
            <a:ext cx="3187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cita ciclo prec !=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c -&gt; next ( che è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iventa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 new -&gt;next = te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che è C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2DA-CA43-4310-AF10-B9A1E882E3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fronto ricorsione ite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orsione: si esegue, oltre ai confronti necessari per trovare il punto di inserimento, un numero lineare nel numero degli elementi (caso peggiore) di  assegnamenti (al rientro dalle chiam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zione: si esegue un numero costante di  assegnamenti (lo stesso numero di confronti del caso ricors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z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orsione: si occupa uno spazio di memoria per le chiamate lineare nel numero degli elementi (caso peggio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zione: si occupa uno spazio di memoria cos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1C4-B487-455C-8D2C-7011BA4E36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Ricorsione su liste concatenate:</a:t>
            </a:r>
            <a:br>
              <a:rPr sz="2000"/>
            </a:b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’esempio dell’inserimento di un elemento in una lista ordi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void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insListOrd2 (ListaPtr *L,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/*versione ricorsiva dell'inserimento in una lista ord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rec: La lista deve essere ordinata in ordine crescente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ostc: inserisce val nella prima posizione consistente con l'ordin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istaPtr ne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*L =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|| (*L)-&gt;elem &gt;= val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new = malloc(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sizeo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(List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a3eb0"/>
                </a:solidFill>
                <a:latin typeface="Monaco"/>
              </a:rPr>
              <a:t>	</a:t>
            </a:r>
            <a:r>
              <a:rPr b="1" lang="it-IT" sz="1800" spc="-1" strike="noStrike">
                <a:solidFill>
                  <a:srgbClr val="1a3eb0"/>
                </a:solidFill>
                <a:latin typeface="Monaco"/>
              </a:rPr>
              <a:t>  </a:t>
            </a:r>
            <a:r>
              <a:rPr b="1" lang="it-IT" sz="1800" spc="-1" strike="noStrike">
                <a:solidFill>
                  <a:srgbClr val="1a3eb0"/>
                </a:solidFill>
                <a:latin typeface="Monaco"/>
              </a:rPr>
              <a:t>assert(new);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-&gt;elem = val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new-&gt;next = *L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*L = new;}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insListOrd2(&amp;(*L)-&gt;next, val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13120" y="990720"/>
            <a:ext cx="160272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sion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56F-33A7-4B18-BF63-DAEFDA7345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7:35:58Z</dcterms:created>
  <dc:creator>Emanuela  Fachini</dc:creator>
  <dc:description/>
  <dc:language>en-US</dc:language>
  <cp:lastModifiedBy>Emanuela  Fachini</cp:lastModifiedBy>
  <dcterms:modified xsi:type="dcterms:W3CDTF">2006-03-14T16:40:03Z</dcterms:modified>
  <cp:revision>16</cp:revision>
  <dc:subject/>
  <dc:title>Ricorsione e puntatori</dc:title>
</cp:coreProperties>
</file>