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05DC-3571-424F-A8E6-661FE5416D6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5F4A-9738-4CDC-A0FA-67A2E20F6A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D1A-AE0B-4D72-8ED4-90120E5C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688-696D-448B-A30A-7D2B2B11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F48-7DB7-482C-82E9-FBB44DDC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C21-EFAE-4E5E-8CC3-05D72B96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8B5-667E-4AC5-9FBD-F7E5158A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032-ABB3-4F6A-8BBC-A9C5F529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6FD-2147-4469-80A3-0FFC0884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F2F-B4DE-4FFD-B392-C5E6F468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F86-6B15-4271-9BE7-4AAF2D45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E5F-CC3B-45FE-8EBE-235E5919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5F5-1AEE-4D63-B374-D96C21A9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7AC-784B-4BC0-8D76-51249442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4772-CF19-4EA2-8573-2A2E07F29C8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914400"/>
            <a:ext cx="86104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ipo di dato astratto o 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ADT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(acronimo della versione inglese: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bstract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ta </a:t>
            </a: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y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 ADT è un insieme di valori e di operazioni definite su di essi in modo indipendente da una particolare implemen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o dei più semplici ADT è la pila (stack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a pila è una collezione di oggetti in cui solo l’elemento inserito più recentemente può essere rimo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ultimo elemento inserito è in cima alla p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operazioni di base sono push (inserimento) e pop (estrazio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pesso si aggiungono pilaVuota, pilaPiena e top (lettura elemento in cim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63880" y="228600"/>
            <a:ext cx="1985040" cy="398880"/>
          </a:xfrm>
          <a:prstGeom prst="rect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T: defini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248-1D29-4C81-9D02-BBA9E2ABCD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Arial"/>
              </a:rPr>
              <a:t>specificazione dell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vuota(const PilaP 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da' vero se la pila  p e' vuota, falso altrim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*prec: p è una pila creata con costrPi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restituisce un valore !=0  se la pila è vuota, 0 altrimenti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piena(const PilaP 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da' vero se la  pila p e' piena, falso altrim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*prec: p è una pila creata con costrPi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restituisce un valore !=0  se la pila è piena, 0 altrimenti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void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push(int el, PilaP 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inserisce el in cima alla pila  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rec: p è una pila creata con costrPila e non pi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el è in cima alla pila, se c’è abbastanza memoria, esce dal program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ltrimenti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875-D349-4EAA-9872-6B2188BA39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Arial"/>
              </a:rPr>
              <a:t>specificazione dell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pop(PilaP 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elimina l'elemento in cima a p, se non e' vuo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*prec: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 è una pila creata con costrPila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e non v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: restituisce, eliminandolo, l'elemento in cima alla pila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top(const PilaP 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legge e restituisce l'elemento in cima a p, se non e' v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*prec: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 è una pila creata con costrPila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e non vuo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: restituisce l'elemento in cima alla pila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915-06BF-407A-A69A-2167CFEBD7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371600"/>
            <a:ext cx="838080" cy="5335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24200" y="461484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05080" y="461484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35480" y="4614840"/>
            <a:ext cx="393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8960" y="4614840"/>
            <a:ext cx="3812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6760" y="461484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97640" y="4614840"/>
            <a:ext cx="3812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7760" y="4614840"/>
            <a:ext cx="3812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39000" y="461484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30760" y="461484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5680" y="22096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_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2743200"/>
            <a:ext cx="685800" cy="495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21080" y="48434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54640" y="48434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30600">
            <a:off x="4933800" y="2663640"/>
            <a:ext cx="76320" cy="5181480"/>
          </a:xfrm>
          <a:custGeom>
            <a:avLst/>
            <a:gdLst>
              <a:gd name="textAreaLeft" fmla="*/ 48960 w 76320"/>
              <a:gd name="textAreaRight" fmla="*/ 76320 w 76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04920" y="545292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menti della p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3124080"/>
            <a:ext cx="1908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44960" y="484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209680"/>
            <a:ext cx="685800" cy="533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29160" y="2727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6720" y="2252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8960" y="1643040"/>
            <a:ext cx="685800" cy="533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96840" y="1684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22160" y="17193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_c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80880"/>
            <a:ext cx="8001000" cy="398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7d24"/>
                </a:solidFill>
                <a:latin typeface="Arial"/>
              </a:rPr>
              <a:t>implementazione di una  pila su una 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752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1066680"/>
            <a:ext cx="3200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truc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dato;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    struc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el * n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typedef struc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el * Elem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truc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il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t    num_ma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t    num_cor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lem   to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F2A-35EB-49CE-AACB-AE29392B2A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1268280"/>
            <a:ext cx="8229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&lt;assert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&lt;stdlib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"pila.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truc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el {                  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un elemento dello pila e' un nodo della lista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dato;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truc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el * n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typedef struc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el * Elem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truc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il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t    num_max;   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qui memorizzaimo il numero massimo di elementi nella pil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t    num_corr;                 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teniamo conto del numero degli elementi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lem   top;                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il puntatore all'elemento in cim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380880"/>
            <a:ext cx="8001000" cy="398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Arial"/>
              </a:rPr>
              <a:t>implementazione di una  pila su una lista: file pila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908-AC78-4428-88EC-63AACD03B9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71600" y="304920"/>
            <a:ext cx="5109480" cy="398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Arial"/>
              </a:rPr>
              <a:t>implementazione di una  pila su una 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7920" y="914400"/>
            <a:ext cx="75765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ilaP costrPila(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numMa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alloca la memoria per una nuova pila  con numMaxEl al più elem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rec: numMaxel &g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restituisce un puntatore a una nuova pila, NULL se non c'è memori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PilaP 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ert(numMaxEl &gt;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 = (PilaP) calloc(1,sizeof(struct pila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ert(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-&gt;num_max = numMax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distrPila(PilaP 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prec:  p !=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libera la memoria impegnata dalla pil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Elem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ert(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(p-&gt;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temp = p-&gt;t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 -&gt; top = p-&gt; top-&gt; n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ree(temp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ree(p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361-65DD-40F3-A6EA-8CBC1D8B64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914400"/>
            <a:ext cx="8229600" cy="56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selettore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numElPila(PilaP 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prec: p !=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restituisce il numero di elementi nella pila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-&gt;num_corr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proprietà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vuota(const PilaP 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da' vero se la pila  p e' vuota, falso altrim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*prec: p !=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restituisce un valore !=0  se la pila è vuota, 0 altrimenti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assert(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 -&gt; num_corr == 0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iena(const PilaP 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da' vero se la  pila p e' piena, falso altrim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*prec: p != NU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restituisce un valore !=0  se la pila è piena, 0 altrimenti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assert(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-&gt;num_max == p-&gt;num_corr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5800" y="380880"/>
            <a:ext cx="6592320" cy="398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Arial"/>
              </a:rPr>
              <a:t>implementazione di una  pila su una lista: le fun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53D-A60A-4CC6-9948-3EDD9D5E62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95280" y="1447920"/>
            <a:ext cx="5639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ush(int el, PilaP 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inserisce el in cima a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rec: (p != NULL &amp;&amp; !piena(p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el è in cima alla pila, se c’è abbastanza memoria, altrimenti esce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 Elem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ert(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ert(!piena(p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x = (Elem) malloc(sizeof(el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ert(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x -&gt; dato = 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x -&gt; next = p -&gt; t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 -&gt; top =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 -&gt; num_corr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28440" y="304920"/>
            <a:ext cx="6522120" cy="398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Arial"/>
              </a:rPr>
              <a:t>implementazione di una  pila su una lista: le fun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641-D951-4C1C-9436-36CA375973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1371600"/>
            <a:ext cx="838080" cy="5335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461484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05080" y="461484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35480" y="4614840"/>
            <a:ext cx="393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28960" y="4614840"/>
            <a:ext cx="3812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16760" y="461484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97640" y="4614840"/>
            <a:ext cx="3812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57760" y="4614840"/>
            <a:ext cx="3812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39000" y="461484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30760" y="461484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15680" y="22096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_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743200"/>
            <a:ext cx="685800" cy="495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21080" y="48434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54640" y="48434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30600">
            <a:off x="4933800" y="2663640"/>
            <a:ext cx="76320" cy="5181480"/>
          </a:xfrm>
          <a:custGeom>
            <a:avLst/>
            <a:gdLst>
              <a:gd name="textAreaLeft" fmla="*/ 48960 w 76320"/>
              <a:gd name="textAreaRight" fmla="*/ 76320 w 76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04920" y="545292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menti della p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3124080"/>
            <a:ext cx="1908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44960" y="484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2209680"/>
            <a:ext cx="685800" cy="533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29160" y="2727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6720" y="2252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8960" y="1643040"/>
            <a:ext cx="685800" cy="533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96840" y="1684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22160" y="17193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_c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80880"/>
            <a:ext cx="8001000" cy="398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7d24"/>
                </a:solidFill>
                <a:latin typeface="Arial"/>
              </a:rPr>
              <a:t>implementazione di una  pila su una 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1752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63560" y="1371600"/>
            <a:ext cx="32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ush(x,p), con x inizializzata a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83000" y="12286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3809880"/>
            <a:ext cx="3812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380988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3809880"/>
            <a:ext cx="2286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905120" y="3733920"/>
            <a:ext cx="30456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41148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62120" y="29718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07A-0959-4B55-89B3-ADFF2853F6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06800" y="1066680"/>
            <a:ext cx="65145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p(PilaP 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elimina l'elemento in cima a p, se non e' vuo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*prec: p!= NULL &amp;&amp; e !vuota(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: restituisce, eliminandolo, l'elemento in cima alla pila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lem  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ert(p);assert(!vuota(p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l = p -&gt; top -&gt; da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x = p -&gt; t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 -&gt; top = p -&gt; top -&gt; n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ree(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 -&gt; num_corr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el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top(const PilaP 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legge e restituisce l'elemento in cima allo stack, se non e' vu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*prec: p != NULL &amp;&amp; !vuota(p)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assert(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ert(!vuota(p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(p -&gt; top -&gt; dat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09320" y="228600"/>
            <a:ext cx="6522120" cy="398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Arial"/>
              </a:rPr>
              <a:t>implementazione di una  pila su una lista: le fun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6D8-6D43-4E1C-925B-56ABBFBD95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1371600"/>
            <a:ext cx="838080" cy="5335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24200" y="461484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05080" y="461484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5480" y="4614840"/>
            <a:ext cx="393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28960" y="4614840"/>
            <a:ext cx="3812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16760" y="461484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97640" y="4614840"/>
            <a:ext cx="3812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7760" y="4614840"/>
            <a:ext cx="3812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39000" y="461484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30760" y="461484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15680" y="22096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_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743200"/>
            <a:ext cx="685800" cy="495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21080" y="48434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54640" y="48434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30600">
            <a:off x="4933800" y="2663640"/>
            <a:ext cx="76320" cy="5181480"/>
          </a:xfrm>
          <a:custGeom>
            <a:avLst/>
            <a:gdLst>
              <a:gd name="textAreaLeft" fmla="*/ 48960 w 76320"/>
              <a:gd name="textAreaRight" fmla="*/ 76320 w 76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04920" y="545292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menti della p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3124080"/>
            <a:ext cx="1908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44960" y="4843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2209680"/>
            <a:ext cx="685800" cy="533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29160" y="2727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6720" y="2252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58960" y="1643040"/>
            <a:ext cx="685800" cy="533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96840" y="1684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22160" y="17193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_c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80880"/>
            <a:ext cx="8001000" cy="398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7d24"/>
                </a:solidFill>
                <a:latin typeface="Arial"/>
              </a:rPr>
              <a:t>implementazione di una  pila su una 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1752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61760" y="1371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p(p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83000" y="12286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3809880"/>
            <a:ext cx="3812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380988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3276720"/>
            <a:ext cx="2286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219320" y="3124080"/>
            <a:ext cx="30456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41148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62120" y="29718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E90-ABC0-42E5-87D7-22CF00A5F1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1752480"/>
            <a:ext cx="75438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’idea chiave di astrazione sui dati è che un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tipo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è caratterizzato dalle 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operazioni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consentite su di es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numero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è qualcosa che si può 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moltiplicare, sommar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stringa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è qualcosa che si può 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concatenare, spezzare in più stringh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88760" y="228600"/>
            <a:ext cx="2616120" cy="398880"/>
          </a:xfrm>
          <a:prstGeom prst="rect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T: le OPER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BE9-10CE-42DC-B777-E848B96CBC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380880"/>
            <a:ext cx="8001000" cy="398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7d24"/>
                </a:solidFill>
                <a:latin typeface="Arial"/>
              </a:rPr>
              <a:t>implementazione di una  pila su un  vet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371600"/>
            <a:ext cx="838080" cy="5335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68480" y="4292640"/>
            <a:ext cx="3812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9720" y="429264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18000" y="4292640"/>
            <a:ext cx="393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11480" y="4292640"/>
            <a:ext cx="3812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75280" y="4324320"/>
            <a:ext cx="3812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56520" y="432432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7400" y="432432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18280" y="4324320"/>
            <a:ext cx="3812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7480" y="4281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7080" y="19810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1981080"/>
            <a:ext cx="68580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27440" y="42642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P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73600" y="522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79160" y="532116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_max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78000" y="47577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9612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83120" y="4302000"/>
            <a:ext cx="3808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70560" y="4324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48200" y="5170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165640" y="4772160"/>
            <a:ext cx="1440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5034600" y="3006000"/>
            <a:ext cx="152640" cy="2100240"/>
          </a:xfrm>
          <a:custGeom>
            <a:avLst/>
            <a:gdLst>
              <a:gd name="textAreaLeft" fmla="*/ 97560 w 152640"/>
              <a:gd name="textAreaRight" fmla="*/ 153000 w 152640"/>
              <a:gd name="textAreaTop" fmla="*/ 54720 h 2100240"/>
              <a:gd name="textAreaBottom" fmla="*/ 2045520 h 21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71720" y="3424320"/>
            <a:ext cx="24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i della p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34600" y="42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720" y="25909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_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44760" y="2514600"/>
            <a:ext cx="63792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44760" y="3048120"/>
            <a:ext cx="637920" cy="459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358128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16765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76040" y="1600200"/>
            <a:ext cx="1489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struct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i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* elPil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int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to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num_ma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3AA-0779-4EC2-8289-44A251465F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3520" y="380880"/>
            <a:ext cx="8001000" cy="3373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17d24"/>
                </a:solidFill>
                <a:latin typeface="Arial"/>
              </a:rPr>
              <a:t>implementazione di una  pila su un  vet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941400"/>
            <a:ext cx="7620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&lt;stdlib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&lt;assert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"pila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struct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i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* elPil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int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top;                 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/* è l'indice dell'elemento in cima alla pila,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num_max ;}; 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/* top dà anche, aumentato di 1, il numero degli elementi nella pila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3124080"/>
            <a:ext cx="7696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ilaP  costrPila(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numMa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alloca la memoria per una nuova pila  con numMaxEl al più elem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rec: numMaxel &g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restituisce un puntatore a una nuova pila, NULL se non c'è memori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PilaP 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ert(numMaxEl &gt;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 = (PilaP) malloc(sizeof(struct pila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ert(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-&gt;num_max = numMax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-&gt;top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 -&gt; elPila = calloc(1,numMaxEl*sizeof(int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ert(p-&gt;elPil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277A-0AC0-47D1-878D-CFB6E606BD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47920" y="1219320"/>
            <a:ext cx="66294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distrPila(PilaP 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prec: p != NU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libera la memoria impegnata dalla pil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assert(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ree(p-&gt;elPil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ree(p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selettor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numElPila(PilaP 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prec: p !=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restituisce il numero di elementi nella pil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assert(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-&gt;top+1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380880"/>
            <a:ext cx="8001000" cy="3373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17d24"/>
                </a:solidFill>
                <a:latin typeface="Arial"/>
              </a:rPr>
              <a:t>implementazione di una  pila su un  vet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F411-55B3-49D0-8542-4064799570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90720" y="1143000"/>
            <a:ext cx="7562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vuota(const PilaP 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da' vero se la PilaP e' vuota, falso altrim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*prec: p!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restituisce un valore != 0 se la pila è vuota, 0 altrimenti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assert(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return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 -&gt; top == -1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iena(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cons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ilaP 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da' vero se la PilaP e' piena, falso altrim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*prec: p!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restituisce un valore != 0 se la pila è piena, 0 altrimenti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assert(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-&gt;num_max == p-&gt;top+1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ush(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el, PilaP 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inserisce el in cima a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rec: (p != NULL &amp;&amp; !piena(p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el è in cima alla pila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assert(!piena(p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 -&gt; top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 -&gt; elPila[p -&gt; top] = el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380880"/>
            <a:ext cx="8001000" cy="3373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17d24"/>
                </a:solidFill>
                <a:latin typeface="Arial"/>
              </a:rPr>
              <a:t>implementazione di una  pila su un  vet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A18-76A0-433E-949F-3833EF2810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25560" y="1447920"/>
            <a:ext cx="65145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p(PilaP 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elimina l'elemento in cima a pP, se non e' vuo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*prec: p!= NULL &amp;&amp; !vuota(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: restituisce, eliminandolo, l'elemento in cima alla pila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assert(!vuota(p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(p-&gt; elPila[p -&gt; top--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top(const PilaP 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legge e restituisce l'elemento in cima allo stack, se non e' vu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*prec: p != NULL &amp;&amp; !vuota(p)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assert(!vuota(p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p -&gt; elPila[p -&gt; top]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457200"/>
            <a:ext cx="8001000" cy="3373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17d24"/>
                </a:solidFill>
                <a:latin typeface="Arial"/>
              </a:rPr>
              <a:t>implementazione di una  pila su un  vet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A7C-3C6A-4CE4-B073-4B2EF9BC85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8001000" cy="3373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d24"/>
                </a:solidFill>
                <a:latin typeface="Arial"/>
              </a:rPr>
              <a:t>Breve test della p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5880" y="654120"/>
            <a:ext cx="74836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&lt;assert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&lt;stdlib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"pila.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#defin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MAX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#defin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STRINGA "controllo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main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* c = STRING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ilaP   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 = costrPila(MAX);                    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costruiamo la pil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(*c != '\0') 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si inserisce la stringa  nella pila, carattere per caratter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(!piena(p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 push(*c, p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ntf("il carattere  da inserire e': %c\n",*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ntf("il carattere inserito e': %c\n", top(p)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els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{ printf("la pila è piena!");break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ntf("il numero di elementi inseriti è %d \n",numElPila(p)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(!vuota(p))  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 si estrae il contenuto dallo stack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{putchar(pop(p)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strPila(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0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7B6-700F-45D8-AA29-21F1827458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352680" y="838080"/>
            <a:ext cx="153540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34640" y="129528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la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3581280"/>
            <a:ext cx="1981080" cy="16002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0f7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65440" y="4038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ilaLista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294920" y="2209680"/>
            <a:ext cx="2133720" cy="13716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3505320"/>
            <a:ext cx="2108160" cy="1600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82000" y="411480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estPila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22096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640" y="25146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505320"/>
            <a:ext cx="1981080" cy="16002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0f7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08680" y="39625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ilavett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76920" y="2209680"/>
            <a:ext cx="2590560" cy="12956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5410080"/>
            <a:ext cx="68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file del codice “utente” della pila non cambia, cambiando l’implementazion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9DE-A8A0-4106-AD0E-15750D296F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806440" y="228600"/>
            <a:ext cx="2934720" cy="398880"/>
          </a:xfrm>
          <a:prstGeom prst="rect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T: vantaggi e svanta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838080"/>
            <a:ext cx="7467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VANTAGG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ogrammare pensando in termini di tipi di dato astratto significa che progettiamo le nostre funzioni in modo tale che possano essere usate ignorando i dettagli implementativi, esattamente come accade per i tipi incorporati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mare pensando in termini di ADT favorisce quindi la progettazione “orientata agli oggetti” e inoltre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apsulare dell’in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scondere dell’in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638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4724280"/>
            <a:ext cx="792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SVANTA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l codice può risultarne appesanti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nel caso della Pila per esempio l’accesso agli elementi passa sempre attraverso un punta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F1C-7F3C-45BB-BA59-B4B8D33ABA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09480" y="533520"/>
            <a:ext cx="79250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el caso della pi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 sono incapsulati tutti gli aspetti implementativi, nascondendoli all’utente dell’A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Incapsulament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è un principio che orienta la progettazione del software verso  l’identificazione e, appunto, l’ incapsulamento di quelle parti del software che sono rilevanti da un certo punto di vis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’incapsulamento facilita il riuso del software, migliora la comprensione, riduce  l’impatto delle modifiche e facilita la manutenzione e l’evolu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information hiding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è un principio che orienta la progettazione del software verso l’identificazione delle informazioni che si intende nascondere all’utente del program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el  nostro esempio si è secretata completamente l’implemen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el progettare la suddivisione in moduli di un programma di grandi dimensioni è cruciale stabilire quali informazioni nascondere agli utenti del modu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0EF-93F5-486C-BBBD-C238A87BCF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114300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ndo si costruisce un ADT ci si concentra su che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cosa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vuole ottenere con le operazioni (la specificazione) e  non su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come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inirle (l’implementazi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dati sono creati e manipolati esclusivamente usando le operazione dell’ADT (astrazio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 tipo può ess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ico: una collezione, un vettore, un alb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cifico: un archivio di impiegati, una rubrica telefo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’importante è non mescolare caratteristiche generali e specifi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 costruzione del tipo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ev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essere  indipendente dalla rappresentazione in memoria dei d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25880" y="228600"/>
            <a:ext cx="718560" cy="398880"/>
          </a:xfrm>
          <a:prstGeom prst="rect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541-4303-4A0B-B5E1-B98BF4D4CF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1981080"/>
            <a:ext cx="792504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 specifica un tipo di dato astratto specificando  le sue operazioni. Queste costituiscono l’interfaccia dell’A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ati sono costruiti, letti, modificati, cancellati 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sol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ttraverso l’interfac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’implementazione è data da un scelta 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 strutture dati (i tipi) per memorizzare le inform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codice per le ope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81200" y="457200"/>
            <a:ext cx="6270480" cy="398880"/>
          </a:xfrm>
          <a:prstGeom prst="rect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T: specificazione e implementazione o rappresen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52B-155E-4CE7-9C11-2EB944A254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 C l’interfaccia è un insieme di prototipi di funz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gni ADT ha un’interfaccia standard, ma può avere diverse implemen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: L’ ADT PILA può essere implementata su un lista concatenata o su un vet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utente accede solo alla specificazione, quindi non conosce e non si preoccupa dell’implementaz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36280" y="457200"/>
            <a:ext cx="3905280" cy="398880"/>
          </a:xfrm>
          <a:prstGeom prst="rect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T: interfaccia e implemen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728-6BA0-4A46-8085-589627D52B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2e21b0"/>
                </a:solidFill>
                <a:latin typeface="Arial"/>
              </a:rPr>
              <a:t>Dai files del programma al codice eseguib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1066680"/>
            <a:ext cx="9144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8d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9360" y="10666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066680"/>
            <a:ext cx="9144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8d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3600" y="10666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1066680"/>
            <a:ext cx="9144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8d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2400" y="10666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2133720"/>
            <a:ext cx="1447920" cy="609480"/>
          </a:xfrm>
          <a:prstGeom prst="flowChartDocument">
            <a:avLst/>
          </a:prstGeom>
          <a:noFill/>
          <a:ln w="38160">
            <a:solidFill>
              <a:srgbClr val="2e2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2133720"/>
            <a:ext cx="1600200" cy="609480"/>
          </a:xfrm>
          <a:prstGeom prst="flowChartDocument">
            <a:avLst/>
          </a:prstGeom>
          <a:noFill/>
          <a:ln w="38160">
            <a:solidFill>
              <a:srgbClr val="2e2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2133720"/>
            <a:ext cx="1371600" cy="609480"/>
          </a:xfrm>
          <a:prstGeom prst="flowChartDocument">
            <a:avLst/>
          </a:prstGeom>
          <a:noFill/>
          <a:ln w="38160">
            <a:solidFill>
              <a:srgbClr val="2e2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3276720"/>
            <a:ext cx="190476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8d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4952880"/>
            <a:ext cx="129564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8d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000" y="2133720"/>
            <a:ext cx="89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di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pListe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21337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toti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.e. protOpListe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2000" y="2133720"/>
            <a:ext cx="10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d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.e. main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7800" y="32767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3276720"/>
            <a:ext cx="190476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8d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2400" y="32767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4191120"/>
            <a:ext cx="1447920" cy="609480"/>
          </a:xfrm>
          <a:prstGeom prst="flowChartDocument">
            <a:avLst/>
          </a:prstGeom>
          <a:noFill/>
          <a:ln w="38160">
            <a:solidFill>
              <a:srgbClr val="2e2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2440" y="4114800"/>
            <a:ext cx="125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gg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.e. opListe.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4191120"/>
            <a:ext cx="1371600" cy="609480"/>
          </a:xfrm>
          <a:prstGeom prst="flowChartDocument">
            <a:avLst/>
          </a:prstGeom>
          <a:noFill/>
          <a:ln w="38160">
            <a:solidFill>
              <a:srgbClr val="2e2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560" y="419112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gg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.e. main.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35360" y="5029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5715000"/>
            <a:ext cx="1447920" cy="609480"/>
          </a:xfrm>
          <a:prstGeom prst="flowChartDocument">
            <a:avLst/>
          </a:prstGeom>
          <a:noFill/>
          <a:ln w="38160">
            <a:solidFill>
              <a:srgbClr val="2e2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1640" y="563868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segu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.e. li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1523880"/>
            <a:ext cx="0" cy="609840"/>
          </a:xfrm>
          <a:prstGeom prst="line">
            <a:avLst/>
          </a:prstGeom>
          <a:ln w="38160">
            <a:solidFill>
              <a:srgbClr val="18d3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523880"/>
            <a:ext cx="0" cy="609840"/>
          </a:xfrm>
          <a:prstGeom prst="line">
            <a:avLst/>
          </a:prstGeom>
          <a:ln w="38160">
            <a:solidFill>
              <a:srgbClr val="18d3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1523880"/>
            <a:ext cx="0" cy="609840"/>
          </a:xfrm>
          <a:prstGeom prst="line">
            <a:avLst/>
          </a:prstGeom>
          <a:ln w="38160">
            <a:solidFill>
              <a:srgbClr val="18d3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2666880"/>
            <a:ext cx="228600" cy="609840"/>
          </a:xfrm>
          <a:prstGeom prst="line">
            <a:avLst/>
          </a:prstGeom>
          <a:ln w="38160">
            <a:solidFill>
              <a:srgbClr val="2e21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0040" y="2743200"/>
            <a:ext cx="1066680" cy="533520"/>
          </a:xfrm>
          <a:prstGeom prst="line">
            <a:avLst/>
          </a:prstGeom>
          <a:ln w="38160">
            <a:solidFill>
              <a:srgbClr val="2e21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2743200"/>
            <a:ext cx="990720" cy="533520"/>
          </a:xfrm>
          <a:prstGeom prst="line">
            <a:avLst/>
          </a:prstGeom>
          <a:ln w="38160">
            <a:solidFill>
              <a:srgbClr val="2e21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38680" y="2743200"/>
            <a:ext cx="533520" cy="533520"/>
          </a:xfrm>
          <a:prstGeom prst="line">
            <a:avLst/>
          </a:prstGeom>
          <a:ln w="38160">
            <a:solidFill>
              <a:srgbClr val="2e21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3733920"/>
            <a:ext cx="0" cy="457200"/>
          </a:xfrm>
          <a:prstGeom prst="line">
            <a:avLst/>
          </a:prstGeom>
          <a:ln w="38160">
            <a:solidFill>
              <a:srgbClr val="18d3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3733920"/>
            <a:ext cx="0" cy="457200"/>
          </a:xfrm>
          <a:prstGeom prst="line">
            <a:avLst/>
          </a:prstGeom>
          <a:ln w="38160">
            <a:solidFill>
              <a:srgbClr val="18d3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4724280"/>
            <a:ext cx="228600" cy="228600"/>
          </a:xfrm>
          <a:prstGeom prst="line">
            <a:avLst/>
          </a:prstGeom>
          <a:ln w="38160">
            <a:solidFill>
              <a:srgbClr val="2e21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572000" y="4800600"/>
            <a:ext cx="457200" cy="152280"/>
          </a:xfrm>
          <a:prstGeom prst="line">
            <a:avLst/>
          </a:prstGeom>
          <a:ln w="38160">
            <a:solidFill>
              <a:srgbClr val="2e21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410080"/>
            <a:ext cx="0" cy="304920"/>
          </a:xfrm>
          <a:prstGeom prst="line">
            <a:avLst/>
          </a:prstGeom>
          <a:ln w="38160">
            <a:solidFill>
              <a:srgbClr val="18d3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1C6-F991-4B5F-9A5B-CBE290EC2C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827360" y="787320"/>
          <a:ext cx="5487840" cy="52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787320"/>
                    <a:ext cx="548784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367-FF46-499D-9421-EC690831BE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3429000" cy="1955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0200" y="6094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una pi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4956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olo l’elemento in cima è accessibil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ltimo ad essere inserito è il primo ad essere estrat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s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339-9032-4A0C-8C23-9A54BBC627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17d24"/>
                </a:solidFill>
                <a:latin typeface="Arial"/>
              </a:rPr>
              <a:t>specificazione della pila: file Pila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typedef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truc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ila* PilaP;  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nome  del tipo degli elementi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ilaP  costrPila(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numMaxE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alloca la memoria e inizializza una nuova pila  con al più numMaxEl elem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rec: numMaxel &g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restituisce un puntatore a una nuova pila, NULL se non c'è memori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void  distrPila(PilaP 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prec: p è una pila creata con costrPi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libera  la memoria impegnata da p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numElPila(PilaP 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/*prec: p è una pila creata con costrPi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tc: restituisce il numero di elementi nella pil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DE5-6CC3-4B17-83A6-2276ACAC83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0:38:11Z</dcterms:created>
  <dc:creator>Emanuela Fachini 2004</dc:creator>
  <dc:description/>
  <dc:language>en-US</dc:language>
  <cp:lastModifiedBy>Emanuela  Fachini</cp:lastModifiedBy>
  <dcterms:modified xsi:type="dcterms:W3CDTF">2006-03-21T17:34:39Z</dcterms:modified>
  <cp:revision>29</cp:revision>
  <dc:subject/>
  <dc:title>Presentazione di PowerPoint</dc:title>
</cp:coreProperties>
</file>