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5CC-A675-48C7-A05E-584A6445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458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4233240"/>
            <a:ext cx="8458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129-94A5-4BD0-92D3-A56C03D7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23324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423324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B46-6AD6-49A2-BF12-83CD54AC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236232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236232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423324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423324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423324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7F1-3AD3-4B1F-92D0-33A6069B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CA2F-AA48-430A-9205-622E4EA2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560" y="2362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D447-A1F8-4FA1-A0D4-A1AFB0BA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3FAA-C1F2-45C1-80D1-8D92D3D4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127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8600" y="2362320"/>
            <a:ext cx="4127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F2AB-29D0-4D6C-B25C-8FB3656D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35AD-B3C3-4330-AD83-81F88D00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49DD-4234-46A8-8835-3B36D080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8600" y="2362320"/>
            <a:ext cx="4127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560" y="423324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18BB-502C-4E0B-873B-B83576A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2362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DB3-094E-4ACA-8BFE-4AD4114F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127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860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8600" y="423324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06E0-FE5C-49CD-8E06-E89DDBE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860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560" y="4233240"/>
            <a:ext cx="8458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F0AA-0ADA-4624-AE50-6C3E67EF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458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560" y="4233240"/>
            <a:ext cx="8458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2E8B-C188-419A-9BBE-9F689DA3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423324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8600" y="423324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A27C-A364-494D-8A0C-955A8768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4400" y="236232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4600" y="236232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560" y="423324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4400" y="423324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4600" y="4233240"/>
            <a:ext cx="272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E079-F822-48D1-8A4F-A08CFA60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02A-35F9-44E5-ADFA-6E73758A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127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2362320"/>
            <a:ext cx="4127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512-E441-438E-9ADE-562979AD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708-3DE5-4083-9B83-977787D7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F8D-BB4C-421B-AA59-96379825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2362320"/>
            <a:ext cx="4127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423324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BC4-64C6-4388-9169-A11929A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127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423324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DBD-1692-4B77-B03F-F0A05D6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2362320"/>
            <a:ext cx="4127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4233240"/>
            <a:ext cx="8458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AC7-BF0A-498D-AD6B-D53F5B97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2362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17220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04AB-408D-4E17-A7F6-3D2EC1C7D0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76FE-DD45-4211-81FB-CE637532F2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76720" y="990720"/>
            <a:ext cx="2509560" cy="3227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4400" y="609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 una c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" y="4876920"/>
            <a:ext cx="793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li inserimenti si fanno alla fine e  le cancellazioni all’iniz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rst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rst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4E0-B5E7-43F8-A366-599554BD9F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481200" y="1774800"/>
            <a:ext cx="392400" cy="551160"/>
            <a:chOff x="3481200" y="1774800"/>
            <a:chExt cx="392400" cy="551160"/>
          </a:xfrm>
        </p:grpSpPr>
        <p:sp>
          <p:nvSpPr>
            <p:cNvPr id="315" name=""/>
            <p:cNvSpPr/>
            <p:nvPr/>
          </p:nvSpPr>
          <p:spPr>
            <a:xfrm>
              <a:off x="3481200" y="19270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556080" y="177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187800" y="1724040"/>
            <a:ext cx="533160" cy="1102320"/>
            <a:chOff x="3187800" y="1724040"/>
            <a:chExt cx="533160" cy="1102320"/>
          </a:xfrm>
        </p:grpSpPr>
        <p:sp>
          <p:nvSpPr>
            <p:cNvPr id="318" name=""/>
            <p:cNvSpPr/>
            <p:nvPr/>
          </p:nvSpPr>
          <p:spPr>
            <a:xfrm>
              <a:off x="3187800" y="2427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220920" y="17240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066680" y="1219320"/>
            <a:ext cx="4191120" cy="687960"/>
            <a:chOff x="1066680" y="1219320"/>
            <a:chExt cx="4191120" cy="687960"/>
          </a:xfrm>
        </p:grpSpPr>
        <p:sp>
          <p:nvSpPr>
            <p:cNvPr id="321" name=""/>
            <p:cNvSpPr/>
            <p:nvPr/>
          </p:nvSpPr>
          <p:spPr>
            <a:xfrm>
              <a:off x="1066680" y="121932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23880" y="12193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7400" y="12193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12193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90920" y="121932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600" y="12193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91120" y="121932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24280" y="12193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6520" y="160020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33720" y="1600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43200" y="1600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76720" y="1600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6920" y="1600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09880" y="1600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67080" y="1600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43000" y="1600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44440" y="1219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00200" y="1219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3720" y="1219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66880" y="12193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1219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219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67080" y="12193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01680" y="12193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19680" y="2076480"/>
            <a:ext cx="225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DA VU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imes New Roman"/>
              </a:rPr>
              <a:t>Vuot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15000" y="11430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troduciamo una variabile booleana, </a:t>
            </a:r>
            <a:r>
              <a:rPr b="1" lang="it-IT" sz="1800" spc="-1" strike="noStrike">
                <a:solidFill>
                  <a:srgbClr val="ff0066"/>
                </a:solidFill>
                <a:latin typeface="Times New Roman"/>
              </a:rPr>
              <a:t>Vuota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, inizialmente posta a TRUE e  che ad ogni inserimento diventa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759040" y="4340160"/>
            <a:ext cx="533520" cy="1161000"/>
            <a:chOff x="2759040" y="4340160"/>
            <a:chExt cx="533520" cy="1161000"/>
          </a:xfrm>
        </p:grpSpPr>
        <p:sp>
          <p:nvSpPr>
            <p:cNvPr id="348" name=""/>
            <p:cNvSpPr/>
            <p:nvPr/>
          </p:nvSpPr>
          <p:spPr>
            <a:xfrm>
              <a:off x="2836800" y="46450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59040" y="51022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911320" y="4492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835360" y="43401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143000" y="3733920"/>
            <a:ext cx="4191120" cy="687960"/>
            <a:chOff x="1143000" y="3733920"/>
            <a:chExt cx="4191120" cy="687960"/>
          </a:xfrm>
        </p:grpSpPr>
        <p:sp>
          <p:nvSpPr>
            <p:cNvPr id="353" name=""/>
            <p:cNvSpPr/>
            <p:nvPr/>
          </p:nvSpPr>
          <p:spPr>
            <a:xfrm>
              <a:off x="1143000" y="373392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00200" y="37339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3720" y="373392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0400" y="37339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66880" y="37339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33920" y="373392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67080" y="37339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00600" y="37339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52480" y="411480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4114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4114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52680" y="4114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52880" y="4114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86200" y="4114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43400" y="4114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19320" y="4114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20760" y="37339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6520" y="3733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09680" y="37339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43200" y="3733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76720" y="3733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33920" y="3733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3400" y="3733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78000" y="3733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09960" y="4951440"/>
            <a:ext cx="22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DA P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imes New Roman"/>
              </a:rPr>
              <a:t>Vuot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365760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d ogni estrazione, che può avvenire solo se Vuota è FALSE, si controlla se l’incremento di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porterà allo stesso valore di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fin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e in tal caso Vuota diventa di nuovo TR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80880"/>
            <a:ext cx="7772400" cy="381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 vettore, versio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7A3-6AC5-46C9-830B-AFFEA8DF7A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720720" y="3828960"/>
            <a:ext cx="710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crificando una entrata del vettore si evita di dover introdurre una nuova varia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i elementi della coda sono quelli nel vettore C compresi tra C[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+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e C[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inclusi 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invariante dell’implementazio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380880"/>
            <a:ext cx="7772400" cy="381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 vettore, versio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62560" y="1909800"/>
            <a:ext cx="35290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Nel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sione precedente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 gli elementi della coda erano quelli compresi 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e 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in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inclu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0400" y="13273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47600" y="132732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1120" y="132732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47800" y="132732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114640" y="132732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81320" y="132732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14840" y="132732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48000" y="132732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00240" y="17082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57440" y="1708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66920" y="1708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00440" y="1708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00640" y="1708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33600" y="1708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90800" y="1708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6720" y="1708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55640" y="1912680"/>
            <a:ext cx="392400" cy="551520"/>
            <a:chOff x="755640" y="1912680"/>
            <a:chExt cx="392400" cy="551520"/>
          </a:xfrm>
        </p:grpSpPr>
        <p:sp>
          <p:nvSpPr>
            <p:cNvPr id="400" name=""/>
            <p:cNvSpPr/>
            <p:nvPr/>
          </p:nvSpPr>
          <p:spPr>
            <a:xfrm>
              <a:off x="755640" y="20653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830520" y="19126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66720" y="132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92600" y="134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347840" y="1908000"/>
            <a:ext cx="533160" cy="1116360"/>
            <a:chOff x="1347840" y="1908000"/>
            <a:chExt cx="533160" cy="1116360"/>
          </a:xfrm>
        </p:grpSpPr>
        <p:sp>
          <p:nvSpPr>
            <p:cNvPr id="405" name=""/>
            <p:cNvSpPr/>
            <p:nvPr/>
          </p:nvSpPr>
          <p:spPr>
            <a:xfrm>
              <a:off x="1347840" y="2625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380960" y="190800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33240" y="1901520"/>
            <a:ext cx="533160" cy="1116360"/>
            <a:chOff x="633240" y="1901520"/>
            <a:chExt cx="533160" cy="1116360"/>
          </a:xfrm>
        </p:grpSpPr>
        <p:sp>
          <p:nvSpPr>
            <p:cNvPr id="408" name=""/>
            <p:cNvSpPr/>
            <p:nvPr/>
          </p:nvSpPr>
          <p:spPr>
            <a:xfrm>
              <a:off x="633240" y="26190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66360" y="1901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789120" y="5432400"/>
            <a:ext cx="76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a l’inserimento avviene incrementand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modulo la dimensione del vettore, e poi copiando in C[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il valore volu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2EB-B847-4BBA-A0EE-518D01E037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86200" y="1600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16002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16002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943600" y="16002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10080" y="16002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7120" y="16002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10280" y="16002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16002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198108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5288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588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9608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2940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8660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72200" y="266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029200" y="2209680"/>
            <a:ext cx="393840" cy="551520"/>
            <a:chOff x="5029200" y="2209680"/>
            <a:chExt cx="393840" cy="551520"/>
          </a:xfrm>
        </p:grpSpPr>
        <p:sp>
          <p:nvSpPr>
            <p:cNvPr id="429" name=""/>
            <p:cNvSpPr/>
            <p:nvPr/>
          </p:nvSpPr>
          <p:spPr>
            <a:xfrm>
              <a:off x="5030640" y="23623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502920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V="1">
            <a:off x="6095880" y="2057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8856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504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21720" y="16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2188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1280" y="2789280"/>
            <a:ext cx="317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estrazione avviene salvando l’elemento C[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in+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] e poi incrementando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modulo la dimensione del ve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840" y="167652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estrazione di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380880"/>
            <a:ext cx="7772400" cy="381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 vettore, versio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5416560"/>
            <a:ext cx="7829640" cy="703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i elementi della coda sono quelli nel vettore C compresi tra C[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+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e C[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inclusi 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invariante dell’implementazio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586480" y="2190600"/>
            <a:ext cx="393840" cy="551520"/>
            <a:chOff x="5586480" y="2190600"/>
            <a:chExt cx="393840" cy="551520"/>
          </a:xfrm>
        </p:grpSpPr>
        <p:sp>
          <p:nvSpPr>
            <p:cNvPr id="441" name=""/>
            <p:cNvSpPr/>
            <p:nvPr/>
          </p:nvSpPr>
          <p:spPr>
            <a:xfrm>
              <a:off x="5587920" y="234324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86480" y="219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C15-AC7C-4CE6-A7B9-F79D966D4E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962520" y="990720"/>
            <a:ext cx="4190760" cy="1600200"/>
            <a:chOff x="3962520" y="990720"/>
            <a:chExt cx="4190760" cy="1600200"/>
          </a:xfrm>
        </p:grpSpPr>
        <p:sp>
          <p:nvSpPr>
            <p:cNvPr id="444" name=""/>
            <p:cNvSpPr/>
            <p:nvPr/>
          </p:nvSpPr>
          <p:spPr>
            <a:xfrm>
              <a:off x="3962520" y="99072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99072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952880" y="9907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19920" y="99072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86400" y="9907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3080" y="9907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86600" y="9907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0120" y="99072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2000" y="137160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29200" y="1371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38680" y="1371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72200" y="1371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72400" y="1371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05720" y="1371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162920" y="1371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38480" y="1371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68720" y="1905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480" y="19810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6172200" y="1523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5638680" y="1523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95680" y="9907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29200" y="9907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62720" y="9907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95880" y="9907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53080" y="9907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62920" y="9907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7160" y="9907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555960" y="2286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DA PIENA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80000" y="502920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DA VUOTA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914400"/>
            <a:ext cx="314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ntinuando a inseri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i avra’ che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fin+1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(modulo la dimensione del vettore) è uguale a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in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. Ma allora la coda è pien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886200"/>
            <a:ext cx="314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ntinuando a estrar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i avra’ che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(modulo la dimensione del vettore) è uguale a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fin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. Ma allora la coda è vuot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038480" y="3962520"/>
            <a:ext cx="4190760" cy="1618200"/>
            <a:chOff x="4038480" y="3962520"/>
            <a:chExt cx="4190760" cy="1618200"/>
          </a:xfrm>
        </p:grpSpPr>
        <p:grpSp>
          <p:nvGrpSpPr>
            <p:cNvPr id="476" name=""/>
            <p:cNvGrpSpPr/>
            <p:nvPr/>
          </p:nvGrpSpPr>
          <p:grpSpPr>
            <a:xfrm>
              <a:off x="4038480" y="3962520"/>
              <a:ext cx="4190760" cy="1618200"/>
              <a:chOff x="4038480" y="3962520"/>
              <a:chExt cx="4190760" cy="1618200"/>
            </a:xfrm>
          </p:grpSpPr>
          <p:sp>
            <p:nvSpPr>
              <p:cNvPr id="477" name=""/>
              <p:cNvSpPr/>
              <p:nvPr/>
            </p:nvSpPr>
            <p:spPr>
              <a:xfrm>
                <a:off x="5868720" y="472464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90960" y="518184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f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943240" y="45723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790960" y="441972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8480" y="3962520"/>
                <a:ext cx="4572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95680" y="3962520"/>
                <a:ext cx="53316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28840" y="3962520"/>
                <a:ext cx="53352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095880" y="3962520"/>
                <a:ext cx="53316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562360" y="3962520"/>
                <a:ext cx="53352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629040" y="3962520"/>
                <a:ext cx="53352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162560" y="3962520"/>
                <a:ext cx="53352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696080" y="3962520"/>
                <a:ext cx="53316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71640" y="39625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105160" y="39625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38680" y="39625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71840" y="39625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629040" y="39625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238880" y="39625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773120" y="396252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4724280" y="441972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8148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9096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2448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2468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5764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1484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19076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33520" y="380880"/>
            <a:ext cx="7772400" cy="381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 vettore, versio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FBA-B2E1-4224-8262-DE5B2194B5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85800" y="838080"/>
            <a:ext cx="8229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Nome file : codaVett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Implementazione della coda su vettore. Invariante di implementaz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gli elementi della coda  sono compresi tra c-&gt;inizio+1 e c-&gt;fine  se c è una variabile di tipo  struct coda, con 0  ≤ c-&gt;inizio,c-&gt;fine ≤ numMax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&lt;assert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"Coda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struc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cod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iniz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numMa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* elCod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 vettore, versione 2. Il cod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81F-22E1-4160-ABE0-1961A11D19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33520" y="932040"/>
            <a:ext cx="82724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CodaP  costrCoda(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 in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numMax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alloca la memoria per una nuova coda che può contenere fino a max_num ele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rec: numMaxEl 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un puntatore alla nuova coda, NULL se non c'è memoria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CodaP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ssert(numMaxEl &gt;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q = (CodaP) calloc(1,sizeof(struct coda));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inizio=fine = numMax=0 el Coda = NULL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ssert(!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q -&gt;numMax = numMaxE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q-&gt;elCoda = calloc(numMaxEl,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ssert(!(q-&gt;elCoda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q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distrCoda(CodaP 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prec:  q !=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libera la memoria impegnata dalla pila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assert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free(q -&gt; elCod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free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 vettore, versione 2. Il cod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B4F-D882-4047-9C32-EE6858DE34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78600" y="690480"/>
            <a:ext cx="67932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azzera(CodaP 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azzera una coda consentendo di riutilizzarla senza riallocare la memoria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senza modificare q -&gt; numMa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rec: q !=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la coda svuotata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assert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q -&gt; inizi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q -&gt; fine =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vuota(const CodaP 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da' vero se la coda e' vuota, falso altri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*prec:q != NU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unvalore !=0 se q è vuota, 0 altrimenti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 assert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q-&gt;inizio == q-&gt;fine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nt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iena(const CodaP 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da' vero se la coda e' piena, falso altri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*prec: q !=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unvalore !=0 se q è piena, 0 altrimenti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assert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q-&gt;inizio == (q-&gt;fine + 1) % q-&gt;numMax);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 vettore, versione 2. Il cod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59A-5111-4476-B7FF-428DA51E23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770040" y="700200"/>
            <a:ext cx="68450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nt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mo( CodaP 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legge e restituisce il primo elemento in coda, se non e' vu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*prec: q è una coda valida &amp;&amp; !vuota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il primo elemento in coda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assert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q-&gt;elCoda[(q-&gt;inizio + 1) % q-&gt;numMax]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void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accoda(int el, CodaP 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accoda el nella co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rec: (q != NULL &amp;&amp; !piena(q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el è accodato in q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assert(!piena(q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q-&gt;fine = (q-&gt;fine + 1) % q-&gt;numMa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q-&gt;elCoda[q-&gt;fine ] = e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nt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estrae(CodaP 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restituisce ed elimina il primo elemento inserito nella coda, se non e' vuo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*prec: q != NULL &amp;&amp;  !vuota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il  primo elemento, eliminandolo dalla coda 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assert(!vuota(q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q-&gt;inizio = (q-&gt;inizio + 1) % q-&gt;numMa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q-&gt;elCoda[q-&gt;inizio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 vettore, versione 2. Il cod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054-A84A-433F-BA32-BC86DC5000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263600" y="4970520"/>
            <a:ext cx="1219320" cy="4572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02120" y="4981680"/>
            <a:ext cx="1218960" cy="4572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50000" y="4970520"/>
            <a:ext cx="1219320" cy="4572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21200" y="4970520"/>
            <a:ext cx="1219320" cy="4572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07240" y="4968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0640" y="2063880"/>
            <a:ext cx="13208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278000" y="4452840"/>
            <a:ext cx="1440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333520" y="5238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146480" y="5197320"/>
            <a:ext cx="7747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0600" y="4989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81080" y="497988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84680" y="499428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573880" y="497664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38960" y="497664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964120" y="5195880"/>
            <a:ext cx="7747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endCxn id="529" idx="0"/>
          </p:cNvCxnSpPr>
          <p:nvPr/>
        </p:nvCxnSpPr>
        <p:spPr>
          <a:xfrm flipH="1">
            <a:off x="1304280" y="2890440"/>
            <a:ext cx="486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0" name=""/>
          <p:cNvSpPr/>
          <p:nvPr/>
        </p:nvSpPr>
        <p:spPr>
          <a:xfrm flipH="1">
            <a:off x="1288800" y="2892600"/>
            <a:ext cx="14040" cy="15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67360" y="4956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96440" y="4986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05400" y="145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426280" y="9111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 tipo Co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63600" y="4970520"/>
            <a:ext cx="1219320" cy="4572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02120" y="4981680"/>
            <a:ext cx="1218960" cy="4572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50000" y="4970520"/>
            <a:ext cx="1219320" cy="4572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21200" y="4970520"/>
            <a:ext cx="1219320" cy="4572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07240" y="4968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6000" y="2070000"/>
            <a:ext cx="13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u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278000" y="4379760"/>
            <a:ext cx="1440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92440" y="2550960"/>
            <a:ext cx="13302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33520" y="5238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46480" y="5197320"/>
            <a:ext cx="7747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80600" y="4989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790640" y="3086280"/>
            <a:ext cx="13208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497988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784680" y="499428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73880" y="497664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338960" y="497664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964120" y="5195880"/>
            <a:ext cx="7747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288800" y="2892600"/>
            <a:ext cx="14040" cy="15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"/>
          <p:cNvCxnSpPr/>
          <p:nvPr/>
        </p:nvCxnSpPr>
        <p:spPr>
          <a:xfrm>
            <a:off x="2617920" y="3904920"/>
            <a:ext cx="4696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4" name=""/>
          <p:cNvCxnSpPr>
            <a:endCxn id="550" idx="0"/>
          </p:cNvCxnSpPr>
          <p:nvPr/>
        </p:nvCxnSpPr>
        <p:spPr>
          <a:xfrm>
            <a:off x="7299360" y="3917520"/>
            <a:ext cx="40320" cy="10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"/>
          <p:cNvSpPr/>
          <p:nvPr/>
        </p:nvSpPr>
        <p:spPr>
          <a:xfrm>
            <a:off x="1467360" y="4956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96440" y="4986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45600" y="888840"/>
            <a:ext cx="34992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87400" y="1521000"/>
            <a:ext cx="13384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299880"/>
            <a:ext cx="7772400" cy="381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a li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131640" y="1270080"/>
            <a:ext cx="167508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78240" y="3214800"/>
            <a:ext cx="73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4600" y="1576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um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044800" y="158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89160" y="204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99400" y="254304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36400" y="3062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625840" y="36226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5D0-5568-4348-B4C8-AB6A30A773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56988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CODA: implementazione su una lista. Il co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3280" y="649440"/>
            <a:ext cx="750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Nome file: codaLista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coda implementata con una lista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&lt;assert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"Coda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struc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elem {                   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un elemento della coda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da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struc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elem   *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typedef   struc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elem*   El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struc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cod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t    num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t    numMax;                  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un contatore per gli elementi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lem   inizio;               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un puntatore al primo elemento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lem   fine;                /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* un puntatore all'ultimo elemento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843-89E4-45E5-B8A8-42EFE59390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53352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 requis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3240" y="1541520"/>
            <a:ext cx="7072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Una coda (queue) è un ADT in cui le operazioni sono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nseriment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cancellazion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ma con il vincolo che gli </a:t>
            </a: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inserimenti possono avvenire solo alla “fin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” (rear) e le </a:t>
            </a: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cancellazioni possono avvenire solo all’ ”inizio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” (front) della co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Quindi necessariamento il </a:t>
            </a:r>
            <a:r>
              <a:rPr b="1" lang="it-IT" sz="1600" spc="-1" strike="noStrike">
                <a:solidFill>
                  <a:srgbClr val="085518"/>
                </a:solidFill>
                <a:latin typeface="Times New Roman"/>
              </a:rPr>
              <a:t>primo estratto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è il </a:t>
            </a:r>
            <a:r>
              <a:rPr b="1" lang="it-IT" sz="1600" spc="-1" strike="noStrike">
                <a:solidFill>
                  <a:srgbClr val="085518"/>
                </a:solidFill>
                <a:latin typeface="Times New Roman"/>
              </a:rPr>
              <a:t>primo inserito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Non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i può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estrarr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dequeue) un elemento da una coda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vuot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nè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si può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inserir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enqueue) un elemento in una pila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ien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La disciplina di accesso FIFO (</a:t>
            </a: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F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irst </a:t>
            </a: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F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irst </a:t>
            </a:r>
            <a:r>
              <a:rPr b="1" lang="it-IT" sz="16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ut ) e’ particolarmente adatta a rappresentare sequenze nelle quali l’elemento viene elaborato secondo l’ordine di arrivo (lista d’attesa, insieme di dispositivi in attesa di assegnazione di risorse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E56-41AE-456D-85F9-8796E34EBF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84120" y="1601640"/>
            <a:ext cx="855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daP  costrCoda(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numMax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alloca la memoria per una nuova coda che può contenere fino a max_num elem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rec: numMaxEl 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ostc: restituisce un puntatore alla nuova coda, NULL se non c'è memoria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CodaP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sert(numMaxEl &gt;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 = (CodaP) calloc(1,sizeof(struct coda));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inizio=fine = NULL, numMax=numEl=0 *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sert(!q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 -&gt;numMax = numMax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q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988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CODA: implementazione su una lista. Il co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34C-6B11-47E6-BA0B-CA0B0D55C6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736560" y="1038240"/>
            <a:ext cx="748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oid azzera(CodaP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azzera una coda consentendo di riutilizzarla senza riallocare la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senza modificare q -&gt; numM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rec: q !=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ostc: restituisce la coda svuotata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 Elem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sert(q !=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 -&gt; numEl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(q-&gt;iniz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temp = q-&gt;iniz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 -&gt; inizio = q-&gt; inizio-&gt; 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ree(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 -&gt; fine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6988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CODA: implementazione su una lista. Il co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3CC-CAAC-49FB-AF25-94FA7EAD78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434960" y="1514520"/>
            <a:ext cx="485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distrCoda(CodaP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prec:  q !=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ostc: libera la memoria impegnata dalla pila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 Elem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sert(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(q-&gt;iniz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temp = q-&gt;iniz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 -&gt; inizio = q-&gt; inizio-&gt; 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ree(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ree(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6988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CODA: implementazione su una lista. Il co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17C-FA35-49D5-A20E-E676591904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069200" y="865080"/>
            <a:ext cx="6223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vuota( CodaP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da' vero se la coda e' vuota, falso altri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*prec:q != NU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ostc: restituisce unvalore !=0 se q è vuota, 0 altrimenti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assert(q !=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( (q -&gt; numEl == 0)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piena( CodaP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da' vero se la coda e' piena, falso altri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*prec: q !=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ostc: restituisce unvalore !=0 se q è piena, 0 altrimenti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assert(q !=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return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q -&gt; numEl == q -&gt; numMax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primo( CodaP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legge e restituisce il primo elemento in coda, se non e' vu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*prec: q è una coda valida &amp;&amp; !vuota(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ostc: restituisce il primo elemento in coda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assert(!vuota(q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(q -&gt; inizio -&gt; dato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988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CODA: implementazione su una lista. Il co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5E2-E3AF-4D44-811A-8A419248C7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18560" y="1413000"/>
            <a:ext cx="7712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estrae(CodaP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restituisce ed elimina il primo elemento inserito nella coda, se non e' vuo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*prec: q != NULL &amp;&amp;  !vuota(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ostc: restituisce il  primo elemento, eliminandolo dalla coda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lem  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sert(!vuota(q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 = q -&gt; inizio -&gt; da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 = q -&gt; iniz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 -&gt; inizio = q -&gt; inizio -&gt; 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 -&gt; numEl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ree(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d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988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CODA: implementazione su una lista. Il co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105-0BE5-49B3-9F17-8188A8AA71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322280" y="1557360"/>
            <a:ext cx="7228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accoda(int el, CodaP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accoda el nella co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rec: (q!= NULL  &amp;&amp; !piena(q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ostc: el è accodato in q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 Elem   ne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sert(!piena(q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ew = (Elem) calloc(1,sizeof(struct elem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sert(!new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ew -&gt; dato = 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(!vuota(q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q -&gt; fine -&gt; next =ne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 -&gt; fine = new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 -&gt; fine = q -&gt; inizio = ne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 -&gt; numEl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988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CODA: implementazione su una lista. Il co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D33-2149-4285-A4A5-1F3ADC43C4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97000" y="741240"/>
            <a:ext cx="84913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Nome del file: scheduler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Si usano due code per gestire nell’ordine di arrivo le richieste di risorse per un sistema a   due processori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&lt;assert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"Coda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#defin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MAX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max = MA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c, cnt_a = 0, cnt_b = 0;         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serviranno per numerare le richieste accodate*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unsigned i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pid;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/* e' il numero identificativo del processo che 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richiede la risorsa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daP   a,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 = costrCoda(ma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b = costrCoda(ma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6988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CODA: esempio di uso. Il co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08C-E677-4C82-8E03-50CDA144D3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25360" y="584280"/>
            <a:ext cx="89186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Fase di accodamento delle richiest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ntf("\n scrivi A o B a seconda che sia una richiesta per il processore A o B,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C per terminare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(c = getchar()) != 'C'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switch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'A'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ntf("\n scrivi un numero che rappresenta una richiesta per il processore A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ssert(scanf("%u", &amp;pid) == 1);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inserisci i numeri  identificativi delle richiest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!piena(a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ccoda(pid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ntf("\n scrivi A o B a seconda che sia una richiesta per il processore A o B,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C per terminare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'B'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ntf("\n scrivi un numero che rappresenta una richiesta per il processore A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C per terminare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ssert(scanf("%u", &amp;pid) == 1);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inserisci i numeri  identificativi delle richiest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!piena(b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ccoda(pid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ntf("\n scrivi A o B a seconda che sia una richiesta per ilprocessore A o B,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C per terminare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break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988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CODA: esempio di uso. Il co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A51-4799-4DA4-9A02-74BA21022D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533960" y="1074600"/>
            <a:ext cx="48884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 Preleva dalla coda e stampa le richiest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ntf(" il primo della coda a è %u\n",primo(a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ntf(" il primo della coda b è %u\n",primo(b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ntf("%s","\nElenco richieste processore A: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!vuota(a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 pid = estrae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ntf("La richesta %u è %d\n", ++cnt_a, p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utchar('\n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ntf("%s","\nElenco richieste processore B: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!vuota(b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{ pid = estrae(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intf("La richiesta %u è %d\n", ++cnt_b, p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utchar('\n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distrCoda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distrCoda(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6988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CODA: esempio di uso. Il co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9BE-FF0D-401E-80A1-CD2668B9BA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786120" y="1374840"/>
            <a:ext cx="153504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080240" y="18684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da.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123920" y="2720880"/>
            <a:ext cx="2711160" cy="2874960"/>
            <a:chOff x="1123920" y="2720880"/>
            <a:chExt cx="2711160" cy="2874960"/>
          </a:xfrm>
        </p:grpSpPr>
        <p:grpSp>
          <p:nvGrpSpPr>
            <p:cNvPr id="591" name=""/>
            <p:cNvGrpSpPr/>
            <p:nvPr/>
          </p:nvGrpSpPr>
          <p:grpSpPr>
            <a:xfrm>
              <a:off x="1123920" y="3995640"/>
              <a:ext cx="1981080" cy="1600200"/>
              <a:chOff x="1123920" y="3995640"/>
              <a:chExt cx="1981080" cy="1600200"/>
            </a:xfrm>
          </p:grpSpPr>
          <p:sp>
            <p:nvSpPr>
              <p:cNvPr id="592" name=""/>
              <p:cNvSpPr/>
              <p:nvPr/>
            </p:nvSpPr>
            <p:spPr>
              <a:xfrm>
                <a:off x="1123920" y="3995640"/>
                <a:ext cx="1981080" cy="1600200"/>
              </a:xfrm>
              <a:prstGeom prst="rect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88520" y="4557600"/>
                <a:ext cx="129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Times New Roman"/>
                  </a:rPr>
                  <a:t>codaLista.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flipH="1">
              <a:off x="1987200" y="2720880"/>
              <a:ext cx="1847880" cy="1276560"/>
            </a:xfrm>
            <a:prstGeom prst="line">
              <a:avLst/>
            </a:prstGeom>
            <a:ln w="28440">
              <a:solidFill>
                <a:srgbClr val="3e26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3532320" y="3997440"/>
            <a:ext cx="210816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0080" y="451944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chedule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510080" y="2760840"/>
            <a:ext cx="7920" cy="12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31320" y="27860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#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5345280" y="2759040"/>
            <a:ext cx="2847960" cy="2816280"/>
            <a:chOff x="5345280" y="2759040"/>
            <a:chExt cx="2847960" cy="2816280"/>
          </a:xfrm>
        </p:grpSpPr>
        <p:sp>
          <p:nvSpPr>
            <p:cNvPr id="600" name=""/>
            <p:cNvSpPr/>
            <p:nvPr/>
          </p:nvSpPr>
          <p:spPr>
            <a:xfrm>
              <a:off x="6211800" y="3975120"/>
              <a:ext cx="1981440" cy="160020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76400" y="453708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codaVett.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45280" y="2759040"/>
              <a:ext cx="1888920" cy="1204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569880" y="228600"/>
            <a:ext cx="7772400" cy="582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CODA: esempio di uso. Una delle due implementazioni può essere utilizzata</a:t>
            </a:r>
            <a:br>
              <a:rPr sz="1800"/>
            </a:br>
            <a:r>
              <a:rPr b="1" lang="it-IT" sz="1800" spc="-1" strike="noStrike">
                <a:solidFill>
                  <a:srgbClr val="117d24"/>
                </a:solidFill>
                <a:latin typeface="Times New Roman"/>
              </a:rPr>
              <a:t>senza alcuna modific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187-90E9-453A-BF2C-EE280856FC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990720"/>
            <a:ext cx="7412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La specificazione della coda*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typedef struc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coda * Coda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CodaP  costrCoda(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max_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alloca la memoria per una nuova coda che può contenere fino a max_num ele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rec: max_num 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un puntatore alla nuova coda, NULL se non c'è memoria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distrCoda(CodaP 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prec:  q  è una coda costruita con costrC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libera la memoria impegnata dalla coda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void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azzera(CodaP 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azzera una coda consentendo di riutilizzarla senza riallocare la mem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senza modificare q -&gt; numMa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rec: q  è una coda costruita con costrC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la coda svuotata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80880"/>
            <a:ext cx="7772400" cy="381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la specif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099-C030-4224-A456-F02D19461D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1523880"/>
            <a:ext cx="64641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nt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vuota(const CodaP 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da' vero se la coda e' vuota, falso altri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*prec: q  è una coda costruita con costrC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un valore !=0 se q è vuota, 0 altrimenti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piena(const CodaP 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da' vero se la coda e' piena, falso altri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*prec: q  è una coda costruita con costrC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un valore !=0 se q è piena, 0 altrimenti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primo(const CodaP 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legge e restituisce il primo elemento in coda, se non e' vu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*prec: q  è una coda costruita con costrCoda &amp;&amp; !vuota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il primo elemento in coda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80880"/>
            <a:ext cx="7772400" cy="381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la specif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D8B-8EAD-4578-A052-E2802F7BEA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1752480"/>
            <a:ext cx="7848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void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ccoda(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el, CodaP 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accoda el nella co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rec: q  è una coda costruita con costrCoda &amp;&amp; !piena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el è accodato in q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int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estrae(CodaP 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/* restituisce ed elimina il primo elemento inserito nella coda, se non e' vuo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*prec: q  è una coda costruita con costrCoda &amp;&amp;  !vuota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imes New Roman"/>
              </a:rPr>
              <a:t>postc: restituisce il  primo elemento, eliminandolo dalla coda 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0880"/>
            <a:ext cx="7772400" cy="381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la specif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2F3-B971-463B-869A-9E894A335F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81200" y="375912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i elementi della coda sono quelli nel vettore C compresi tra C[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e C[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inclusi. (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invariante dell’implementazi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676520" y="1504800"/>
            <a:ext cx="5436720" cy="1710360"/>
            <a:chOff x="1676520" y="1504800"/>
            <a:chExt cx="5436720" cy="1710360"/>
          </a:xfrm>
        </p:grpSpPr>
        <p:sp>
          <p:nvSpPr>
            <p:cNvPr id="94" name=""/>
            <p:cNvSpPr/>
            <p:nvPr/>
          </p:nvSpPr>
          <p:spPr>
            <a:xfrm>
              <a:off x="2529000" y="152100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86200" y="152100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19360" y="152100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86400" y="152100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52880" y="152100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9560" y="152100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53080" y="152100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86600" y="152100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38480" y="190188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95680" y="19018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05160" y="19018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38680" y="19018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8880" y="19018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72200" y="19018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9018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04960" y="19018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50840" y="22147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29000" y="28162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840040" y="2033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576520" y="20397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85120" y="244944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ODA VUOT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150480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33520" y="53352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 vettore, versio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400" y="5154480"/>
            <a:ext cx="3555000" cy="825480"/>
          </a:xfrm>
          <a:prstGeom prst="rect">
            <a:avLst/>
          </a:prstGeom>
          <a:noFill/>
          <a:ln w="28440">
            <a:solidFill>
              <a:srgbClr val="3e2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inserisce  in C[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si increment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 u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51320" y="5138640"/>
            <a:ext cx="4533840" cy="82548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 estrae C[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] e  si incrementa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i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94A-6FD0-4A15-A5C7-8CF92491DF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38440" y="1467000"/>
            <a:ext cx="4952880" cy="32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71600" y="2076480"/>
            <a:ext cx="3886200" cy="2057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10240" y="146700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5840" y="413388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86000" y="413388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14600" y="146700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24440" y="146700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29200" y="146700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19720" y="146700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72000" y="413388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8840" y="413388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9000" y="413388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05120" y="146700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43000" y="1542960"/>
            <a:ext cx="30492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29200" y="413388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440" y="2838600"/>
            <a:ext cx="533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38440" y="2381400"/>
            <a:ext cx="533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8440" y="3295800"/>
            <a:ext cx="533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57800" y="337176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57800" y="291456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57800" y="23814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81840" y="1771560"/>
            <a:ext cx="53316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7800" y="382896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8440" y="3753000"/>
            <a:ext cx="533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890720" y="3981600"/>
            <a:ext cx="45720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52840" y="4133880"/>
            <a:ext cx="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81840" y="3981600"/>
            <a:ext cx="457200" cy="53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28800" y="2152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-2)(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0       1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02400" y="268596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95640" y="35082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…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38440" y="267012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914800" y="343080"/>
            <a:ext cx="455760" cy="1066680"/>
            <a:chOff x="5914800" y="343080"/>
            <a:chExt cx="455760" cy="1066680"/>
          </a:xfrm>
        </p:grpSpPr>
        <p:sp>
          <p:nvSpPr>
            <p:cNvPr id="151" name=""/>
            <p:cNvSpPr/>
            <p:nvPr/>
          </p:nvSpPr>
          <p:spPr>
            <a:xfrm>
              <a:off x="6370560" y="343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14800" y="419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711240" y="299880"/>
            <a:ext cx="537480" cy="1067040"/>
            <a:chOff x="3711240" y="299880"/>
            <a:chExt cx="537480" cy="1067040"/>
          </a:xfrm>
        </p:grpSpPr>
        <p:sp>
          <p:nvSpPr>
            <p:cNvPr id="154" name=""/>
            <p:cNvSpPr/>
            <p:nvPr/>
          </p:nvSpPr>
          <p:spPr>
            <a:xfrm>
              <a:off x="3718080" y="299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11240" y="4525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03480" y="5132520"/>
            <a:ext cx="85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incremento di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 fi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dopo l’inserimento o di in dopo l’estr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ve avvenire modulo </a:t>
            </a:r>
            <a:r>
              <a:rPr b="1" lang="it-IT" sz="2400" spc="-1" strike="noStrike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la dimensione del vetto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82120" y="1527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95920" y="15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09000" y="1555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72840" y="1555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81640" y="1925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39160" y="241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5120" y="2933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39520" y="33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52840" y="3857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94360" y="4248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73800" y="4233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97880" y="4248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35920" y="4248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72160" y="4248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81760" y="421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18000" y="4219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40200" y="421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3880" y="3814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80200" y="3309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94600" y="286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9480" y="2386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37440" y="1852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27760" y="1549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33280" y="1577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6200" y="1577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51600">
            <a:off x="4444560" y="19080"/>
            <a:ext cx="534960" cy="2357280"/>
          </a:xfrm>
          <a:custGeom>
            <a:avLst/>
            <a:gdLst>
              <a:gd name="textAreaLeft" fmla="*/ 0 w 534960"/>
              <a:gd name="textAreaRight" fmla="*/ 192960 w 534960"/>
              <a:gd name="textAreaTop" fmla="*/ 61200 h 2357280"/>
              <a:gd name="textAreaBottom" fmla="*/ 2296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86"/>
                </a:lnTo>
                <a:cubicBezTo>
                  <a:pt x="10800" y="10286"/>
                  <a:pt x="16200" y="11186"/>
                  <a:pt x="21600" y="11186"/>
                </a:cubicBezTo>
                <a:cubicBezTo>
                  <a:pt x="16200" y="11186"/>
                  <a:pt x="10800" y="12086"/>
                  <a:pt x="10800" y="129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1880" y="461880"/>
            <a:ext cx="1938600" cy="609840"/>
          </a:xfrm>
          <a:prstGeom prst="wedgeRectCallout">
            <a:avLst>
              <a:gd name="adj1" fmla="val 172606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7880" y="66024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entrate lib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09000" y="839880"/>
            <a:ext cx="1761840" cy="3385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i elementi della coda sono quelli nel vettore C compresi tra C[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e C[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inclu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910-ABF2-4595-9FE5-B70269A0F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9880" y="10666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06668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106668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106668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106668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106668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106668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106668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144792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14479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14479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14479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0120" y="14479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14479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14479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14479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87640" y="1752480"/>
            <a:ext cx="392400" cy="551520"/>
            <a:chOff x="3887640" y="1752480"/>
            <a:chExt cx="392400" cy="551520"/>
          </a:xfrm>
        </p:grpSpPr>
        <p:sp>
          <p:nvSpPr>
            <p:cNvPr id="203" name=""/>
            <p:cNvSpPr/>
            <p:nvPr/>
          </p:nvSpPr>
          <p:spPr>
            <a:xfrm>
              <a:off x="3887640" y="1905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962520" y="1752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140360" y="1595160"/>
            <a:ext cx="533160" cy="1116360"/>
            <a:chOff x="4140360" y="1595160"/>
            <a:chExt cx="533160" cy="1116360"/>
          </a:xfrm>
        </p:grpSpPr>
        <p:sp>
          <p:nvSpPr>
            <p:cNvPr id="206" name=""/>
            <p:cNvSpPr/>
            <p:nvPr/>
          </p:nvSpPr>
          <p:spPr>
            <a:xfrm>
              <a:off x="4140360" y="23126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173480" y="15951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87720" y="4067280"/>
            <a:ext cx="392400" cy="579960"/>
            <a:chOff x="3987720" y="4067280"/>
            <a:chExt cx="392400" cy="579960"/>
          </a:xfrm>
        </p:grpSpPr>
        <p:sp>
          <p:nvSpPr>
            <p:cNvPr id="210" name=""/>
            <p:cNvSpPr/>
            <p:nvPr/>
          </p:nvSpPr>
          <p:spPr>
            <a:xfrm>
              <a:off x="3987720" y="42483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024440" y="4067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723000" y="3966840"/>
            <a:ext cx="533520" cy="1104120"/>
            <a:chOff x="6723000" y="3966840"/>
            <a:chExt cx="533520" cy="1104120"/>
          </a:xfrm>
        </p:grpSpPr>
        <p:sp>
          <p:nvSpPr>
            <p:cNvPr id="213" name=""/>
            <p:cNvSpPr/>
            <p:nvPr/>
          </p:nvSpPr>
          <p:spPr>
            <a:xfrm>
              <a:off x="6723000" y="46720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26240" y="39668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886200" y="3352680"/>
            <a:ext cx="4191120" cy="688320"/>
            <a:chOff x="3886200" y="3352680"/>
            <a:chExt cx="4191120" cy="688320"/>
          </a:xfrm>
        </p:grpSpPr>
        <p:sp>
          <p:nvSpPr>
            <p:cNvPr id="216" name=""/>
            <p:cNvSpPr/>
            <p:nvPr/>
          </p:nvSpPr>
          <p:spPr>
            <a:xfrm>
              <a:off x="3886200" y="335268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43400" y="335268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76920" y="335268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3600" y="335268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0080" y="335268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77120" y="335268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10280" y="335268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43800" y="335268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373392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52880" y="3733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2720" y="3733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3733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96080" y="3733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9400" y="3733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6600" y="3733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2520" y="3733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4680" y="3352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88560" y="3352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55040" y="3352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21720" y="335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21520" y="335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40000" y="11811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n inse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960" y="3276720"/>
            <a:ext cx="36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opo qualche inseri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2520" y="531828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estrazione avviene salvando C[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]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crementando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sempre modulo la dimensione della c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380880"/>
            <a:ext cx="7772400" cy="381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 vettore, versio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35800" y="1085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45000" y="4075200"/>
            <a:ext cx="392400" cy="579960"/>
            <a:chOff x="4545000" y="4075200"/>
            <a:chExt cx="392400" cy="579960"/>
          </a:xfrm>
        </p:grpSpPr>
        <p:sp>
          <p:nvSpPr>
            <p:cNvPr id="243" name=""/>
            <p:cNvSpPr/>
            <p:nvPr/>
          </p:nvSpPr>
          <p:spPr>
            <a:xfrm>
              <a:off x="4545000" y="42562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4581720" y="407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567320" y="1647720"/>
            <a:ext cx="533160" cy="1116360"/>
            <a:chOff x="4567320" y="1647720"/>
            <a:chExt cx="533160" cy="1116360"/>
          </a:xfrm>
        </p:grpSpPr>
        <p:sp>
          <p:nvSpPr>
            <p:cNvPr id="246" name=""/>
            <p:cNvSpPr/>
            <p:nvPr/>
          </p:nvSpPr>
          <p:spPr>
            <a:xfrm>
              <a:off x="4567320" y="23652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600440" y="164772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28480" y="40878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n’ estra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58F-BB7D-48E5-AD5E-04386A43DE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4038480" y="3962520"/>
            <a:ext cx="4191120" cy="1675800"/>
            <a:chOff x="4038480" y="3962520"/>
            <a:chExt cx="4191120" cy="1675800"/>
          </a:xfrm>
        </p:grpSpPr>
        <p:sp>
          <p:nvSpPr>
            <p:cNvPr id="250" name=""/>
            <p:cNvSpPr/>
            <p:nvPr/>
          </p:nvSpPr>
          <p:spPr>
            <a:xfrm>
              <a:off x="4038480" y="3962520"/>
              <a:ext cx="45720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95680" y="3962520"/>
              <a:ext cx="53352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9200" y="3962520"/>
              <a:ext cx="53352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5880" y="3962520"/>
              <a:ext cx="53352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62720" y="3962520"/>
              <a:ext cx="53316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9400" y="3962520"/>
              <a:ext cx="53352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62920" y="3962520"/>
              <a:ext cx="53316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96080" y="3962520"/>
              <a:ext cx="53352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48320" y="434340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05520" y="4343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000" y="4343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4343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48720" y="4343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81680" y="4343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38880" y="4343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14800" y="4343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11520" y="47242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00600" y="5181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410080" y="457164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257800" y="4572000"/>
              <a:ext cx="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6240" y="3962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2000" y="3962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05520" y="3962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38680" y="39625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72200" y="3962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29400" y="3962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8880" y="39625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73480" y="3962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185160" y="2629080"/>
            <a:ext cx="20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DA P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3000" y="5183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DA VU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962520" y="1447920"/>
            <a:ext cx="4190760" cy="1675800"/>
            <a:chOff x="3962520" y="1447920"/>
            <a:chExt cx="4190760" cy="1675800"/>
          </a:xfrm>
        </p:grpSpPr>
        <p:sp>
          <p:nvSpPr>
            <p:cNvPr id="281" name=""/>
            <p:cNvSpPr/>
            <p:nvPr/>
          </p:nvSpPr>
          <p:spPr>
            <a:xfrm>
              <a:off x="5182920" y="22860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24280" y="25909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5780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105520" y="20570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62520" y="144792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144792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4479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19920" y="144792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86400" y="14479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3080" y="14479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14479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0120" y="1447920"/>
              <a:ext cx="533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0" y="182880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29200" y="1828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38680" y="1828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2200" y="1828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72400" y="1828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05720" y="1828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1828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38480" y="1828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39920" y="14479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14479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29200" y="1447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62720" y="1447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5880" y="14479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53080" y="14479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62920" y="1447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97160" y="1447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28960" y="1447920"/>
            <a:ext cx="36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tinuando ad inserire..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960" y="4038480"/>
            <a:ext cx="36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tinuando ad estrarre..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53352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Times New Roman"/>
              </a:rPr>
              <a:t>CODA: implementazione su un vettore, versio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4640" y="2198520"/>
            <a:ext cx="2017800" cy="15570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imento in C[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e  incremento di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5400" y="4838760"/>
            <a:ext cx="2876760" cy="8254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trazione di C[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]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cremento  di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 II - Cod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E67-00F7-483D-A86F-158A9220EC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11:35:06Z</dcterms:created>
  <dc:creator>Emanuela Fachini</dc:creator>
  <dc:description/>
  <dc:language>en-US</dc:language>
  <cp:lastModifiedBy>Emanuela Fachini 2004</cp:lastModifiedBy>
  <cp:lastPrinted>2004-05-10T13:34:28Z</cp:lastPrinted>
  <dcterms:modified xsi:type="dcterms:W3CDTF">2006-04-05T16:40:35Z</dcterms:modified>
  <cp:revision>102</cp:revision>
  <dc:subject/>
  <dc:title>Nessun titolo diapositiva</dc:title>
</cp:coreProperties>
</file>