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9BC8-90ED-487F-A71D-84FE7B84D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3A1D-3B22-4440-B8FD-89C04D459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32DD-CA44-4423-AF1C-50CF523A6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6215-6589-4EBC-95F6-84F01B4B0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D62F-4554-4D3F-8BD0-96FDE0094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54C5-74A3-48ED-9069-9CC689329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1EC2-7753-4371-A03D-872968A52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E014-970D-4F46-8384-96D6B903E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7476-20E9-4CD6-BD69-728FAAD27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217A-7960-4C8A-BF2C-184F35985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2740-ADC4-4F70-A485-A6D884026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F029-94EB-4561-B1BA-11C9EFCF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1AE35-2410-428E-86B8-099E0D0453F8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Ricorsione come problem solv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1371240"/>
            <a:ext cx="8305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imo esempi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il problema del cambio delle mone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3124080"/>
            <a:ext cx="8229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Si tratta di calcolare in quanti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di diversi si può cambiare una somma di denar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r esempio potremmo voler sapere quanti modi diversi ci sono di cambiare 100 eur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tal caso avremmo a disposizione 12 tagli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 biglietti da 5,10,20,50,100 euro 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 monete da 1 euro, da 50,20,10,5,2 centesimi e infine da 1 centesim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C506-CD48-405F-AB8F-9263E3E33A4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562360" y="151920"/>
            <a:ext cx="33526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Approccio alla solu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Vediamo un caso “piccolo”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n quanti modi cambiare 10  centesimi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Calcoliamo in </a:t>
            </a:r>
            <a:r>
              <a:rPr b="1" lang="it-IT" sz="1400" spc="-1" strike="noStrike">
                <a:solidFill>
                  <a:srgbClr val="0000ff"/>
                </a:solidFill>
                <a:latin typeface="Arial"/>
              </a:rPr>
              <a:t>Ncambi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il risult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nnanzi tutto ho la moneta da10 centesimi, quindi </a:t>
            </a:r>
            <a:r>
              <a:rPr b="1" lang="it-IT" sz="1400" spc="-1" strike="noStrike">
                <a:solidFill>
                  <a:srgbClr val="0000ff"/>
                </a:solidFill>
                <a:latin typeface="Arial"/>
              </a:rPr>
              <a:t>Ncambi =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Ma abbiamo a disposizione anche monete da 5, 2 e 1 centesi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Vediamo con le monete da 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162920" y="533520"/>
            <a:ext cx="976320" cy="976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248520" y="1905120"/>
            <a:ext cx="976320" cy="976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934320" y="3124080"/>
            <a:ext cx="976320" cy="976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7848720" y="4267080"/>
            <a:ext cx="976320" cy="976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80880" y="2438280"/>
            <a:ext cx="5486400" cy="14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osso usarle due volte, una  o non usarla affat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Nel primo caso ottengo un nuovo cambio, </a:t>
            </a:r>
            <a:r>
              <a:rPr b="1" lang="it-IT" sz="1400" spc="-1" strike="noStrike">
                <a:solidFill>
                  <a:srgbClr val="0000ff"/>
                </a:solidFill>
                <a:latin typeface="Arial"/>
              </a:rPr>
              <a:t>Ncambi =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Nel secondo si tratta di vedere in quanti modi posso cambiare la cifra rimanente, 5 centesim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Nel terzo devo considerare tagli piu’ piccoli, per l’intera cifr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Consideriamo le  monete da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038480"/>
            <a:ext cx="7238880" cy="25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Cambiamo i 5 centesim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otrei usare 1 volta o 2 volte la moneta da 2 e vedere inquanti modi diversi posso cambiare rispettivamente 3 centesimi o 1 centesimo, oppure non usarla affat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Nel secondo caso posso usare solo una moneta da 1, e </a:t>
            </a:r>
            <a:r>
              <a:rPr b="1" lang="it-IT" sz="1400" spc="-1" strike="noStrike">
                <a:solidFill>
                  <a:srgbClr val="0000ff"/>
                </a:solidFill>
                <a:latin typeface="Arial"/>
              </a:rPr>
              <a:t>Ncambi =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Nel terzo caso posso solo usare 5 monete da 1, quindi </a:t>
            </a:r>
            <a:r>
              <a:rPr b="1" lang="it-IT" sz="1400" spc="-1" strike="noStrike">
                <a:solidFill>
                  <a:srgbClr val="0000ff"/>
                </a:solidFill>
                <a:latin typeface="Arial"/>
              </a:rPr>
              <a:t>Ncambi =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Nel primo caso noto che 3 centesimi si cambian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con una moneta da 2, ma allora resta un solo centesimo, </a:t>
            </a:r>
            <a:r>
              <a:rPr b="1" lang="it-IT" sz="1400" spc="-1" strike="noStrike">
                <a:solidFill>
                  <a:srgbClr val="0000ff"/>
                </a:solidFill>
                <a:latin typeface="Arial"/>
              </a:rPr>
              <a:t>Ncambi =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oppure con 3 da 1, quindi </a:t>
            </a:r>
            <a:r>
              <a:rPr b="1" lang="it-IT" sz="1400" spc="-1" strike="noStrike">
                <a:solidFill>
                  <a:srgbClr val="0000ff"/>
                </a:solidFill>
                <a:latin typeface="Arial"/>
              </a:rPr>
              <a:t>Ncambi =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Resta da vedere in quanti modi cambiare i 10 centesimi senza usare le monete da 5, poiché oltre a 2 il taglio rimanente è solo 1, questo numero è pari al numero di volte in cui si può usare la moneta da 2 che è 5, da cui </a:t>
            </a:r>
            <a:r>
              <a:rPr b="1" lang="it-IT" sz="1400" spc="-1" strike="noStrike">
                <a:solidFill>
                  <a:srgbClr val="0000ff"/>
                </a:solidFill>
                <a:latin typeface="Arial"/>
              </a:rPr>
              <a:t>Ncambi = 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8481-E989-494B-9C0C-D3D64978D05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pponiamo di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rdinar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 tagli a disposizione, in ordine decrescente (ma anche in ordine crescente andrebbe ben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l numero di modi di cambiare una quantità di denaro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somm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usand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gli  è uguale 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umero di modi di cambiare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somm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ando tutti  tranne il primo tagl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iù il numero di modi di cambiare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somma-t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v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è il valore del primo taglio, usando tutti gli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g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B7C4-1897-4505-9512-5614611F886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zione: casi 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r poter tradurre in programma questa soluzione dobbiamo risolvere i casi ba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 somma è 0, il numero di modi di cambiarla è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 somma è &lt; 0 allora il numero di modi di cambiarla è 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 n è 0 allora ci sono 0 modi di cambiare la somma dat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4F22-695A-4435-9D5C-7C85C1B2B61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760f50"/>
                </a:solidFill>
                <a:latin typeface="Monaco"/>
              </a:rPr>
              <a:t>int</a:t>
            </a:r>
            <a:r>
              <a:rPr b="1" lang="it-IT" sz="1800" spc="-1" strike="noStrike">
                <a:solidFill>
                  <a:srgbClr val="000000"/>
                </a:solidFill>
                <a:latin typeface="Monaco"/>
              </a:rPr>
              <a:t> cambiaMonete(</a:t>
            </a:r>
            <a:r>
              <a:rPr b="1" lang="it-IT" sz="1800" spc="-1" strike="noStrike">
                <a:solidFill>
                  <a:srgbClr val="760f50"/>
                </a:solidFill>
                <a:latin typeface="Monaco"/>
              </a:rPr>
              <a:t>float</a:t>
            </a:r>
            <a:r>
              <a:rPr b="1" lang="it-IT" sz="1800" spc="-1" strike="noStrike">
                <a:solidFill>
                  <a:srgbClr val="000000"/>
                </a:solidFill>
                <a:latin typeface="Monaco"/>
              </a:rPr>
              <a:t> somma,</a:t>
            </a:r>
            <a:r>
              <a:rPr b="1" lang="it-IT" sz="1800" spc="-1" strike="noStrike">
                <a:solidFill>
                  <a:srgbClr val="760f50"/>
                </a:solidFill>
                <a:latin typeface="Monaco"/>
              </a:rPr>
              <a:t>float</a:t>
            </a:r>
            <a:r>
              <a:rPr b="1" lang="it-IT" sz="1800" spc="-1" strike="noStrike">
                <a:solidFill>
                  <a:srgbClr val="000000"/>
                </a:solidFill>
                <a:latin typeface="Monaco"/>
              </a:rPr>
              <a:t>* tagli, </a:t>
            </a:r>
            <a:r>
              <a:rPr b="1" lang="it-IT" sz="1800" spc="-1" strike="noStrike">
                <a:solidFill>
                  <a:srgbClr val="760f50"/>
                </a:solidFill>
                <a:latin typeface="Monaco"/>
              </a:rPr>
              <a:t>int</a:t>
            </a:r>
            <a:r>
              <a:rPr b="1" lang="it-IT" sz="1800" spc="-1" strike="noStrike">
                <a:solidFill>
                  <a:srgbClr val="000000"/>
                </a:solidFill>
                <a:latin typeface="Monaco"/>
              </a:rPr>
              <a:t> i,</a:t>
            </a:r>
            <a:r>
              <a:rPr b="1" lang="it-IT" sz="1800" spc="-1" strike="noStrike">
                <a:solidFill>
                  <a:srgbClr val="760f50"/>
                </a:solidFill>
                <a:latin typeface="Monaco"/>
              </a:rPr>
              <a:t>int</a:t>
            </a:r>
            <a:r>
              <a:rPr b="1" lang="it-IT" sz="1800" spc="-1" strike="noStrike">
                <a:solidFill>
                  <a:srgbClr val="000000"/>
                </a:solidFill>
                <a:latin typeface="Monaco"/>
              </a:rPr>
              <a:t> 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Monaco"/>
              </a:rPr>
              <a:t>{</a:t>
            </a:r>
            <a:r>
              <a:rPr b="1" lang="it-IT" sz="1800" spc="-1" strike="noStrike">
                <a:solidFill>
                  <a:srgbClr val="760f50"/>
                </a:solidFill>
                <a:latin typeface="Monaco"/>
              </a:rPr>
              <a:t>if</a:t>
            </a:r>
            <a:r>
              <a:rPr b="1" lang="it-IT" sz="1800" spc="-1" strike="noStrike">
                <a:solidFill>
                  <a:srgbClr val="000000"/>
                </a:solidFill>
                <a:latin typeface="Monaco"/>
              </a:rPr>
              <a:t> (somma &lt; </a:t>
            </a:r>
            <a:r>
              <a:rPr b="1" lang="it-IT" sz="1800" spc="-1" strike="noStrike">
                <a:solidFill>
                  <a:srgbClr val="0000ff"/>
                </a:solidFill>
                <a:latin typeface="Monaco"/>
              </a:rPr>
              <a:t>0.0</a:t>
            </a:r>
            <a:r>
              <a:rPr b="1" lang="it-IT" sz="1800" spc="-1" strike="noStrike">
                <a:solidFill>
                  <a:srgbClr val="000000"/>
                </a:solidFill>
                <a:latin typeface="Monaco"/>
              </a:rPr>
              <a:t> || n == i) </a:t>
            </a:r>
            <a:r>
              <a:rPr b="1" lang="it-IT" sz="1800" spc="-1" strike="noStrike">
                <a:solidFill>
                  <a:srgbClr val="760f50"/>
                </a:solidFill>
                <a:latin typeface="Monaco"/>
              </a:rPr>
              <a:t>return</a:t>
            </a:r>
            <a:r>
              <a:rPr b="1" lang="it-IT" sz="18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1" lang="it-IT" sz="1800" spc="-1" strike="noStrike">
                <a:solidFill>
                  <a:srgbClr val="0000ff"/>
                </a:solidFill>
                <a:latin typeface="Monaco"/>
              </a:rPr>
              <a:t>0</a:t>
            </a:r>
            <a:r>
              <a:rPr b="1" lang="it-IT" sz="1800" spc="-1" strike="noStrike">
                <a:solidFill>
                  <a:srgbClr val="000000"/>
                </a:solidFill>
                <a:latin typeface="Monaco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760f50"/>
                </a:solidFill>
                <a:latin typeface="Monaco"/>
              </a:rPr>
              <a:t>if</a:t>
            </a:r>
            <a:r>
              <a:rPr b="1" lang="it-IT" sz="1800" spc="-1" strike="noStrike">
                <a:solidFill>
                  <a:srgbClr val="000000"/>
                </a:solidFill>
                <a:latin typeface="Monaco"/>
              </a:rPr>
              <a:t> (somma == </a:t>
            </a:r>
            <a:r>
              <a:rPr b="1" lang="it-IT" sz="1800" spc="-1" strike="noStrike">
                <a:solidFill>
                  <a:srgbClr val="0000ff"/>
                </a:solidFill>
                <a:latin typeface="Monaco"/>
              </a:rPr>
              <a:t>0.0</a:t>
            </a:r>
            <a:r>
              <a:rPr b="1" lang="it-IT" sz="1800" spc="-1" strike="noStrike">
                <a:solidFill>
                  <a:srgbClr val="000000"/>
                </a:solidFill>
                <a:latin typeface="Monaco"/>
              </a:rPr>
              <a:t>) </a:t>
            </a:r>
            <a:r>
              <a:rPr b="1" lang="it-IT" sz="1800" spc="-1" strike="noStrike">
                <a:solidFill>
                  <a:srgbClr val="760f50"/>
                </a:solidFill>
                <a:latin typeface="Monaco"/>
              </a:rPr>
              <a:t>return</a:t>
            </a:r>
            <a:r>
              <a:rPr b="1" lang="it-IT" sz="18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1" lang="it-IT" sz="1800" spc="-1" strike="noStrike">
                <a:solidFill>
                  <a:srgbClr val="0000ff"/>
                </a:solidFill>
                <a:latin typeface="Monaco"/>
              </a:rPr>
              <a:t>1</a:t>
            </a:r>
            <a:r>
              <a:rPr b="1" lang="it-IT" sz="1800" spc="-1" strike="noStrike">
                <a:solidFill>
                  <a:srgbClr val="000000"/>
                </a:solidFill>
                <a:latin typeface="Monaco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760f50"/>
                </a:solidFill>
                <a:latin typeface="Monaco"/>
              </a:rPr>
              <a:t>return</a:t>
            </a:r>
            <a:r>
              <a:rPr b="1" lang="it-IT" sz="1800" spc="-1" strike="noStrike">
                <a:solidFill>
                  <a:srgbClr val="000000"/>
                </a:solidFill>
                <a:latin typeface="Monaco"/>
              </a:rPr>
              <a:t> cambiaMonete(somma,tagli,i</a:t>
            </a:r>
            <a:r>
              <a:rPr b="1" lang="it-IT" sz="1800" spc="-1" strike="noStrike">
                <a:solidFill>
                  <a:srgbClr val="0000ff"/>
                </a:solidFill>
                <a:latin typeface="Monaco"/>
              </a:rPr>
              <a:t>+1</a:t>
            </a:r>
            <a:r>
              <a:rPr b="1" lang="it-IT" sz="1800" spc="-1" strike="noStrike">
                <a:solidFill>
                  <a:srgbClr val="000000"/>
                </a:solidFill>
                <a:latin typeface="Monaco"/>
              </a:rPr>
              <a:t>, n)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Monaco"/>
              </a:rPr>
              <a:t>       </a:t>
            </a:r>
            <a:r>
              <a:rPr b="1" lang="it-IT" sz="1800" spc="-1" strike="noStrike">
                <a:solidFill>
                  <a:srgbClr val="000000"/>
                </a:solidFill>
                <a:latin typeface="Monaco"/>
              </a:rPr>
              <a:t>cambiaMonete(somma-tagli[i],tagli,i,n)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Monaco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4191120"/>
            <a:ext cx="8474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 tagli utilizzati sono memorizzati in un vettore “tagli” e l’indice i indica il primo taglio usato. In ogni chiamata quindi i tagli usati sono tagli[i],...,tagli[n-1]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parametro i deve inizializzato a 0 nella prima chiam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306F-F935-4D6C-A3BB-497389C8837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bero delle chiam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81280" y="1752480"/>
            <a:ext cx="1600200" cy="32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M(4,v,0,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76520" y="2362320"/>
            <a:ext cx="6172200" cy="3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CM(4,v,1,2)         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             CM(2,v,0,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666880" y="3124080"/>
            <a:ext cx="381024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CM(3,v,1,2)              CM(2,v,1,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09680" y="4114800"/>
            <a:ext cx="16765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CM(2,v,1,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62320" y="5181480"/>
            <a:ext cx="1752480" cy="33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CM(1,v,1,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19720" y="4114800"/>
            <a:ext cx="190476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M(2,v,2,2)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0" y="5105520"/>
            <a:ext cx="190512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CM(0,v,1,2)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657600" y="6019920"/>
            <a:ext cx="190512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M(1-1,v,1,2)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1371240" y="2743200"/>
            <a:ext cx="68580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742840" y="2133720"/>
            <a:ext cx="121932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48320" y="2133720"/>
            <a:ext cx="129528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43200" y="2743200"/>
            <a:ext cx="38088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3124080" y="3581280"/>
            <a:ext cx="15264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990720" y="3581280"/>
            <a:ext cx="220968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45720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00200" y="4572000"/>
            <a:ext cx="144792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638680" y="2819520"/>
            <a:ext cx="45720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248520" y="2743200"/>
            <a:ext cx="91440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4952880" y="3505320"/>
            <a:ext cx="45720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91320" y="3505320"/>
            <a:ext cx="175248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6171840" y="4572000"/>
            <a:ext cx="121932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67480" y="4572000"/>
            <a:ext cx="53352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2666880" y="5562720"/>
            <a:ext cx="45720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52680" y="5562720"/>
            <a:ext cx="114300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2280" y="3071880"/>
            <a:ext cx="167868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CM(4,v,2,2)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66680" y="4138560"/>
            <a:ext cx="156312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CM(3,v,2,2)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4920" y="5205240"/>
            <a:ext cx="167868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CM(2,v,2,2)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537920" y="5967360"/>
            <a:ext cx="167868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CM(1,v,2,2)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890600" y="5105520"/>
            <a:ext cx="167868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CM(1,v,2,2)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58720" y="4114800"/>
            <a:ext cx="15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M(2-1,v,1,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553080" y="3124080"/>
            <a:ext cx="1828800" cy="6426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CM(0,v,0,2) = 1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093120" y="152280"/>
            <a:ext cx="6048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760f50"/>
                </a:solidFill>
                <a:latin typeface="Monaco"/>
              </a:rPr>
              <a:t>int</a:t>
            </a: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 cambiaMonete(</a:t>
            </a:r>
            <a:r>
              <a:rPr b="1" lang="it-IT" sz="1400" spc="-1" strike="noStrike">
                <a:solidFill>
                  <a:srgbClr val="760f50"/>
                </a:solidFill>
                <a:latin typeface="Monaco"/>
              </a:rPr>
              <a:t>float</a:t>
            </a: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 somma,</a:t>
            </a:r>
            <a:r>
              <a:rPr b="1" lang="it-IT" sz="1400" spc="-1" strike="noStrike">
                <a:solidFill>
                  <a:srgbClr val="760f50"/>
                </a:solidFill>
                <a:latin typeface="Monaco"/>
              </a:rPr>
              <a:t>float</a:t>
            </a: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* tagli, </a:t>
            </a:r>
            <a:r>
              <a:rPr b="1" lang="it-IT" sz="1400" spc="-1" strike="noStrike">
                <a:solidFill>
                  <a:srgbClr val="760f50"/>
                </a:solidFill>
                <a:latin typeface="Monaco"/>
              </a:rPr>
              <a:t>int</a:t>
            </a: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 i,</a:t>
            </a:r>
            <a:r>
              <a:rPr b="1" lang="it-IT" sz="1400" spc="-1" strike="noStrike">
                <a:solidFill>
                  <a:srgbClr val="760f50"/>
                </a:solidFill>
                <a:latin typeface="Monaco"/>
              </a:rPr>
              <a:t>int</a:t>
            </a: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 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{</a:t>
            </a:r>
            <a:r>
              <a:rPr b="1" lang="it-IT" sz="1400" spc="-1" strike="noStrike">
                <a:solidFill>
                  <a:srgbClr val="760f50"/>
                </a:solidFill>
                <a:latin typeface="Monaco"/>
              </a:rPr>
              <a:t>if</a:t>
            </a: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 (somma &lt; </a:t>
            </a:r>
            <a:r>
              <a:rPr b="1" lang="it-IT" sz="1400" spc="-1" strike="noStrike">
                <a:solidFill>
                  <a:srgbClr val="0000ff"/>
                </a:solidFill>
                <a:latin typeface="Monaco"/>
              </a:rPr>
              <a:t>0.0</a:t>
            </a: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 || n == i) </a:t>
            </a:r>
            <a:r>
              <a:rPr b="1" lang="it-IT" sz="1400" spc="-1" strike="noStrike">
                <a:solidFill>
                  <a:srgbClr val="760f50"/>
                </a:solidFill>
                <a:latin typeface="Monaco"/>
              </a:rPr>
              <a:t>return</a:t>
            </a: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1" lang="it-IT" sz="1400" spc="-1" strike="noStrike">
                <a:solidFill>
                  <a:srgbClr val="0000ff"/>
                </a:solidFill>
                <a:latin typeface="Monaco"/>
              </a:rPr>
              <a:t>0</a:t>
            </a: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760f50"/>
                </a:solidFill>
                <a:latin typeface="Monaco"/>
              </a:rPr>
              <a:t>if</a:t>
            </a: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 (somma == </a:t>
            </a:r>
            <a:r>
              <a:rPr b="1" lang="it-IT" sz="1400" spc="-1" strike="noStrike">
                <a:solidFill>
                  <a:srgbClr val="0000ff"/>
                </a:solidFill>
                <a:latin typeface="Monaco"/>
              </a:rPr>
              <a:t>0.0</a:t>
            </a: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) </a:t>
            </a:r>
            <a:r>
              <a:rPr b="1" lang="it-IT" sz="1400" spc="-1" strike="noStrike">
                <a:solidFill>
                  <a:srgbClr val="760f50"/>
                </a:solidFill>
                <a:latin typeface="Monaco"/>
              </a:rPr>
              <a:t>return</a:t>
            </a: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1" lang="it-IT" sz="1400" spc="-1" strike="noStrike">
                <a:solidFill>
                  <a:srgbClr val="0000ff"/>
                </a:solidFill>
                <a:latin typeface="Monaco"/>
              </a:rPr>
              <a:t>1</a:t>
            </a: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760f50"/>
                </a:solidFill>
                <a:latin typeface="Monaco"/>
              </a:rPr>
              <a:t>return</a:t>
            </a: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 cambiaMonete(somma,tagli,i</a:t>
            </a:r>
            <a:r>
              <a:rPr b="1" lang="it-IT" sz="1400" spc="-1" strike="noStrike">
                <a:solidFill>
                  <a:srgbClr val="0000ff"/>
                </a:solidFill>
                <a:latin typeface="Monaco"/>
              </a:rPr>
              <a:t>+1</a:t>
            </a: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, n) 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       </a:t>
            </a: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cambiaMonete(somma-tagli[i],tagli,i,n);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4038480"/>
            <a:ext cx="6515280" cy="2743200"/>
          </a:xfrm>
          <a:custGeom>
            <a:avLst/>
            <a:gdLst/>
            <a:ahLst/>
            <a:rect l="l" t="t" r="r" b="b"/>
            <a:pathLst>
              <a:path w="3816" h="1704">
                <a:moveTo>
                  <a:pt x="1728" y="24"/>
                </a:moveTo>
                <a:cubicBezTo>
                  <a:pt x="2032" y="48"/>
                  <a:pt x="2136" y="544"/>
                  <a:pt x="2256" y="696"/>
                </a:cubicBezTo>
                <a:cubicBezTo>
                  <a:pt x="2376" y="848"/>
                  <a:pt x="2240" y="848"/>
                  <a:pt x="2448" y="936"/>
                </a:cubicBezTo>
                <a:cubicBezTo>
                  <a:pt x="2656" y="1024"/>
                  <a:pt x="3360" y="1096"/>
                  <a:pt x="3504" y="1224"/>
                </a:cubicBezTo>
                <a:cubicBezTo>
                  <a:pt x="3648" y="1352"/>
                  <a:pt x="3816" y="1704"/>
                  <a:pt x="3312" y="1704"/>
                </a:cubicBezTo>
                <a:cubicBezTo>
                  <a:pt x="2808" y="1704"/>
                  <a:pt x="960" y="1416"/>
                  <a:pt x="480" y="1224"/>
                </a:cubicBezTo>
                <a:cubicBezTo>
                  <a:pt x="0" y="1032"/>
                  <a:pt x="224" y="752"/>
                  <a:pt x="432" y="552"/>
                </a:cubicBezTo>
                <a:cubicBezTo>
                  <a:pt x="640" y="352"/>
                  <a:pt x="1424" y="0"/>
                  <a:pt x="1728" y="24"/>
                </a:cubicBez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75120" y="2997360"/>
            <a:ext cx="5295960" cy="2819160"/>
          </a:xfrm>
          <a:custGeom>
            <a:avLst/>
            <a:gdLst/>
            <a:ahLst/>
            <a:rect l="l" t="t" r="r" b="b"/>
            <a:pathLst>
              <a:path w="3336" h="1776">
                <a:moveTo>
                  <a:pt x="904" y="32"/>
                </a:moveTo>
                <a:cubicBezTo>
                  <a:pt x="1072" y="64"/>
                  <a:pt x="1368" y="200"/>
                  <a:pt x="1480" y="272"/>
                </a:cubicBezTo>
                <a:cubicBezTo>
                  <a:pt x="1592" y="344"/>
                  <a:pt x="1360" y="416"/>
                  <a:pt x="1576" y="464"/>
                </a:cubicBezTo>
                <a:cubicBezTo>
                  <a:pt x="1792" y="512"/>
                  <a:pt x="2504" y="392"/>
                  <a:pt x="2776" y="560"/>
                </a:cubicBezTo>
                <a:cubicBezTo>
                  <a:pt x="3048" y="728"/>
                  <a:pt x="3192" y="1280"/>
                  <a:pt x="3208" y="1472"/>
                </a:cubicBezTo>
                <a:cubicBezTo>
                  <a:pt x="3224" y="1664"/>
                  <a:pt x="3336" y="1696"/>
                  <a:pt x="2872" y="1712"/>
                </a:cubicBezTo>
                <a:cubicBezTo>
                  <a:pt x="2408" y="1728"/>
                  <a:pt x="848" y="1776"/>
                  <a:pt x="424" y="1568"/>
                </a:cubicBezTo>
                <a:cubicBezTo>
                  <a:pt x="0" y="1360"/>
                  <a:pt x="320" y="712"/>
                  <a:pt x="328" y="464"/>
                </a:cubicBezTo>
                <a:cubicBezTo>
                  <a:pt x="336" y="216"/>
                  <a:pt x="376" y="152"/>
                  <a:pt x="472" y="80"/>
                </a:cubicBezTo>
                <a:cubicBezTo>
                  <a:pt x="568" y="8"/>
                  <a:pt x="736" y="0"/>
                  <a:pt x="904" y="32"/>
                </a:cubicBez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BD6A-CDC5-46B7-9320-6769CD01E4E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7T15:08:52Z</dcterms:created>
  <dc:creator>Emanuela Fachini 2004</dc:creator>
  <dc:description/>
  <dc:language>en-US</dc:language>
  <cp:lastModifiedBy>Emanuela  Fachini</cp:lastModifiedBy>
  <dcterms:modified xsi:type="dcterms:W3CDTF">2006-03-15T15:45:00Z</dcterms:modified>
  <cp:revision>12</cp:revision>
  <dc:subject/>
  <dc:title>Ricorsione come problem solving</dc:title>
</cp:coreProperties>
</file>