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E06-27E7-4F2B-9F86-2FAEED25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F31-D633-4087-B95F-24654E8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A7D-E5C4-4863-8F0B-8C6CAAB5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B85-6A3D-4E43-AE07-CC071396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A79-1927-4EB4-ACD0-AC096030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B13-20D4-4ECE-A3DA-112A9BAC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94E-E911-4C43-89AD-D4F0EC2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9DF-1D67-48BA-9362-ACF36A6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40C-3F44-4DC9-9C78-9C14A6E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503-1AB4-4E7F-AE32-2EFCD66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864-763D-4BC1-896E-44A0E73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CF8-0572-4E2C-B849-618B99A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4E4-AFDE-47B5-A809-51B4D8520E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wiki.dsi.uniroma1.it/twiki/view/Programmazione2ad/WebHome" TargetMode="External"/><Relationship Id="rId2" Type="http://schemas.openxmlformats.org/officeDocument/2006/relationships/hyperlink" Target="http://twiki.dsi.uniroma1.it/twiki/view/Programmazione2ad/WebHome" TargetMode="External"/><Relationship Id="rId3" Type="http://schemas.openxmlformats.org/officeDocument/2006/relationships/hyperlink" Target="http://twiki.dsi.uniroma1.it/twiki/view/Programmazione2ad/WebHome" TargetMode="External"/><Relationship Id="rId4" Type="http://schemas.openxmlformats.org/officeDocument/2006/relationships/hyperlink" Target="http://twiki.dsi.uniroma1.it/twiki/view/Programmazione2ad/WebHome" TargetMode="External"/><Relationship Id="rId5" Type="http://schemas.openxmlformats.org/officeDocument/2006/relationships/hyperlink" Target="http://twiki.dsi.uniroma1.it/twiki/view/Programmazione2ad/WebHome" TargetMode="External"/><Relationship Id="rId6" Type="http://schemas.openxmlformats.org/officeDocument/2006/relationships/hyperlink" Target="http://twiki.dsi.uniroma1.it/twiki/view/Programmazione2ad/WebHome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2440" y="1066680"/>
            <a:ext cx="8534520" cy="58802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f.ss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MANUELA FACHIN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UDIO: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.to Informatica, Via Salaria,11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L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0649918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-MAIL: fachini@di.uniroma1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RARIO DI RICEVI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nerdì ore 14 - 16 o anche in coda alle lezioni, quando possi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gina del cor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//twiki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si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uniroma1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it/twiki/view/Programmazione2ad/Web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rcitazioni: dott.ssa Chiara Petri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utore: Angelo Spogna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 CONSIGLIA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l Kelley, I. Pohl </a:t>
            </a:r>
            <a:r>
              <a:rPr b="1" lang="en-US" sz="1600" spc="-1" strike="noStrike">
                <a:solidFill>
                  <a:srgbClr val="2b2c8f"/>
                </a:solidFill>
                <a:latin typeface="Arial"/>
              </a:rPr>
              <a:t>C, </a:t>
            </a:r>
            <a:r>
              <a:rPr b="1" lang="en-US" sz="1800" spc="-1" strike="noStrike">
                <a:solidFill>
                  <a:srgbClr val="2b2c8f"/>
                </a:solidFill>
                <a:latin typeface="Arial"/>
              </a:rPr>
              <a:t>didattica e programmazione, Addison-Wesley, traduzione italiana a cura del Prof. G. Pighizzini, Univ.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380880"/>
            <a:ext cx="786168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GRAMMAZIONE II(canale A-D)a.a.2004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1760" y="30456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a di Programmazione I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a. 2006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72920" y="1218960"/>
            <a:ext cx="7684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Arial"/>
              </a:rPr>
              <a:t>Ricorsione.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Richiami di programmazione ricorsiva: i fondamenti della ricorsione; lo stack delle chiamate ricorsive; esempi di programmi ricorsivi. La "tail ricursion". Richiami su strutture dinamiche ricorsive: le li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Arial"/>
              </a:rPr>
              <a:t>Cenni di complessità di spazio e di tempo  per gli algoritmi e i programmi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. Valutazione asintotica e miglioramento delle costanti moltiplicative. Confronto tra soluzioni iterative e ricors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Arial"/>
              </a:rPr>
              <a:t>Tecniche per la scrittura di  programmi corretti.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L'importanza della specificazione precisa di un programma. Precondizioni e postcondizioni delle funzioni. Uso di assert per la loro verifica. Strutturazione dei programmi: sottoprogrammi e moduli. Tipi di dato astratti. L'information hiding. Pile e code: definizione e implementazione mediante liste e vettor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varianti come strumenti di progettazione di cicli. Applicazione del metodo al problema dell'ordina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Arial"/>
              </a:rPr>
              <a:t>Alberi binari.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definizione e implementazione. Proprietà degli alberi binari: altezza, foglie, relazione tra numero dei nodi e altezza in un albero binario qualunque, alberi pieni, completi, criteri di bilancia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li alberi binari di ricer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Arial"/>
              </a:rPr>
              <a:t>Tecniche di testing.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La scelta dei dati di test negli approcci Black-box e glass-b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28640" y="1508040"/>
            <a:ext cx="1078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l passato sono stati prodotti moltissimi programmi 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erminano imprevedibilmente (cras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producono risposte corrette (pieni di bug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no costosi da correggere o modificare,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engono errori nascosti (timebombs) che 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nifesteranno prima o p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752480"/>
            <a:ext cx="8112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quisiti dei 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d1acc"/>
                </a:solidFill>
                <a:latin typeface="Times New Roman"/>
              </a:rPr>
              <a:t>correttezza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proprietà ogg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efficienza     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proprietà ogg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facilità di lettura, e quindi comprensione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non quantific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facilità di manutenzione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robustezza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portabilità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10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riusabilità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91320" y="3049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_x0008_ION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38960" y="457200"/>
            <a:ext cx="96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obiettivo più difficile (!)  è scrivere program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corr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3120" y="1905120"/>
            <a:ext cx="36576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sa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o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rivere il programma senza preoccuparsi dello stile o della strutturazione e affidare ogni  verifica della correttezza al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2120" y="1827360"/>
            <a:ext cx="386892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sa fare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ogettare accuratamente i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egliendo le strutture dati più convenien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uddividendolo in moduli coerenti per obiettivo (per esempio tutte le funzioni di I/O,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 ogni compito che deve essere eseguito scrivere la relativa funzione in pseudocodice e verificarne la corrette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02:39Z</dcterms:created>
  <dc:creator>Emanuela Fachini 2004</dc:creator>
  <dc:description/>
  <dc:language>en-US</dc:language>
  <cp:lastModifiedBy>Emanuela  Fachini</cp:lastModifiedBy>
  <dcterms:modified xsi:type="dcterms:W3CDTF">2006-03-06T16:49:58Z</dcterms:modified>
  <cp:revision>3</cp:revision>
  <dc:subject/>
  <dc:title>Presentazione di PowerPoint</dc:title>
</cp:coreProperties>
</file>