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C3C-5614-4EC9-9BDB-5FAA0AA1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D43-C037-4BEF-85B6-7077560D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F09-3024-4B42-92A4-518476F2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301-9C1B-4009-8348-90847EA9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839-8D0C-4417-B64B-7EAA2F3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87F-9928-4154-84A5-A019FFD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624-90E3-447D-BA7D-8E54300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9DB-56F7-449D-AC66-04BDC932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3E3-B612-4FEB-A060-0C6C019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469-7ACE-463B-AF13-B0D4A70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0FD-8476-4EBD-ACC6-50A718A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42E-2178-4CFF-9E8A-9C6110B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7DD-C2C0-452F-82F3-411B6384C4E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re da due sequenze ordinate v1 e v2 di elementi vogliamo costruirne una ordinata v con tutti gli elementi di v1 e v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5960" y="1828800"/>
            <a:ext cx="785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ff"/>
                </a:solidFill>
                <a:latin typeface="Times New Roman"/>
              </a:rPr>
              <a:t>Algoritmo ricors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e due sequenze contengono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fronta i primi due elementi delle sequenze, metti il p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ccolo all’inizio delle nuova sequenza e richiama la fu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l  resto della seguenza dalla quale abbiamo scelto l’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 l’al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una delle due sequenze è terminata copia gl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quella rimasta nella nu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0560" y="4800600"/>
            <a:ext cx="233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1= 1  5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2 = 2  3  7  9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13640" y="5557680"/>
            <a:ext cx="39240" cy="2379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618560" y="5557680"/>
            <a:ext cx="39240" cy="2379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23480" y="5557680"/>
            <a:ext cx="38880" cy="2379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13640" y="6243480"/>
            <a:ext cx="39240" cy="2379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18560" y="6243480"/>
            <a:ext cx="39240" cy="2379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923480" y="6243480"/>
            <a:ext cx="38880" cy="2379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28040" y="6243480"/>
            <a:ext cx="39240" cy="2379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85240" y="6243480"/>
            <a:ext cx="39240" cy="2379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8320" y="563868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ra 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45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217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26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34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7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563868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2440" y="563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22480" y="1730520"/>
            <a:ext cx="667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istaPtr  dividi2( ListaPtr L1, ListaPtr 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/* divide la lista L in due, L2 va inizializzato a L1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</a:t>
            </a:r>
            <a:r>
              <a:rPr b="1" lang="it-IT" sz="1800" spc="-1" strike="noStrike">
                <a:solidFill>
                  <a:srgbClr val="236e25"/>
                </a:solidFill>
                <a:latin typeface="Lucida Grande"/>
              </a:rPr>
              <a:t>�</a:t>
            </a: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rec: L1!= N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36e25"/>
                </a:solidFill>
                <a:latin typeface="Monaco"/>
              </a:rPr>
              <a:t>postc: L1 conterrà la prima metà circa degli elementi e quella restituita la seconda.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(!L2 || !L2 -&gt; nex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{L2 = L1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L1 -&gt; next =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  </a:t>
            </a: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Monaco"/>
              </a:rPr>
              <a:t>  dividi2(L1-&gt;next,L2 -&gt; next -&gt; next 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7400" y="5624640"/>
            <a:ext cx="213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’ tail recur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15720" y="446040"/>
            <a:ext cx="301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Times New Roman"/>
              </a:rPr>
              <a:t>Imple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687840" y="2968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7440" y="2724120"/>
            <a:ext cx="3276360" cy="459720"/>
            <a:chOff x="487440" y="2724120"/>
            <a:chExt cx="3276360" cy="459720"/>
          </a:xfrm>
        </p:grpSpPr>
        <p:sp>
          <p:nvSpPr>
            <p:cNvPr id="276" name=""/>
            <p:cNvSpPr/>
            <p:nvPr/>
          </p:nvSpPr>
          <p:spPr>
            <a:xfrm>
              <a:off x="48744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778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350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94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66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4640" y="29685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6240" y="29685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96560" y="2724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87440" y="3121200"/>
            <a:ext cx="2438280" cy="1066680"/>
            <a:chOff x="487440" y="3121200"/>
            <a:chExt cx="2438280" cy="1066680"/>
          </a:xfrm>
        </p:grpSpPr>
        <p:sp>
          <p:nvSpPr>
            <p:cNvPr id="285" name=""/>
            <p:cNvSpPr/>
            <p:nvPr/>
          </p:nvSpPr>
          <p:spPr>
            <a:xfrm>
              <a:off x="487440" y="388296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25520" y="3121200"/>
              <a:ext cx="1600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95280" y="4552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idi2(L1,L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0200" y="5086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2 = dividi2(a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382920" y="3121200"/>
            <a:ext cx="2438280" cy="1066680"/>
            <a:chOff x="3382920" y="3121200"/>
            <a:chExt cx="2438280" cy="1066680"/>
          </a:xfrm>
        </p:grpSpPr>
        <p:sp>
          <p:nvSpPr>
            <p:cNvPr id="290" name=""/>
            <p:cNvSpPr/>
            <p:nvPr/>
          </p:nvSpPr>
          <p:spPr>
            <a:xfrm>
              <a:off x="3382920" y="388296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221000" y="3121200"/>
              <a:ext cx="1600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221000" y="2816280"/>
            <a:ext cx="3733920" cy="304920"/>
            <a:chOff x="4221000" y="2816280"/>
            <a:chExt cx="3733920" cy="304920"/>
          </a:xfrm>
        </p:grpSpPr>
        <p:sp>
          <p:nvSpPr>
            <p:cNvPr id="293" name=""/>
            <p:cNvSpPr/>
            <p:nvPr/>
          </p:nvSpPr>
          <p:spPr>
            <a:xfrm>
              <a:off x="55926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498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10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7820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052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7720" y="28162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59440" y="29685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7000" y="29685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386000" y="554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69800" y="563580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2 = c, L1 - &gt; next = NUL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73600" y="2759040"/>
            <a:ext cx="228600" cy="533160"/>
            <a:chOff x="3873600" y="2759040"/>
            <a:chExt cx="228600" cy="533160"/>
          </a:xfrm>
        </p:grpSpPr>
        <p:sp>
          <p:nvSpPr>
            <p:cNvPr id="304" name=""/>
            <p:cNvSpPr/>
            <p:nvPr/>
          </p:nvSpPr>
          <p:spPr>
            <a:xfrm flipH="1">
              <a:off x="3949920" y="275904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73600" y="283500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697200" y="506556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41680" y="452916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640" y="2016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esecu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04520" y="363600"/>
            <a:ext cx="4064040" cy="15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ListaPtr  dividi2( ListaPtr L1, ListaPtr L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!L2 || !L2 -&gt; next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L2 = L1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L1 -&gt; next =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 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 dividi2(L1-&gt;next,L2 -&gt; next -&gt; next 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228840" y="2023920"/>
            <a:ext cx="457200" cy="782640"/>
            <a:chOff x="3228840" y="2023920"/>
            <a:chExt cx="457200" cy="782640"/>
          </a:xfrm>
        </p:grpSpPr>
        <p:sp>
          <p:nvSpPr>
            <p:cNvPr id="311" name=""/>
            <p:cNvSpPr/>
            <p:nvPr/>
          </p:nvSpPr>
          <p:spPr>
            <a:xfrm>
              <a:off x="3228840" y="202392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1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471480" y="2363760"/>
              <a:ext cx="1764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982440" y="55767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2 -&gt; next =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87640" y="3105000"/>
            <a:ext cx="2438280" cy="1066680"/>
            <a:chOff x="2087640" y="3105000"/>
            <a:chExt cx="2438280" cy="1066680"/>
          </a:xfrm>
        </p:grpSpPr>
        <p:sp>
          <p:nvSpPr>
            <p:cNvPr id="315" name=""/>
            <p:cNvSpPr/>
            <p:nvPr/>
          </p:nvSpPr>
          <p:spPr>
            <a:xfrm>
              <a:off x="2087640" y="386676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925720" y="3105000"/>
              <a:ext cx="1600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62480" y="1447920"/>
            <a:ext cx="238428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Divide et Im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96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ick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960" y="2971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80" y="3505320"/>
            <a:ext cx="427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Times New Roman"/>
              </a:rPr>
              <a:t>Charles Antony Richard H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rof. Emerito 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xford Univers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puter Jurnal 5,1,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198108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160" y="1953000"/>
            <a:ext cx="1520280" cy="105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365760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Times New Roman"/>
              </a:rPr>
              <a:t>John von Neumann(1903-1957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l 1944, il suo rapporto interno “First Draft of a Report on the EDVAC” contiene tra l’altro, il mergesort come programma di ordin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94920" y="1523880"/>
            <a:ext cx="742248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o di algoritmo basato su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vide et Imp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fa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ase di suddivi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v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l lavoro a m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ase di ordinamento (fus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mpe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lle due met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133720"/>
            <a:ext cx="784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 la lista in due m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3809880"/>
            <a:ext cx="7238880" cy="6858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5800" y="396252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sini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388620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plica lo stesso algoritmo a ogni m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3505320"/>
            <a:ext cx="3047760" cy="6858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83800" y="47242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uove chia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2743200" y="4343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715000" y="43434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3505320"/>
            <a:ext cx="3352680" cy="6858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5800" y="35812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sini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3581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a partire da quando si ha un solo elemento o nessu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429000"/>
            <a:ext cx="2819520" cy="6858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16240" y="46483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743200" y="4343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71500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429000"/>
            <a:ext cx="3124440" cy="6858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17160" y="358128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sinistra ordi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89880" y="35812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à destra ordi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3623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60948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152388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36232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20040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20040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312408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312408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304812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04812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304812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20120" y="3048120"/>
            <a:ext cx="457200" cy="4572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102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674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81680" y="51055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5715000"/>
            <a:ext cx="457200" cy="457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276720" y="1143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143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15000" y="8985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295280" y="19810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19810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181480" y="19810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19810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97520" y="1752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04560" y="28954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361960" y="281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71800" y="28195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800240" y="281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705360" y="281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28195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37339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3657600"/>
            <a:ext cx="48600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657600"/>
            <a:ext cx="48600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657600"/>
            <a:ext cx="48564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4648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4648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5257800"/>
            <a:ext cx="48600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83160" y="2666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925400" y="3581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9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92240" y="5410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4114800"/>
            <a:ext cx="457200" cy="4572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53760" y="1371600"/>
            <a:ext cx="5581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merge(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*a,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*b,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*c,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n,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/*  costruisce un vettore ordinato a partire 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due vettori ordinati a, con n elementi e b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prec: a!= NULL &amp;&amp; b != NULL &amp;&amp; n &gt;= 0 &amp;&amp; m &gt;= 0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a[i] &lt;= a[i+1], per 0&lt;=i&lt;n &amp;&amp; b[i] &lt;= b[i+1], 0&lt;=i&lt;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postc: return  in c  gli n+m elementi di a e b, in modo tale 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Monaco"/>
              </a:rPr>
              <a:t>c[i] &lt;= c[i+1], 0&lt;=i&lt;n.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n ==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&amp;&amp; m ==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n ==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&amp;&amp; m &gt;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) {*c = *b; merge(a,++b,++c,n,m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-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;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n &gt;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&amp;&amp; m == 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0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  {*c = *a; merge(++a,b,++c,n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-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,m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*a &lt; *b ) {*c = *a;  merge(++a,b,++c,n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-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,m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40c4c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{*c = *b; merge(a,++b,++c,n,m</a:t>
            </a:r>
            <a:r>
              <a:rPr b="1" lang="it-IT" sz="1400" spc="-1" strike="noStrike">
                <a:solidFill>
                  <a:srgbClr val="8400ff"/>
                </a:solidFill>
                <a:latin typeface="Monaco"/>
              </a:rPr>
              <a:t>-1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91160" y="304920"/>
            <a:ext cx="507564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lementazione su array (vettore)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105520"/>
            <a:ext cx="73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N.B.  la memoria per il vettore c deve essere allocata prima della chi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867280"/>
            <a:ext cx="70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esta funzione è tail recursiv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49240" y="762120"/>
            <a:ext cx="5389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ListaPtr merge (ListaPtr L1, ListaPtr L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/*fonde  due liste ordinate L1 e L2 (modificando entramb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in un'unica lista  ordinata con gli elementi di entram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prec: gli elementi sono in ordine crescente nelle due l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postc: restituisce una lista ordinata, in ordine crescen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236e25"/>
                </a:solidFill>
                <a:latin typeface="Monaco"/>
              </a:rPr>
              <a:t>che contiene  tutti gli elementi di L1 e di L2 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!L2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!L1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L2 -&gt; elem &lt; L1 -&gt; el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L2 -&gt; next = merge(L1,L2 -&gt;next);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2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else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L1 -&gt; next = merge(L1-&gt;next,L2);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1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67680" y="152280"/>
            <a:ext cx="5347080" cy="459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lementazione su lista concatenata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581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581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3581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581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4267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733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4240" y="3489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1040" y="5334120"/>
            <a:ext cx="37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5&lt;7 : L2 -&gt; next  che è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merge(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120" y="571500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6&lt;7 : L2 -&gt; next che è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merge(a,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1040" y="4952880"/>
            <a:ext cx="38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&lt;5 : L1 -&gt; next  che è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merge(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L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2480" y="6095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7&lt;9 : L1 -&gt; next che è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merge(NULL,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720" y="64911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81480" y="4191120"/>
            <a:ext cx="228600" cy="533160"/>
            <a:chOff x="5181480" y="4191120"/>
            <a:chExt cx="228600" cy="533160"/>
          </a:xfrm>
        </p:grpSpPr>
        <p:sp>
          <p:nvSpPr>
            <p:cNvPr id="91" name=""/>
            <p:cNvSpPr/>
            <p:nvPr/>
          </p:nvSpPr>
          <p:spPr>
            <a:xfrm flipH="1">
              <a:off x="5257800" y="419112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426708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29200" y="37339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69840" y="563868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venta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return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006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66960" y="5257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valore non cambia, return L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69480" y="49528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venta L2, return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86200" y="3505320"/>
            <a:ext cx="228600" cy="533160"/>
            <a:chOff x="3886200" y="3505320"/>
            <a:chExt cx="228600" cy="533160"/>
          </a:xfrm>
        </p:grpSpPr>
        <p:sp>
          <p:nvSpPr>
            <p:cNvPr id="99" name=""/>
            <p:cNvSpPr/>
            <p:nvPr/>
          </p:nvSpPr>
          <p:spPr>
            <a:xfrm flipH="1">
              <a:off x="3962520" y="350532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358128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33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572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rge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440" y="64911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rge(NULL,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69840" y="6095880"/>
            <a:ext cx="20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venta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return 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42880" y="131112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artire da una lista concatenata v vogliamo costruire due liste concatenate ciascuna con circa la metà degli elementi di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00" y="2898720"/>
            <a:ext cx="7845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imes New Roman"/>
              </a:rPr>
              <a:t>Idea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orro la lista costruendone un’altra con solo gli ele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posto pari e cancellando da quella data gli elementi di pos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p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03240" y="604800"/>
            <a:ext cx="4934520" cy="1332720"/>
            <a:chOff x="903240" y="604800"/>
            <a:chExt cx="4934520" cy="1332720"/>
          </a:xfrm>
        </p:grpSpPr>
        <p:sp>
          <p:nvSpPr>
            <p:cNvPr id="108" name=""/>
            <p:cNvSpPr/>
            <p:nvPr/>
          </p:nvSpPr>
          <p:spPr>
            <a:xfrm>
              <a:off x="903240" y="604800"/>
              <a:ext cx="15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i base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 = N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156996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2880" y="156996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0080" y="1569960"/>
              <a:ext cx="4363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9360" y="1722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1640" y="147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79840" y="120636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stituisci N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9637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85680" y="2278080"/>
            <a:ext cx="6165000" cy="1235160"/>
            <a:chOff x="985680" y="2278080"/>
            <a:chExt cx="6165000" cy="1235160"/>
          </a:xfrm>
        </p:grpSpPr>
        <p:sp>
          <p:nvSpPr>
            <p:cNvPr id="117" name=""/>
            <p:cNvSpPr/>
            <p:nvPr/>
          </p:nvSpPr>
          <p:spPr>
            <a:xfrm>
              <a:off x="98568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64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36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52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288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448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95160" y="2394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043080" y="2333520"/>
              <a:ext cx="763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67120" y="2409840"/>
              <a:ext cx="22860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16240" y="2278080"/>
              <a:ext cx="21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stituisci tem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03320" y="320832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52560" y="2779200"/>
              <a:ext cx="1668600" cy="5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75000" y="3678120"/>
            <a:ext cx="784440" cy="754200"/>
            <a:chOff x="5175000" y="3678120"/>
            <a:chExt cx="784440" cy="754200"/>
          </a:xfrm>
        </p:grpSpPr>
        <p:sp>
          <p:nvSpPr>
            <p:cNvPr id="131" name=""/>
            <p:cNvSpPr/>
            <p:nvPr/>
          </p:nvSpPr>
          <p:spPr>
            <a:xfrm>
              <a:off x="5502240" y="367812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175000" y="3870360"/>
              <a:ext cx="32364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23960" y="53593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62040" y="459756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705040" y="4200480"/>
            <a:ext cx="228600" cy="533160"/>
            <a:chOff x="2705040" y="4200480"/>
            <a:chExt cx="228600" cy="533160"/>
          </a:xfrm>
        </p:grpSpPr>
        <p:sp>
          <p:nvSpPr>
            <p:cNvPr id="136" name=""/>
            <p:cNvSpPr/>
            <p:nvPr/>
          </p:nvSpPr>
          <p:spPr>
            <a:xfrm flipH="1">
              <a:off x="2781360" y="420048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5040" y="427644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960" y="4200480"/>
            <a:ext cx="7467480" cy="459720"/>
            <a:chOff x="723960" y="4200480"/>
            <a:chExt cx="7467480" cy="459720"/>
          </a:xfrm>
        </p:grpSpPr>
        <p:sp>
          <p:nvSpPr>
            <p:cNvPr id="139" name=""/>
            <p:cNvSpPr/>
            <p:nvPr/>
          </p:nvSpPr>
          <p:spPr>
            <a:xfrm>
              <a:off x="72396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146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718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94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866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62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434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578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1508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7704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34240" y="429264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81160" y="4444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2760" y="4444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24360" y="4444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33080" y="4200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95960" y="4444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3880" y="44449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33680" y="3736800"/>
            <a:ext cx="2230560" cy="550800"/>
            <a:chOff x="2533680" y="3736800"/>
            <a:chExt cx="2230560" cy="550800"/>
          </a:xfrm>
        </p:grpSpPr>
        <p:sp>
          <p:nvSpPr>
            <p:cNvPr id="157" name=""/>
            <p:cNvSpPr/>
            <p:nvPr/>
          </p:nvSpPr>
          <p:spPr>
            <a:xfrm>
              <a:off x="2533680" y="3736800"/>
              <a:ext cx="2209680" cy="533160"/>
            </a:xfrm>
            <a:custGeom>
              <a:avLst/>
              <a:gdLst/>
              <a:ahLst/>
              <a:rect l="l" t="t" r="r" b="b"/>
              <a:pathLst>
                <a:path w="1392" h="336">
                  <a:moveTo>
                    <a:pt x="0" y="336"/>
                  </a:moveTo>
                  <a:cubicBezTo>
                    <a:pt x="100" y="168"/>
                    <a:pt x="200" y="0"/>
                    <a:pt x="432" y="0"/>
                  </a:cubicBezTo>
                  <a:cubicBezTo>
                    <a:pt x="664" y="0"/>
                    <a:pt x="1232" y="280"/>
                    <a:pt x="1392" y="3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1600" y="4211280"/>
              <a:ext cx="1526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90960" y="3316320"/>
            <a:ext cx="892080" cy="2579760"/>
          </a:xfrm>
          <a:custGeom>
            <a:avLst/>
            <a:gdLst/>
            <a:ahLst/>
            <a:rect l="l" t="t" r="r" b="b"/>
            <a:pathLst>
              <a:path w="562" h="1625">
                <a:moveTo>
                  <a:pt x="500" y="94"/>
                </a:moveTo>
                <a:cubicBezTo>
                  <a:pt x="250" y="47"/>
                  <a:pt x="0" y="0"/>
                  <a:pt x="10" y="255"/>
                </a:cubicBezTo>
                <a:cubicBezTo>
                  <a:pt x="20" y="510"/>
                  <a:pt x="470" y="1397"/>
                  <a:pt x="562" y="1625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3720" y="5132520"/>
            <a:ext cx="30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amata ricorsiva 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il valor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-&gt;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672000" y="4719600"/>
            <a:ext cx="2438280" cy="1066680"/>
            <a:chOff x="3672000" y="4719600"/>
            <a:chExt cx="2438280" cy="1066680"/>
          </a:xfrm>
        </p:grpSpPr>
        <p:sp>
          <p:nvSpPr>
            <p:cNvPr id="162" name=""/>
            <p:cNvSpPr/>
            <p:nvPr/>
          </p:nvSpPr>
          <p:spPr>
            <a:xfrm>
              <a:off x="3672000" y="5481720"/>
              <a:ext cx="8380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510080" y="4719600"/>
              <a:ext cx="1600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08280" y="1946160"/>
            <a:ext cx="5257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ListaPtr dividi(ListaPtr 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36e25"/>
                </a:solidFill>
                <a:latin typeface="Monaco"/>
              </a:rPr>
              <a:t>/* divide una lista in due me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36e25"/>
                </a:solidFill>
                <a:latin typeface="Monaco"/>
              </a:rPr>
              <a:t>postc: se L è non vuota  conterrà gli elementi di posto dispari e la lista restituita quelli di posto par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{ListaPtr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(!L || !L-&gt; next) </a:t>
            </a: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emp = L-&gt;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L-&gt;next = temp -&gt;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temp -&gt; next = dividi(temp -&gt; n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Monaco"/>
              </a:rPr>
              <a:t>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1160" y="67644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Times New Roman"/>
              </a:rPr>
              <a:t>Implementa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8744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78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350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926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498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94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066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10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7820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4052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97720" y="2816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44640" y="2968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16240" y="2968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87840" y="2968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96560" y="2724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68520" y="2664000"/>
            <a:ext cx="228600" cy="533160"/>
            <a:chOff x="2468520" y="2664000"/>
            <a:chExt cx="228600" cy="533160"/>
          </a:xfrm>
        </p:grpSpPr>
        <p:sp>
          <p:nvSpPr>
            <p:cNvPr id="182" name=""/>
            <p:cNvSpPr/>
            <p:nvPr/>
          </p:nvSpPr>
          <p:spPr>
            <a:xfrm flipH="1">
              <a:off x="2544840" y="266400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68520" y="273996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11720" y="2664000"/>
            <a:ext cx="228600" cy="533160"/>
            <a:chOff x="5211720" y="2664000"/>
            <a:chExt cx="228600" cy="533160"/>
          </a:xfrm>
        </p:grpSpPr>
        <p:sp>
          <p:nvSpPr>
            <p:cNvPr id="185" name=""/>
            <p:cNvSpPr/>
            <p:nvPr/>
          </p:nvSpPr>
          <p:spPr>
            <a:xfrm flipH="1">
              <a:off x="5288040" y="266400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273996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971960" y="345960"/>
            <a:ext cx="40388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ListaPtr dividi(ListaPtr 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{ListaPtr 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!L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if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(!L-&gt; next)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NULL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temp = L-&gt; 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L-&gt;next = temp -&gt; 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temp -&gt; next = dividi(temp -&gt; nex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60f50"/>
                </a:solidFill>
                <a:latin typeface="Monaco"/>
              </a:rPr>
              <a:t>return</a:t>
            </a:r>
            <a:r>
              <a:rPr b="1" lang="it-IT" sz="1400" spc="-1" strike="noStrike">
                <a:solidFill>
                  <a:srgbClr val="000000"/>
                </a:solidFill>
                <a:latin typeface="Monaco"/>
              </a:rPr>
              <a:t> 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" y="388296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325520" y="312120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44880" y="2274840"/>
            <a:ext cx="2229840" cy="550800"/>
            <a:chOff x="2144880" y="2274840"/>
            <a:chExt cx="2229840" cy="550800"/>
          </a:xfrm>
        </p:grpSpPr>
        <p:sp>
          <p:nvSpPr>
            <p:cNvPr id="191" name=""/>
            <p:cNvSpPr/>
            <p:nvPr/>
          </p:nvSpPr>
          <p:spPr>
            <a:xfrm>
              <a:off x="2144880" y="2274840"/>
              <a:ext cx="2209320" cy="533160"/>
            </a:xfrm>
            <a:custGeom>
              <a:avLst/>
              <a:gdLst/>
              <a:ahLst/>
              <a:rect l="l" t="t" r="r" b="b"/>
              <a:pathLst>
                <a:path w="1392" h="336">
                  <a:moveTo>
                    <a:pt x="0" y="336"/>
                  </a:moveTo>
                  <a:cubicBezTo>
                    <a:pt x="100" y="168"/>
                    <a:pt x="200" y="0"/>
                    <a:pt x="432" y="0"/>
                  </a:cubicBezTo>
                  <a:cubicBezTo>
                    <a:pt x="664" y="0"/>
                    <a:pt x="1232" y="280"/>
                    <a:pt x="1392" y="3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22440" y="274932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95280" y="4552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idi(L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50864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 = dividi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82920" y="388296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21000" y="312120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9440" y="2968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07000" y="29685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83120" y="2282760"/>
            <a:ext cx="2209680" cy="544680"/>
            <a:chOff x="4983120" y="2282760"/>
            <a:chExt cx="2209680" cy="544680"/>
          </a:xfrm>
        </p:grpSpPr>
        <p:sp>
          <p:nvSpPr>
            <p:cNvPr id="200" name=""/>
            <p:cNvSpPr/>
            <p:nvPr/>
          </p:nvSpPr>
          <p:spPr>
            <a:xfrm>
              <a:off x="4983120" y="2282760"/>
              <a:ext cx="2209680" cy="533520"/>
            </a:xfrm>
            <a:custGeom>
              <a:avLst/>
              <a:gdLst/>
              <a:ahLst/>
              <a:rect l="l" t="t" r="r" b="b"/>
              <a:pathLst>
                <a:path w="1392" h="336">
                  <a:moveTo>
                    <a:pt x="0" y="336"/>
                  </a:moveTo>
                  <a:cubicBezTo>
                    <a:pt x="100" y="168"/>
                    <a:pt x="200" y="0"/>
                    <a:pt x="432" y="0"/>
                  </a:cubicBezTo>
                  <a:cubicBezTo>
                    <a:pt x="664" y="0"/>
                    <a:pt x="1232" y="280"/>
                    <a:pt x="1392" y="3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1160" y="275112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6000" y="554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95480" y="561960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 = dividi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68720" y="563580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NULL quindi b =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659640" y="2739960"/>
            <a:ext cx="228600" cy="533160"/>
            <a:chOff x="6659640" y="2739960"/>
            <a:chExt cx="228600" cy="533160"/>
          </a:xfrm>
        </p:grpSpPr>
        <p:sp>
          <p:nvSpPr>
            <p:cNvPr id="206" name=""/>
            <p:cNvSpPr/>
            <p:nvPr/>
          </p:nvSpPr>
          <p:spPr>
            <a:xfrm flipH="1">
              <a:off x="6735960" y="273996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9640" y="281592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685320" y="5025960"/>
            <a:ext cx="40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temp’=d quindi c =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40120" y="2739960"/>
            <a:ext cx="228600" cy="533160"/>
            <a:chOff x="3840120" y="2739960"/>
            <a:chExt cx="228600" cy="533160"/>
          </a:xfrm>
        </p:grpSpPr>
        <p:sp>
          <p:nvSpPr>
            <p:cNvPr id="210" name=""/>
            <p:cNvSpPr/>
            <p:nvPr/>
          </p:nvSpPr>
          <p:spPr>
            <a:xfrm flipH="1">
              <a:off x="3916440" y="2739960"/>
              <a:ext cx="763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40120" y="2815920"/>
              <a:ext cx="2286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11520" y="3120840"/>
            <a:ext cx="1981080" cy="533520"/>
            <a:chOff x="3611520" y="3120840"/>
            <a:chExt cx="1981080" cy="533520"/>
          </a:xfrm>
        </p:grpSpPr>
        <p:sp>
          <p:nvSpPr>
            <p:cNvPr id="213" name=""/>
            <p:cNvSpPr/>
            <p:nvPr/>
          </p:nvSpPr>
          <p:spPr>
            <a:xfrm>
              <a:off x="3611520" y="3121200"/>
              <a:ext cx="1981080" cy="533160"/>
            </a:xfrm>
            <a:custGeom>
              <a:avLst/>
              <a:gdLst/>
              <a:ahLst/>
              <a:rect l="l" t="t" r="r" b="b"/>
              <a:pathLst>
                <a:path w="1248" h="336">
                  <a:moveTo>
                    <a:pt x="0" y="0"/>
                  </a:moveTo>
                  <a:cubicBezTo>
                    <a:pt x="112" y="168"/>
                    <a:pt x="224" y="336"/>
                    <a:pt x="432" y="336"/>
                  </a:cubicBezTo>
                  <a:cubicBezTo>
                    <a:pt x="640" y="336"/>
                    <a:pt x="1112" y="56"/>
                    <a:pt x="124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40320" y="312084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41600" y="4400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640" y="2016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esecu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2040" y="17254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artire da una lista concatenata v vogliamo costruire due liste concatenate ciascuna con circa la metà degli elementi di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280" y="3303720"/>
            <a:ext cx="831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imes New Roman"/>
              </a:rPr>
              <a:t>Idea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orri la lista con due puntatori d’appoggio, di cui uno scorre salt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 elemento, quando questo ha raggiunto la fine della lista l’altro è situ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 centro della lista  quindi si “stacca”  la lista ottenendone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la prima metà degli elementi e la seconda i riman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903960" y="604800"/>
            <a:ext cx="4933800" cy="1332720"/>
            <a:chOff x="903960" y="604800"/>
            <a:chExt cx="4933800" cy="1332720"/>
          </a:xfrm>
        </p:grpSpPr>
        <p:sp>
          <p:nvSpPr>
            <p:cNvPr id="220" name=""/>
            <p:cNvSpPr/>
            <p:nvPr/>
          </p:nvSpPr>
          <p:spPr>
            <a:xfrm>
              <a:off x="903960" y="604800"/>
              <a:ext cx="165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i base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1 = N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2160" y="156996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2880" y="156996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0080" y="1569960"/>
              <a:ext cx="4363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9360" y="1722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01640" y="147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79840" y="120636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stituisci N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0400" y="9637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985680" y="2278080"/>
            <a:ext cx="5893560" cy="1274760"/>
            <a:chOff x="985680" y="2278080"/>
            <a:chExt cx="5893560" cy="1274760"/>
          </a:xfrm>
        </p:grpSpPr>
        <p:sp>
          <p:nvSpPr>
            <p:cNvPr id="229" name=""/>
            <p:cNvSpPr/>
            <p:nvPr/>
          </p:nvSpPr>
          <p:spPr>
            <a:xfrm>
              <a:off x="98568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64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36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480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5200" y="248616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288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448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95160" y="2394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043080" y="2333520"/>
              <a:ext cx="763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67120" y="2409840"/>
              <a:ext cx="22860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17680" y="2278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stituisci L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04760" y="3247920"/>
              <a:ext cx="8384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852560" y="2779200"/>
              <a:ext cx="1668600" cy="5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31960" y="4735080"/>
            <a:ext cx="2438280" cy="1067400"/>
            <a:chOff x="831960" y="4735080"/>
            <a:chExt cx="2438280" cy="1067400"/>
          </a:xfrm>
        </p:grpSpPr>
        <p:sp>
          <p:nvSpPr>
            <p:cNvPr id="243" name=""/>
            <p:cNvSpPr/>
            <p:nvPr/>
          </p:nvSpPr>
          <p:spPr>
            <a:xfrm>
              <a:off x="831960" y="549756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70040" y="4735080"/>
              <a:ext cx="160020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31960" y="4338720"/>
            <a:ext cx="7467480" cy="459720"/>
            <a:chOff x="831960" y="4338720"/>
            <a:chExt cx="7467480" cy="459720"/>
          </a:xfrm>
        </p:grpSpPr>
        <p:sp>
          <p:nvSpPr>
            <p:cNvPr id="246" name=""/>
            <p:cNvSpPr/>
            <p:nvPr/>
          </p:nvSpPr>
          <p:spPr>
            <a:xfrm>
              <a:off x="83196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23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795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71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943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939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11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655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2272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8504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42240" y="443088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9160" y="45831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0760" y="45831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2360" y="45831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1080" y="4338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03960" y="45831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1520" y="45831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51440" y="3414600"/>
            <a:ext cx="892080" cy="2579760"/>
          </a:xfrm>
          <a:custGeom>
            <a:avLst/>
            <a:gdLst/>
            <a:ahLst/>
            <a:rect l="l" t="t" r="r" b="b"/>
            <a:pathLst>
              <a:path w="562" h="1625">
                <a:moveTo>
                  <a:pt x="500" y="94"/>
                </a:moveTo>
                <a:cubicBezTo>
                  <a:pt x="250" y="47"/>
                  <a:pt x="0" y="0"/>
                  <a:pt x="10" y="255"/>
                </a:cubicBezTo>
                <a:cubicBezTo>
                  <a:pt x="20" y="510"/>
                  <a:pt x="470" y="1397"/>
                  <a:pt x="562" y="1625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530160" y="3795840"/>
            <a:ext cx="1376640" cy="644400"/>
            <a:chOff x="3530160" y="3795840"/>
            <a:chExt cx="1376640" cy="644400"/>
          </a:xfrm>
        </p:grpSpPr>
        <p:sp>
          <p:nvSpPr>
            <p:cNvPr id="265" name=""/>
            <p:cNvSpPr/>
            <p:nvPr/>
          </p:nvSpPr>
          <p:spPr>
            <a:xfrm>
              <a:off x="4424400" y="3795840"/>
              <a:ext cx="482400" cy="25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530160" y="3978360"/>
              <a:ext cx="90828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479920" y="5270400"/>
            <a:ext cx="33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amata ricorsiva 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stituisce il va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1-&gt;next salvato in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800520" y="4721400"/>
            <a:ext cx="2438280" cy="1066680"/>
            <a:chOff x="3800520" y="4721400"/>
            <a:chExt cx="2438280" cy="1066680"/>
          </a:xfrm>
        </p:grpSpPr>
        <p:sp>
          <p:nvSpPr>
            <p:cNvPr id="269" name=""/>
            <p:cNvSpPr/>
            <p:nvPr/>
          </p:nvSpPr>
          <p:spPr>
            <a:xfrm>
              <a:off x="3800520" y="5483160"/>
              <a:ext cx="83808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638600" y="4721400"/>
              <a:ext cx="1600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28:35Z</dcterms:created>
  <dc:creator>Emanuela Fachini 2004</dc:creator>
  <dc:description/>
  <dc:language>en-US</dc:language>
  <cp:lastModifiedBy>Emanuela Fachini 2004</cp:lastModifiedBy>
  <cp:lastPrinted>2006-04-05T16:30:12Z</cp:lastPrinted>
  <dcterms:modified xsi:type="dcterms:W3CDTF">2006-04-05T16:30:29Z</dcterms:modified>
  <cp:revision>1</cp:revision>
  <dc:subject/>
  <dc:title>Presentazione di PowerPoint</dc:title>
</cp:coreProperties>
</file>