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C6C-F55D-4A64-966E-77C65DAB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2BC-86D8-4454-AD53-90AE1E66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07A-9A8C-4DA8-9EAD-36B1F8F7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D0B-0289-4E9F-88B9-2814CD60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2A4-6A3D-41ED-ABBB-07BC9C66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320-060D-4567-A32A-E0D2AED1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365-78C6-4A97-AECE-60CA9AEA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9AF-B1C3-4A42-B7A0-B33CF769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DF7-08FE-4758-8B9C-AF453421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169-26D2-4D96-9E3F-06C1F375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C3A-9372-41CD-8631-9FF05C21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E05-936C-439D-A47B-A33EEA19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730C-CCD0-47AB-B1A4-2EC3B9D5866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ritmetica postfi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e espressioni aritmetiche sono normalmente scritte in notazione infissa, cioe’ in modo tale che  i simboli delle operazioni binarie  compaiono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tr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gli ogetti su cui oper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ESEMPIO: 20 + 15 * (100 – 5) –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ella notazione postfissa gli operatori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eguon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gli oggetti su cui oper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ESEMPIO : 20 15 100 5 – * + 21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notazione postfissa è detta polacca inversa  (RPN) in omaggio al matematico polacco LUKASIEWICZ che l’ha introdot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 la notazione polacca otteniamo espressioni aritmetiche che possono essere calcolate mano mano che vengono lette, pur non contenendo parentesi e senza far riferimento alle regole di precedenza degli operator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fatti per esempio a+b*c  corrisponde a abc*+ mentre (a+b)*c corrisponde a ab+c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762120"/>
            <a:ext cx="153504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15920" y="121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la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0" cy="1295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3429000"/>
            <a:ext cx="2108160" cy="1600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89480" y="3962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in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2320" y="2133720"/>
            <a:ext cx="7617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11480" y="2438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429000"/>
            <a:ext cx="1981440" cy="1600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0f7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640" y="3886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acca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133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762120"/>
            <a:ext cx="153504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5240" y="121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acca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429000"/>
            <a:ext cx="15354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84800" y="396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la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133720"/>
            <a:ext cx="4038480" cy="1295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zione polacca: defin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’espressione aritmetica in notazione polacca e’ una qualunque serie di operandi aritmetici x, y, … e operatori binari op (+,-,*,/) che si può formare mediante le regole seguen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gni operando 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è un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’espressione aritmetica in notazione polac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</a:rPr>
              <a:t> p1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</a:rPr>
              <a:t>p2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so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pressioni aritmetiche in notazione polacca e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op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è un operatore aritmetico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allora 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</a:rPr>
              <a:t>p1p2 op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’espressione aritmetica in notazione polac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ESEMPI: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1 = 48 63 +  ( che corrisponde a 48+6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2 = 52 4 *  (che corrisponde a 52 *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3 = p1 p2 -    (che corrisponde a p1-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tazione polacca: regola di colco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candisci l’espressione da sinistra a destra fino a che raggiungi il primo oper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lica l’operatore ai due operandi alla sua sinistra, sostituisci il risultato nell’espressione al posto di operandi e oper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EMP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20 15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</a:rPr>
              <a:t>100 5 -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 * + 21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20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</a:rPr>
              <a:t>15 95 *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 + 21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</a:rPr>
              <a:t>20 1425 +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 21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1445  21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14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 per valutare un’espressione in notazione pola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 scandisci l’espressione da sinistra a dest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pena leggi un operando compi il passo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pena leggi un operatore compi il passo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mpila l’operando nella pila degli opera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muovi dalla pila l’ operando in cima e salvalo in op1, rimuovi  dalla pila l’operando in cima e salvalo in op2, applica l’operatore a op2 e op1 e impila il risultato in cima alla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80060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040" y="4314960"/>
            <a:ext cx="40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mpio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 15 100 5 – * + 2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800600"/>
            <a:ext cx="6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80060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9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480060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5791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80060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556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480060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4084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480060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12440" y="5791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6560" y="5791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060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920" y="51055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9560" y="4952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6240" y="5334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4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9800" y="5334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9560" y="5791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ritmetica postfissa, implementazione: file polacca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72409"/>
                </a:solidFill>
                <a:latin typeface="Monaco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72409"/>
                </a:solidFill>
                <a:latin typeface="Monaco"/>
              </a:rPr>
              <a:t>#include &lt;string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72409"/>
                </a:solidFill>
                <a:latin typeface="Monaco"/>
              </a:rPr>
              <a:t>#include &lt;ctype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72409"/>
                </a:solidFill>
                <a:latin typeface="Monaco"/>
              </a:rPr>
              <a:t>#include &lt;assert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enum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tokenT {add,subtract,multiply,divide,integer,ill}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36e25"/>
                </a:solidFill>
                <a:latin typeface="Monaco"/>
              </a:rPr>
              <a:t>/* i tokens in un espressio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typedef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enum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tokenT tokenTyp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valutaPolacca (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char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* esp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/*prec: espr!= NULL &amp;&amp;  espr != ‘\0’ &amp;&amp; espr è in RP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postc: restituisce il valore di esp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tokenType leggi (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char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** espr,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*tokenvalu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/*prec: espr != NULL, *espr  è una RPN, tokenvalue !=NULL e *tokenvalue =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postc: restituisce il tipo del token letto, mette in token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il suo valore e predispone la lettura del prossino toke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2514600"/>
            <a:ext cx="4267080" cy="106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e istruzioni di controllo sulle precondizioni sono omesse nel co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r non appesantire le defin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o studente le  aggiung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ritmetica postfissa, implementazione: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file polacca.c - le i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3821"/>
                </a:solidFill>
                <a:latin typeface="Monaco"/>
              </a:rPr>
              <a:t>#include "polacca.h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3821"/>
                </a:solidFill>
                <a:latin typeface="Monaco"/>
              </a:rPr>
              <a:t>#include "pila.h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ritmetica postfissa, implementazione: file polacca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valutaPolacca (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char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* esp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{PilaP  PI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tokenvalue, NumTop, NumSu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tokenType 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PILA = costrPila(strlen(espr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while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 (*espr != </a:t>
            </a:r>
            <a:r>
              <a:rPr b="1" lang="it-IT" sz="1600" spc="-1" strike="noStrike">
                <a:solidFill>
                  <a:srgbClr val="0000ff"/>
                </a:solidFill>
                <a:latin typeface="Monaco"/>
              </a:rPr>
              <a:t>'\0'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{tokenvalue = </a:t>
            </a:r>
            <a:r>
              <a:rPr b="1" lang="it-IT" sz="1600" spc="-1" strike="noStrike">
                <a:solidFill>
                  <a:srgbClr val="0000ff"/>
                </a:solidFill>
                <a:latin typeface="Monaco"/>
              </a:rPr>
              <a:t>0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t = leggi(&amp;espr,&amp;tokenvalue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(t == ill)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Monaco"/>
              </a:rPr>
              <a:t>0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(t == integer) push(tokenvalue, PILA)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  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{NumTop = pop(PILA);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NumSuc = pop(PILA)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(t == add) 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NumSuc += NumTop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(t == subtract)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NumSuc -= NumTop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(t == multiply)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NumSuc *= NumTop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(t == divide)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NumSuc /= NumTop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push(ris,PILA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NumSuc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21600" y="914400"/>
            <a:ext cx="3594600" cy="85212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/*prec: espr !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postc: restituisce il va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di espr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17040" y="1981080"/>
            <a:ext cx="2984760" cy="31284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/*inizializza la pila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438280"/>
            <a:ext cx="2819520" cy="182916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/*pone  in t il tip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del token let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mette in token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il suo valo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e predispone la lettura del prossino token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876560" y="2971800"/>
            <a:ext cx="144756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ritmetica postfissa: la funzione “legg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tokenType leggi (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char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** espr,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*token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{tokenType tok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char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*s = *esp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while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(isspace(*s)) s++; </a:t>
            </a:r>
            <a:r>
              <a:rPr b="1" lang="it-IT" sz="1600" spc="-1" strike="noStrike">
                <a:solidFill>
                  <a:srgbClr val="ff0000"/>
                </a:solidFill>
                <a:latin typeface="Monaco"/>
              </a:rPr>
              <a:t>/* saltiamo eventuali spazi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( isdigit(*s)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{token =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while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(isdigit(*s)) {*tokenValue = *tokenValue*</a:t>
            </a:r>
            <a:r>
              <a:rPr b="1" lang="it-IT" sz="1600" spc="-1" strike="noStrike">
                <a:solidFill>
                  <a:srgbClr val="0000ff"/>
                </a:solidFill>
                <a:latin typeface="Monaco"/>
              </a:rPr>
              <a:t>10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+ *s -</a:t>
            </a:r>
            <a:r>
              <a:rPr b="1" lang="it-IT" sz="1600" spc="-1" strike="noStrike">
                <a:solidFill>
                  <a:srgbClr val="0000ff"/>
                </a:solidFill>
                <a:latin typeface="Monaco"/>
              </a:rPr>
              <a:t>'0'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switch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(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case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Monaco"/>
              </a:rPr>
              <a:t>'+'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: {token = add; s++;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break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case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Monaco"/>
              </a:rPr>
              <a:t>'-'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: {token = subtract; s++;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break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case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Monaco"/>
              </a:rPr>
              <a:t>'*'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: {token = multiply; s++;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break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case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Monaco"/>
              </a:rPr>
              <a:t>'/'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: {token = divide; s++;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break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default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 : {token = i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printf(</a:t>
            </a:r>
            <a:r>
              <a:rPr b="1" lang="it-IT" sz="1600" spc="-1" strike="noStrike">
                <a:solidFill>
                  <a:srgbClr val="891315"/>
                </a:solidFill>
                <a:latin typeface="Monaco"/>
              </a:rPr>
              <a:t>"%c  è un carattere illegale.\n"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,*s);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break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*espr = 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token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l 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83821"/>
                </a:solidFill>
                <a:latin typeface="Monaco"/>
              </a:rPr>
              <a:t>#include "polacca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0" lang="it-IT" sz="1800" spc="-1" strike="noStrike">
                <a:solidFill>
                  <a:srgbClr val="000000"/>
                </a:solidFill>
                <a:latin typeface="Monaco"/>
              </a:rPr>
              <a:t> main (</a:t>
            </a:r>
            <a:r>
              <a:rPr b="0" lang="it-IT" sz="1800" spc="-1" strike="noStrike">
                <a:solidFill>
                  <a:srgbClr val="760f50"/>
                </a:solidFill>
                <a:latin typeface="Monaco"/>
              </a:rPr>
              <a:t>void</a:t>
            </a:r>
            <a:r>
              <a:rPr b="0" lang="it-IT" sz="18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0" lang="it-IT" sz="1800" spc="-1" strike="noStrike">
                <a:solidFill>
                  <a:srgbClr val="760f50"/>
                </a:solidFill>
                <a:latin typeface="Monaco"/>
              </a:rPr>
              <a:t>char</a:t>
            </a:r>
            <a:r>
              <a:rPr b="0" lang="it-IT" sz="1800" spc="-1" strike="noStrike">
                <a:solidFill>
                  <a:srgbClr val="000000"/>
                </a:solidFill>
                <a:latin typeface="Monaco"/>
              </a:rPr>
              <a:t> * st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Monaco"/>
              </a:rPr>
              <a:t>si memorizzi in str una R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Monaco"/>
              </a:rPr>
              <a:t> (strlen(str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aco"/>
              </a:rPr>
              <a:t>printf(</a:t>
            </a:r>
            <a:r>
              <a:rPr b="0" lang="it-IT" sz="1800" spc="-1" strike="noStrike">
                <a:solidFill>
                  <a:srgbClr val="891315"/>
                </a:solidFill>
                <a:latin typeface="Monaco"/>
              </a:rPr>
              <a:t>"Il valore </a:t>
            </a:r>
            <a:r>
              <a:rPr b="0" lang="en-US" sz="1800" spc="-1" strike="noStrike">
                <a:solidFill>
                  <a:srgbClr val="891315"/>
                </a:solidFill>
                <a:latin typeface="Monaco"/>
              </a:rPr>
              <a:t>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1315"/>
                </a:solidFill>
                <a:latin typeface="Monaco"/>
              </a:rPr>
              <a:t>str = %s è </a:t>
            </a:r>
            <a:r>
              <a:rPr b="0" lang="it-IT" sz="1800" spc="-1" strike="noStrike">
                <a:solidFill>
                  <a:srgbClr val="891315"/>
                </a:solidFill>
                <a:latin typeface="Monaco"/>
              </a:rPr>
              <a:t>%d\n"</a:t>
            </a:r>
            <a:r>
              <a:rPr b="0" lang="it-IT" sz="1800" spc="-1" strike="noStrike">
                <a:solidFill>
                  <a:srgbClr val="000000"/>
                </a:solidFill>
                <a:latin typeface="Monaco"/>
              </a:rPr>
              <a:t>,str,valutaPolacca(str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0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it-IT" sz="1800" spc="-1" strike="noStrike">
                <a:solidFill>
                  <a:srgbClr val="0000ff"/>
                </a:solidFill>
                <a:latin typeface="Monaco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Monaco"/>
              </a:rPr>
              <a:t>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21:00:45Z</dcterms:created>
  <dc:creator>Emanuela  Fachini</dc:creator>
  <dc:description/>
  <dc:language>en-US</dc:language>
  <cp:lastModifiedBy>Emanuela Fachini 2004</cp:lastModifiedBy>
  <cp:lastPrinted>2006-03-28T11:41:13Z</cp:lastPrinted>
  <dcterms:modified xsi:type="dcterms:W3CDTF">2006-03-29T14:22:18Z</dcterms:modified>
  <cp:revision>14</cp:revision>
  <dc:subject/>
  <dc:title>Aritmetica postfissa</dc:title>
</cp:coreProperties>
</file>