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7E1-10FE-4F15-A5EB-8A085D8C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BC4-5636-479A-8446-C32D96B5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72D6-6DB5-48AE-B3FA-FAC09697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EE3-5232-43FF-ABA8-9F7B7C73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82A-ED54-49E2-BA8E-1B220368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965-702C-41DF-8A06-B2E79FE8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5A5-D32A-4DAA-B720-402215A0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143-1D16-4A9E-AF1D-30E42F50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9D63-62A4-4637-979B-3793C252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CA8-0191-48AC-A4E7-A7391D2D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C6A-E9C0-4616-9D71-C9B7338C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047-4492-431E-A48E-623E0000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C329-7386-433B-AFBA-931A2033C0C1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B9D3-B6EF-4E11-B0DA-FA921840EAC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6040" y="2209680"/>
            <a:ext cx="7648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ff"/>
                </a:solidFill>
                <a:latin typeface="Courier New"/>
              </a:rPr>
              <a:t>int</a:t>
            </a: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 mia_funzione(  ... )  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it-IT" sz="1400" spc="-1" strike="noStrike">
                <a:solidFill>
                  <a:srgbClr val="ff0000"/>
                </a:solidFill>
                <a:latin typeface="Courier New"/>
              </a:rPr>
              <a:t>/*si introduce una variabile r di tipo puntatore a una struttura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ff"/>
                </a:solidFill>
                <a:latin typeface="Courier New"/>
              </a:rPr>
              <a:t>if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( r ==</a:t>
            </a: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3333ff"/>
                </a:solidFill>
                <a:latin typeface="Courier New"/>
              </a:rPr>
              <a:t>NULL</a:t>
            </a: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 )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{printf("mia_funzione: errore puntatore nullo!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     </a:t>
            </a:r>
            <a:r>
              <a:rPr b="1" lang="it-IT" sz="1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... ;</a:t>
            </a: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   </a:t>
            </a:r>
            <a:r>
              <a:rPr b="1" lang="it-IT" sz="1400" spc="-1" strike="noStrike">
                <a:solidFill>
                  <a:srgbClr val="cc0000"/>
                </a:solidFill>
                <a:latin typeface="Courier New"/>
              </a:rPr>
              <a:t>/* restituiamo un valore opportunamente scelto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qui le istruzioni che usano 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..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47360" y="133524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2871"/>
                </a:solidFill>
                <a:latin typeface="Arial"/>
              </a:rPr>
              <a:t>Prima solu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8120" y="152280"/>
            <a:ext cx="2958840" cy="459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biettivo robust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04920"/>
            <a:ext cx="4800600" cy="1015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83cbb"/>
                </a:solidFill>
                <a:latin typeface="Arial"/>
              </a:rPr>
              <a:t>Un tipico erro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ferimento a un puntatore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9360" y="525780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 il codice è appesanti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17E-8916-4E40-AC97-B11D7D107932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F809C-817F-40F3-A958-1D6F093845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69200" y="914400"/>
            <a:ext cx="601020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it-IT" sz="17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mia_funzione( StructP c, int p1, int p2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assert( c != NULL 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assert( p1 &gt; 0 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assert( (p2 &gt;= 0)&amp;&amp; (p2 &lt;= MAX_P)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... </a:t>
            </a:r>
            <a:r>
              <a:rPr b="1" lang="it-IT" sz="1700" spc="-1" strike="noStrike">
                <a:solidFill>
                  <a:srgbClr val="ff0000"/>
                </a:solidFill>
                <a:latin typeface="Courier New"/>
              </a:rPr>
              <a:t>/* si fa qualche cosa su c *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8000"/>
                </a:solidFill>
                <a:latin typeface="Courier New"/>
              </a:rPr>
              <a:t>   </a:t>
            </a: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846720" y="3733920"/>
            <a:ext cx="1042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Ottenendo il seguente messaggio diagnostico in caso di violazione di una delle condizioni su p2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Assertion   (( p2 &gt;= 0) &amp;&amp; (p2 &lt;= MAX_P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failed in "esempio.c"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function "mia_funzione", line 34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1680" y="5297400"/>
            <a:ext cx="76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necessario, si ricompila separando le due condi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CAC-0783-4664-90F6-E9EE3AD90912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51524-089E-4B4C-9F8C-ADCDA7CD09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74880" y="1357200"/>
            <a:ext cx="7407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sando assert quindi si ottengono più risultati in u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obustezza (individuazione degli errori mediante autodiagno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odice snello (le verifiche con assert vengono eliminate quando non servono pi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acilità di lettura (l'uso di uno strumento stand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94520" y="128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9D79-51FB-4213-A4BE-5C81B74A6CB2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8FE68-4F43-4A21-80E5-3A0C9DAAF0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2320" y="2133720"/>
            <a:ext cx="23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#define</a:t>
            </a: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FASE_TESTING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9720" y="2819520"/>
            <a:ext cx="76482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it-IT" sz="1400" spc="-1" strike="noStrike">
                <a:solidFill>
                  <a:srgbClr val="3333ff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ff"/>
                </a:solidFill>
                <a:latin typeface="Courier New"/>
              </a:rPr>
              <a:t>int</a:t>
            </a: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 mia_funzione(  ... )  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it-IT" sz="1400" spc="-1" strike="noStrike">
                <a:solidFill>
                  <a:srgbClr val="ff0000"/>
                </a:solidFill>
                <a:latin typeface="Courier New"/>
              </a:rPr>
              <a:t>/*si introduce una variabile r di tipo puntatore a una struttura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#ifdef</a:t>
            </a: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FASE_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ff"/>
                </a:solidFill>
                <a:latin typeface="Courier New"/>
              </a:rPr>
              <a:t>if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( r ==</a:t>
            </a: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3333ff"/>
                </a:solidFill>
                <a:latin typeface="Courier New"/>
              </a:rPr>
              <a:t>NULL</a:t>
            </a: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{printf("mia_funzione: errore puntatore nullo!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... ;</a:t>
            </a: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   </a:t>
            </a:r>
            <a:r>
              <a:rPr b="1" lang="it-IT" sz="1400" spc="-1" strike="noStrike">
                <a:solidFill>
                  <a:srgbClr val="cc0000"/>
                </a:solidFill>
                <a:latin typeface="Courier New"/>
              </a:rPr>
              <a:t>/* restituiamo un val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cc0000"/>
                </a:solidFill>
                <a:latin typeface="Courier New"/>
              </a:rPr>
              <a:t>opportunamente scelto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qui le istruzioni che usano 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..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228600"/>
            <a:ext cx="4800600" cy="1015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83cbb"/>
                </a:solidFill>
                <a:latin typeface="Arial"/>
              </a:rPr>
              <a:t>Un tipico erro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ferimento a un puntatore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9000" y="1523880"/>
            <a:ext cx="84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2871"/>
                </a:solidFill>
                <a:latin typeface="Arial"/>
              </a:rPr>
              <a:t>Seconda soluzione:uso della compilazione condizion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120" y="152280"/>
            <a:ext cx="2958840" cy="459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biettivo robust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43A-25C3-48EA-8DFE-A2C423F8CD60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657C2-DF94-4CB4-B769-E25446E652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29680" y="457200"/>
            <a:ext cx="4752720" cy="45972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ILAZIONE CONDIZIO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95280"/>
            <a:ext cx="77533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 comandi che possono essere usati n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 compilazione condizionata so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#if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clude un qualche testo in dipendenza del va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 un’espressione c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#els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include un qualche testo, se i precedenti tes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#if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#ifdef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 #ifndef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 #elif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ono falli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#elif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acilita la lettura di if annidati, l’ultimo dev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sere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#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#endif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clude l’espressione condiz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#ifdef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clude un qualche testo se un nome di mac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é defin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#ifndef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clude un qualche testo se un nome di mac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n é defin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125-922A-4222-BBEB-EF62D74E97DD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DBA47-FC7E-40F7-B3CD-2B1A16EED0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217440" y="1828800"/>
            <a:ext cx="5209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#if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spressione costant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gruppo di linee di codic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#elif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spressione costant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gruppo di linee di codic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#elif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spressione costante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gruppo di linee di codice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#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ultimo gruppo di linee di co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3840" y="304920"/>
            <a:ext cx="4752720" cy="45972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MPILAZIONE CONDIZ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07720" y="1143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INTA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62680" y="1143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EMA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676520"/>
            <a:ext cx="38098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espressione costant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≠ 0 verr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mpilato il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gruppo di linee di codice 1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 tutto il resto viene scaricato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ltrimenti verrà valutata l’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spressione costante 2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del successivo </a:t>
            </a: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#elif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 se diversa da 0 verrà compil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gruppo di linee di codice 2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 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esto  scaricato e così via, se nessuna delle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spressione costante i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à un valore diverso da 0, allora verrà compilato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ultimo gruppo di linee di codic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 verrà ignorato il r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F24F-F55C-429E-9FBD-C430B06ECE79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7B851-F3C9-48FC-9A5D-3A0A121EE5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6040" y="1828800"/>
            <a:ext cx="429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#if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spressione cos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gruppo di linee di codic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#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gruppo di linee di codic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412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gruppo di line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di codic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può contenere un qualsiasi numero di linee di testo, anche altre direttive  di preprocessore o anche nessuna li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1676520"/>
            <a:ext cx="3809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espressione costant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≠ 0 verr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mpilato il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gruppo di linee di codice 1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 l’altro viene scaricato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ltrimenti verrà compilato 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gruppo di linee di codice 2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 l’altro scaricato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60000" y="1143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INTA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1280" y="1219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EMA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2840" y="457200"/>
            <a:ext cx="4752720" cy="45972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ILAZIONE CONDIZIO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8098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n’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espressione costant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deve essere valutata a tempo di compi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 quindi può essere solo di tipo intero, coinvolgendo solo costanti intere, costanti di tipo char e lo speciale operatore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fin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. Tutta l’aritmetica è fatta usando il tipo long o unsigned 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24F-8F6E-4C9C-AB6C-6F79CF4E5FC2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B245C-12C4-4074-A6A0-23710C89BE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1905120"/>
            <a:ext cx="830592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#include</a:t>
            </a: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&lt;assert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 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mia_funzione(  ... )</a:t>
            </a: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it-IT" sz="1400" spc="-1" strike="noStrike">
                <a:solidFill>
                  <a:srgbClr val="ff0000"/>
                </a:solidFill>
                <a:latin typeface="Courier New"/>
              </a:rPr>
              <a:t>/*si introduce una variabile r di tipo puntatore a una struttura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assert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008000"/>
                </a:solidFill>
                <a:latin typeface="Courier New"/>
              </a:rPr>
              <a:t>qui le istruzioni che usano 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e r==NULL il programma viene interrotto e a video si leggerà il seguente messaggio (o uno molto simil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ssertion(r) failed in "esempio.c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function "mia_funzione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ine 5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30800" y="27068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6160" y="1371600"/>
            <a:ext cx="46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52871"/>
                </a:solidFill>
                <a:latin typeface="Arial"/>
              </a:rPr>
              <a:t>Terza soluzione: uso di ass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228600"/>
            <a:ext cx="4800600" cy="1015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83cbb"/>
                </a:solidFill>
                <a:latin typeface="Arial"/>
              </a:rPr>
              <a:t>Un tipico erro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ferimento a un puntatore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8120" y="152280"/>
            <a:ext cx="2958840" cy="459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biettivo robust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DA0E-BF80-4F78-B334-1D039A802607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096B5-10E0-4D97-B48D-290D62B7BC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93640" y="365040"/>
            <a:ext cx="74836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83cbb"/>
                </a:solidFill>
                <a:latin typeface="Arial"/>
              </a:rPr>
              <a:t>Una possibile definizione di assert(x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Courier New"/>
              </a:rPr>
              <a:t>#ifndef</a:t>
            </a:r>
            <a:r>
              <a:rPr b="1" lang="it-IT" sz="1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NDEB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Courier New"/>
              </a:rPr>
              <a:t>#define</a:t>
            </a:r>
            <a:r>
              <a:rPr b="1" lang="it-IT" sz="1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ssert(x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it-IT" sz="16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(!(x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Courier New"/>
                <a:ea typeface="ＭＳ Ｐゴシック"/>
              </a:rPr>
              <a:t>	</a:t>
            </a:r>
            <a:r>
              <a:rPr b="1" lang="it-IT" sz="1600" spc="-1" strike="noStrike">
                <a:solidFill>
                  <a:srgbClr val="000080"/>
                </a:solidFill>
                <a:latin typeface="Courier New"/>
                <a:ea typeface="ＭＳ Ｐゴシック"/>
              </a:rPr>
              <a:t>printf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"Assertion %s failed in file %s, at line %d /n,#x,__FILE__,__LINE__); </a:t>
            </a:r>
            <a:r>
              <a:rPr b="1" lang="it-IT" sz="1600" spc="-1" strike="noStrike">
                <a:solidFill>
                  <a:srgbClr val="000080"/>
                </a:solidFill>
                <a:latin typeface="Courier New"/>
                <a:ea typeface="ＭＳ Ｐゴシック"/>
              </a:rPr>
              <a:t>exit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Courier New"/>
              </a:rPr>
              <a:t>#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Courier New"/>
              </a:rPr>
              <a:t>#define</a:t>
            </a:r>
            <a:r>
              <a:rPr b="1" lang="it-IT" sz="1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ssert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ioè se NDEBUG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no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è definito allora sostituisci, ovunque occorra, assert(x) c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it-IT" sz="16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(!(x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Courier New"/>
              </a:rPr>
              <a:t>printf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("Assertion %s failed in file %s, at line %d /n, #x,__FILE__,__LINE__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Courier New"/>
              </a:rPr>
              <a:t>exit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(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invece NDEBUG è definito non si sostituisce niente a assert(x), cioè la si rimuove dal programm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98560" y="240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6280" y="1563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08040" y="240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882-79AD-49EA-B105-06D453CDEA5D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A003D-E146-42DB-83AD-E3E0310189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066680" y="1295280"/>
          <a:ext cx="5488200" cy="27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548820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977760" y="57312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so di assert e Precondizi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59400" y="4267080"/>
            <a:ext cx="9781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Ottenendo il seguente messaggio diagnostico in caso di violazione di una delle condizio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Assertion  ((c != NULL) &amp;&amp; (p1 &gt; 0) &amp;&amp; ( p2 &gt;= 0) &amp;&amp; (p2 &lt;= MAX_P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failed in "esempio.c"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function "mia_funzione", line 34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86C-FBB6-4FA1-BD2D-88B1698EC553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871C0-FF9D-438C-87E1-6D24BF4A05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6560" y="838080"/>
            <a:ext cx="601020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it-IT" sz="17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mia_funzione( StructP c, int p1, int p2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assert( c != NULL 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assert( p1 &gt; 0 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assert( p2 &gt;= 0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assert(p2 &lt;= MAX_P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... </a:t>
            </a:r>
            <a:r>
              <a:rPr b="1" lang="it-IT" sz="1700" spc="-1" strike="noStrike">
                <a:solidFill>
                  <a:srgbClr val="ff0000"/>
                </a:solidFill>
                <a:latin typeface="Courier New"/>
              </a:rPr>
              <a:t>/* si fa qualche cosa su c *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8000"/>
                </a:solidFill>
                <a:latin typeface="Courier New"/>
              </a:rPr>
              <a:t>   </a:t>
            </a:r>
            <a:r>
              <a:rPr b="1" lang="it-IT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807120" y="4114800"/>
            <a:ext cx="9675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Ottenendo il seguente messaggio diagnostico in caso di violazione della condizioni su p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Assertion  (( (p1 &gt; 0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failed in "esempio.c"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function "mia_funzione", line 34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4C55-342B-44C4-AA5A-E4AD28A93D61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4B47A-F079-410B-9A3E-8E3AFE936D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5:04:14Z</dcterms:created>
  <dc:creator>Emanuela  Fachini</dc:creator>
  <dc:description/>
  <dc:language>en-US</dc:language>
  <cp:lastModifiedBy>Emanuela  Fachini</cp:lastModifiedBy>
  <dcterms:modified xsi:type="dcterms:W3CDTF">2006-03-11T11:28:33Z</dcterms:modified>
  <cp:revision>19</cp:revision>
  <dc:subject/>
  <dc:title>Presentazione di PowerPoint</dc:title>
</cp:coreProperties>
</file>