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CD8F-2054-497C-B5B3-66DB174518C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EA4-E41A-4A61-BF57-3F92CE64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A8E-4410-4379-8F2C-31A79BE8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8E5-52B3-4E09-8835-B94417FD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23C-D1C4-42A3-8E6E-F93AAA39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353A-F5F0-4B20-B8A9-8A7BD9C3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3FB1-40A9-4313-BD03-E6987F36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4285-FC49-4101-A3A1-EFBC9893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46DC-8189-4130-AC4D-CB830493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1830-81E0-42C9-8C3A-7A65F1C3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105E-B7F8-4BD8-AF0D-C3EDE381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16C9-1B78-45D5-B82C-37B576BE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400-5D29-4E1C-BC5D-1FB80DB9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16E3-17B1-4181-BD67-A289DB57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15F0-25FC-45FF-AFB3-0A1A2E8D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65FB-A27D-430A-9C26-7713998C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F736-653D-4719-941F-FEF2912A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AB2E-C6E0-424F-ACAC-60F4AA4D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D29-AA69-422D-8D3C-6B7D9DAF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BFD-2A19-44E8-BCB2-20F7656A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8BB-5727-4CF8-800D-AEDB04DA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C31-AFA1-47A4-9F28-B6D5E7CF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E42-5F64-4A5C-BA56-81D71E84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A90-D8E3-45B0-B8EC-36F95369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95E-D6BE-4310-AF98-0731B738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1000" indent="-177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712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8E22-24D6-4776-9486-CC0F5C357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6066-D423-457F-8F06-ABD2937D7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16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036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zione del 09/05/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asso 1 richiede costo O(n log n) sia per il TDE che per le somme prefi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ascuna iterazione del passo 2 richiede tempo costante. Ad ogni iterazione il vettore A dimezza, quindi in O(log n) iterazioni l’algoritmo ter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osto complessivo è quindi O(n log n) su PRAM EREW con n processo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F39-1912-4A9A-A8BB-216F04EFB4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Operazione di r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o un albero binario T, radicato in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con la proprietà 0/2 ed una fogli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in T tale che p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r l’operazion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ake(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trasforma T in T' eliminand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e unendo il fratello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l padre del pad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' = V \ {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' = E \ {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,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,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,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573200" y="3212280"/>
            <a:ext cx="5997600" cy="1872360"/>
            <a:chOff x="1573200" y="3212280"/>
            <a:chExt cx="5997600" cy="1872360"/>
          </a:xfrm>
        </p:grpSpPr>
        <p:sp>
          <p:nvSpPr>
            <p:cNvPr id="96" name=""/>
            <p:cNvSpPr/>
            <p:nvPr/>
          </p:nvSpPr>
          <p:spPr>
            <a:xfrm>
              <a:off x="1573200" y="4652640"/>
              <a:ext cx="792000" cy="432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92480" y="3933720"/>
              <a:ext cx="360360" cy="35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89200" y="4437000"/>
              <a:ext cx="360360" cy="35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7200" y="4437000"/>
              <a:ext cx="360360" cy="35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97200" y="342864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"/>
            <p:cNvCxnSpPr>
              <a:stCxn id="97" idx="5"/>
              <a:endCxn id="99" idx="1"/>
            </p:cNvCxnSpPr>
            <p:nvPr/>
          </p:nvCxnSpPr>
          <p:spPr>
            <a:xfrm>
              <a:off x="2600280" y="4240080"/>
              <a:ext cx="249840" cy="24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" name=""/>
            <p:cNvCxnSpPr>
              <a:stCxn id="97" idx="3"/>
              <a:endCxn id="98" idx="7"/>
            </p:cNvCxnSpPr>
            <p:nvPr/>
          </p:nvCxnSpPr>
          <p:spPr>
            <a:xfrm flipH="1">
              <a:off x="2096640" y="4240080"/>
              <a:ext cx="248400" cy="24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"/>
            <p:cNvCxnSpPr>
              <a:stCxn id="100" idx="3"/>
              <a:endCxn id="97" idx="7"/>
            </p:cNvCxnSpPr>
            <p:nvPr/>
          </p:nvCxnSpPr>
          <p:spPr>
            <a:xfrm flipH="1">
              <a:off x="2599920" y="3735360"/>
              <a:ext cx="249840" cy="25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" name=""/>
            <p:cNvCxnSpPr>
              <a:stCxn id="100" idx="5"/>
              <a:endCxn id="105" idx="0"/>
            </p:cNvCxnSpPr>
            <p:nvPr/>
          </p:nvCxnSpPr>
          <p:spPr>
            <a:xfrm>
              <a:off x="3104640" y="3735000"/>
              <a:ext cx="342360" cy="270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05" name=""/>
            <p:cNvSpPr/>
            <p:nvPr/>
          </p:nvSpPr>
          <p:spPr>
            <a:xfrm>
              <a:off x="3228840" y="4005000"/>
              <a:ext cx="433440" cy="287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1720" y="4652640"/>
              <a:ext cx="792000" cy="432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7360" y="4437000"/>
              <a:ext cx="360720" cy="35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05720" y="342864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08" idx="3"/>
              <a:endCxn id="107" idx="7"/>
            </p:cNvCxnSpPr>
            <p:nvPr/>
          </p:nvCxnSpPr>
          <p:spPr>
            <a:xfrm flipH="1">
              <a:off x="6005160" y="3735360"/>
              <a:ext cx="753120" cy="75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>
              <a:stCxn id="108" idx="5"/>
              <a:endCxn id="111" idx="0"/>
            </p:cNvCxnSpPr>
            <p:nvPr/>
          </p:nvCxnSpPr>
          <p:spPr>
            <a:xfrm>
              <a:off x="7013520" y="3735000"/>
              <a:ext cx="342000" cy="270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1" name=""/>
            <p:cNvSpPr/>
            <p:nvPr/>
          </p:nvSpPr>
          <p:spPr>
            <a:xfrm>
              <a:off x="7137360" y="4005000"/>
              <a:ext cx="433440" cy="287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38560" y="4257360"/>
              <a:ext cx="86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8" idx="7"/>
            </p:cNvCxnSpPr>
            <p:nvPr/>
          </p:nvCxnSpPr>
          <p:spPr>
            <a:xfrm flipV="1">
              <a:off x="7013520" y="3212280"/>
              <a:ext cx="246960" cy="2689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4" name=""/>
            <p:cNvCxnSpPr>
              <a:stCxn id="100" idx="7"/>
            </p:cNvCxnSpPr>
            <p:nvPr/>
          </p:nvCxnSpPr>
          <p:spPr>
            <a:xfrm flipV="1">
              <a:off x="3104640" y="3212280"/>
              <a:ext cx="273960" cy="2689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AAB-1893-4C9F-BD4B-43CEF9BD9B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possono aggiungere tanti nodi quanti ne servono per garantire la proprietà 0/2. Ciò richiede tempo costante con O(n) processori e incremento di occupazione di memoria line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 T non è 0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84360" y="3500280"/>
            <a:ext cx="5977080" cy="2374920"/>
            <a:chOff x="1584360" y="3500280"/>
            <a:chExt cx="5977080" cy="2374920"/>
          </a:xfrm>
        </p:grpSpPr>
        <p:grpSp>
          <p:nvGrpSpPr>
            <p:cNvPr id="118" name=""/>
            <p:cNvGrpSpPr/>
            <p:nvPr/>
          </p:nvGrpSpPr>
          <p:grpSpPr>
            <a:xfrm>
              <a:off x="1584360" y="3500280"/>
              <a:ext cx="1368360" cy="2374920"/>
              <a:chOff x="1584360" y="3500280"/>
              <a:chExt cx="1368360" cy="237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1656000" y="5516640"/>
                <a:ext cx="360360" cy="358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84360" y="4508640"/>
                <a:ext cx="360360" cy="358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1" name=""/>
              <p:cNvCxnSpPr>
                <a:stCxn id="122" idx="3"/>
                <a:endCxn id="119" idx="7"/>
              </p:cNvCxnSpPr>
              <p:nvPr/>
            </p:nvCxnSpPr>
            <p:spPr>
              <a:xfrm flipH="1">
                <a:off x="1963440" y="5319720"/>
                <a:ext cx="224640" cy="249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2" name=""/>
              <p:cNvSpPr/>
              <p:nvPr/>
            </p:nvSpPr>
            <p:spPr>
              <a:xfrm>
                <a:off x="2135160" y="5013360"/>
                <a:ext cx="360360" cy="358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" name=""/>
              <p:cNvCxnSpPr>
                <a:stCxn id="120" idx="5"/>
                <a:endCxn id="122" idx="1"/>
              </p:cNvCxnSpPr>
              <p:nvPr/>
            </p:nvCxnSpPr>
            <p:spPr>
              <a:xfrm>
                <a:off x="1892520" y="4815000"/>
                <a:ext cx="295560" cy="250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4" name=""/>
              <p:cNvSpPr/>
              <p:nvPr/>
            </p:nvSpPr>
            <p:spPr>
              <a:xfrm>
                <a:off x="2087640" y="4005360"/>
                <a:ext cx="360360" cy="358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92360" y="3500280"/>
                <a:ext cx="360360" cy="358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6" name=""/>
              <p:cNvCxnSpPr>
                <a:stCxn id="124" idx="3"/>
                <a:endCxn id="120" idx="7"/>
              </p:cNvCxnSpPr>
              <p:nvPr/>
            </p:nvCxnSpPr>
            <p:spPr>
              <a:xfrm flipH="1">
                <a:off x="1892160" y="4311720"/>
                <a:ext cx="248400" cy="249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"/>
              <p:cNvCxnSpPr>
                <a:stCxn id="125" idx="3"/>
                <a:endCxn id="124" idx="7"/>
              </p:cNvCxnSpPr>
              <p:nvPr/>
            </p:nvCxnSpPr>
            <p:spPr>
              <a:xfrm flipH="1">
                <a:off x="2395440" y="3807000"/>
                <a:ext cx="249840" cy="250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8" name=""/>
            <p:cNvGrpSpPr/>
            <p:nvPr/>
          </p:nvGrpSpPr>
          <p:grpSpPr>
            <a:xfrm>
              <a:off x="5137200" y="3500280"/>
              <a:ext cx="2424240" cy="2374920"/>
              <a:chOff x="5137200" y="3500280"/>
              <a:chExt cx="2424240" cy="2374920"/>
            </a:xfrm>
          </p:grpSpPr>
          <p:sp>
            <p:nvSpPr>
              <p:cNvPr id="129" name=""/>
              <p:cNvSpPr/>
              <p:nvPr/>
            </p:nvSpPr>
            <p:spPr>
              <a:xfrm>
                <a:off x="5137200" y="5013360"/>
                <a:ext cx="360360" cy="3589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688000" y="5516640"/>
                <a:ext cx="360360" cy="358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96360" y="5516640"/>
                <a:ext cx="360360" cy="3585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41920" y="4508640"/>
                <a:ext cx="360360" cy="358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" name=""/>
              <p:cNvCxnSpPr>
                <a:stCxn id="134" idx="5"/>
                <a:endCxn id="131" idx="1"/>
              </p:cNvCxnSpPr>
              <p:nvPr/>
            </p:nvCxnSpPr>
            <p:spPr>
              <a:xfrm>
                <a:off x="6500880" y="5319720"/>
                <a:ext cx="248400" cy="249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" name=""/>
              <p:cNvCxnSpPr>
                <a:stCxn id="134" idx="3"/>
                <a:endCxn id="130" idx="7"/>
              </p:cNvCxnSpPr>
              <p:nvPr/>
            </p:nvCxnSpPr>
            <p:spPr>
              <a:xfrm flipH="1">
                <a:off x="5995800" y="5319720"/>
                <a:ext cx="249840" cy="249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"/>
              <p:cNvCxnSpPr>
                <a:stCxn id="132" idx="3"/>
                <a:endCxn id="129" idx="7"/>
              </p:cNvCxnSpPr>
              <p:nvPr/>
            </p:nvCxnSpPr>
            <p:spPr>
              <a:xfrm flipH="1">
                <a:off x="5445000" y="4815000"/>
                <a:ext cx="249840" cy="250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4" name=""/>
              <p:cNvSpPr/>
              <p:nvPr/>
            </p:nvSpPr>
            <p:spPr>
              <a:xfrm>
                <a:off x="6193080" y="5013360"/>
                <a:ext cx="360360" cy="358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7" name=""/>
              <p:cNvCxnSpPr>
                <a:stCxn id="132" idx="5"/>
                <a:endCxn id="134" idx="1"/>
              </p:cNvCxnSpPr>
              <p:nvPr/>
            </p:nvCxnSpPr>
            <p:spPr>
              <a:xfrm>
                <a:off x="5950080" y="4815000"/>
                <a:ext cx="295560" cy="250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8" name=""/>
              <p:cNvSpPr/>
              <p:nvPr/>
            </p:nvSpPr>
            <p:spPr>
              <a:xfrm>
                <a:off x="6145200" y="4005360"/>
                <a:ext cx="360360" cy="358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50280" y="4508640"/>
                <a:ext cx="360360" cy="3585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50280" y="3500280"/>
                <a:ext cx="360360" cy="358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1" name=""/>
              <p:cNvCxnSpPr>
                <a:stCxn id="138" idx="5"/>
                <a:endCxn id="139" idx="1"/>
              </p:cNvCxnSpPr>
              <p:nvPr/>
            </p:nvCxnSpPr>
            <p:spPr>
              <a:xfrm>
                <a:off x="6453360" y="4311720"/>
                <a:ext cx="249840" cy="249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2" name=""/>
              <p:cNvCxnSpPr>
                <a:stCxn id="138" idx="3"/>
                <a:endCxn id="132" idx="7"/>
              </p:cNvCxnSpPr>
              <p:nvPr/>
            </p:nvCxnSpPr>
            <p:spPr>
              <a:xfrm flipH="1">
                <a:off x="5949720" y="4311720"/>
                <a:ext cx="248400" cy="249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3" name=""/>
              <p:cNvCxnSpPr>
                <a:stCxn id="140" idx="3"/>
                <a:endCxn id="138" idx="7"/>
              </p:cNvCxnSpPr>
              <p:nvPr/>
            </p:nvCxnSpPr>
            <p:spPr>
              <a:xfrm flipH="1">
                <a:off x="6453000" y="3807000"/>
                <a:ext cx="249840" cy="250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4" name=""/>
              <p:cNvSpPr/>
              <p:nvPr/>
            </p:nvSpPr>
            <p:spPr>
              <a:xfrm>
                <a:off x="7201080" y="4005360"/>
                <a:ext cx="360360" cy="3585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5" name=""/>
              <p:cNvCxnSpPr>
                <a:stCxn id="140" idx="5"/>
                <a:endCxn id="144" idx="1"/>
              </p:cNvCxnSpPr>
              <p:nvPr/>
            </p:nvCxnSpPr>
            <p:spPr>
              <a:xfrm>
                <a:off x="6958080" y="3807000"/>
                <a:ext cx="295560" cy="250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46" name=""/>
            <p:cNvSpPr/>
            <p:nvPr/>
          </p:nvSpPr>
          <p:spPr>
            <a:xfrm>
              <a:off x="3613320" y="468792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2E4-690B-4DDF-A58B-88B10D2F93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operazione di Contr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mite ripetute applicazioni del rake vogliamo ridurre l’albero iniziale T in un albero di tre nodi: la radice e due foglie (quella più a sinistra e quella più a destra in 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blema: bisogna evitare il rake concorrente di foglie con lo stesso padre o con padri adiacenti per evitare risultati inconsiste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4680" y="4258800"/>
            <a:ext cx="2059560" cy="2174400"/>
            <a:chOff x="3244680" y="4258800"/>
            <a:chExt cx="2059560" cy="2174400"/>
          </a:xfrm>
        </p:grpSpPr>
        <p:sp>
          <p:nvSpPr>
            <p:cNvPr id="150" name=""/>
            <p:cNvSpPr/>
            <p:nvPr/>
          </p:nvSpPr>
          <p:spPr>
            <a:xfrm>
              <a:off x="3244680" y="587844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49760" y="537372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>
              <a:stCxn id="151" idx="3"/>
              <a:endCxn id="150" idx="7"/>
            </p:cNvCxnSpPr>
            <p:nvPr/>
          </p:nvCxnSpPr>
          <p:spPr>
            <a:xfrm flipH="1">
              <a:off x="3552480" y="5679720"/>
              <a:ext cx="24984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4254480" y="5877000"/>
              <a:ext cx="360360" cy="35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"/>
            <p:cNvCxnSpPr>
              <a:stCxn id="151" idx="5"/>
              <a:endCxn id="153" idx="1"/>
            </p:cNvCxnSpPr>
            <p:nvPr/>
          </p:nvCxnSpPr>
          <p:spPr>
            <a:xfrm>
              <a:off x="4057560" y="5680080"/>
              <a:ext cx="249840" cy="24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" name=""/>
            <p:cNvSpPr/>
            <p:nvPr/>
          </p:nvSpPr>
          <p:spPr>
            <a:xfrm>
              <a:off x="4252680" y="487044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57760" y="537372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57760" y="4365720"/>
              <a:ext cx="360360" cy="35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"/>
            <p:cNvCxnSpPr>
              <a:stCxn id="155" idx="5"/>
              <a:endCxn id="156" idx="1"/>
            </p:cNvCxnSpPr>
            <p:nvPr/>
          </p:nvCxnSpPr>
          <p:spPr>
            <a:xfrm>
              <a:off x="4560840" y="5176800"/>
              <a:ext cx="249840" cy="24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"/>
            <p:cNvCxnSpPr>
              <a:stCxn id="155" idx="3"/>
              <a:endCxn id="151" idx="7"/>
            </p:cNvCxnSpPr>
            <p:nvPr/>
          </p:nvCxnSpPr>
          <p:spPr>
            <a:xfrm flipH="1">
              <a:off x="4057200" y="5176800"/>
              <a:ext cx="248400" cy="24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" name=""/>
            <p:cNvCxnSpPr>
              <a:stCxn id="157" idx="3"/>
              <a:endCxn id="155" idx="7"/>
            </p:cNvCxnSpPr>
            <p:nvPr/>
          </p:nvCxnSpPr>
          <p:spPr>
            <a:xfrm flipH="1">
              <a:off x="4560480" y="4671720"/>
              <a:ext cx="24984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"/>
            <p:cNvCxnSpPr>
              <a:endCxn id="157" idx="7"/>
            </p:cNvCxnSpPr>
            <p:nvPr/>
          </p:nvCxnSpPr>
          <p:spPr>
            <a:xfrm flipH="1">
              <a:off x="5065560" y="4258800"/>
              <a:ext cx="17820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62" name=""/>
            <p:cNvSpPr/>
            <p:nvPr/>
          </p:nvSpPr>
          <p:spPr>
            <a:xfrm rot="2700000">
              <a:off x="4039560" y="5052960"/>
              <a:ext cx="1271880" cy="506520"/>
            </a:xfrm>
            <a:prstGeom prst="roundRect">
              <a:avLst>
                <a:gd name="adj" fmla="val 39926"/>
              </a:avLst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700000">
              <a:off x="3544200" y="5551200"/>
              <a:ext cx="1271520" cy="506520"/>
            </a:xfrm>
            <a:prstGeom prst="roundRect">
              <a:avLst>
                <a:gd name="adj" fmla="val 39926"/>
              </a:avLst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859320" y="4372920"/>
            <a:ext cx="1717920" cy="1257120"/>
            <a:chOff x="859320" y="4372920"/>
            <a:chExt cx="1717920" cy="1257120"/>
          </a:xfrm>
        </p:grpSpPr>
        <p:sp>
          <p:nvSpPr>
            <p:cNvPr id="165" name=""/>
            <p:cNvSpPr/>
            <p:nvPr/>
          </p:nvSpPr>
          <p:spPr>
            <a:xfrm>
              <a:off x="1025640" y="509436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19200" y="4591080"/>
              <a:ext cx="36072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"/>
            <p:cNvCxnSpPr>
              <a:stCxn id="166" idx="3"/>
              <a:endCxn id="165" idx="7"/>
            </p:cNvCxnSpPr>
            <p:nvPr/>
          </p:nvCxnSpPr>
          <p:spPr>
            <a:xfrm flipH="1">
              <a:off x="1333080" y="4897440"/>
              <a:ext cx="238680" cy="24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2033640" y="509436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u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"/>
            <p:cNvCxnSpPr>
              <a:stCxn id="166" idx="5"/>
              <a:endCxn id="168" idx="1"/>
            </p:cNvCxnSpPr>
            <p:nvPr/>
          </p:nvCxnSpPr>
          <p:spPr>
            <a:xfrm>
              <a:off x="1827000" y="4897440"/>
              <a:ext cx="259560" cy="24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"/>
            <p:cNvCxnSpPr>
              <a:endCxn id="166" idx="7"/>
            </p:cNvCxnSpPr>
            <p:nvPr/>
          </p:nvCxnSpPr>
          <p:spPr>
            <a:xfrm flipH="1">
              <a:off x="1827000" y="4393800"/>
              <a:ext cx="248400" cy="2502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71" name=""/>
            <p:cNvSpPr/>
            <p:nvPr/>
          </p:nvSpPr>
          <p:spPr>
            <a:xfrm rot="2700000">
              <a:off x="1312560" y="4748040"/>
              <a:ext cx="1271520" cy="506520"/>
            </a:xfrm>
            <a:prstGeom prst="roundRect">
              <a:avLst>
                <a:gd name="adj" fmla="val 39926"/>
              </a:avLst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8900000">
              <a:off x="851040" y="4789080"/>
              <a:ext cx="1182600" cy="466920"/>
            </a:xfrm>
            <a:prstGeom prst="roundRect">
              <a:avLst>
                <a:gd name="adj" fmla="val 39926"/>
              </a:avLst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101640" y="4271760"/>
            <a:ext cx="2252160" cy="2174400"/>
            <a:chOff x="6101640" y="4271760"/>
            <a:chExt cx="2252160" cy="2174400"/>
          </a:xfrm>
        </p:grpSpPr>
        <p:sp>
          <p:nvSpPr>
            <p:cNvPr id="174" name=""/>
            <p:cNvSpPr/>
            <p:nvPr/>
          </p:nvSpPr>
          <p:spPr>
            <a:xfrm>
              <a:off x="6294240" y="589104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99320" y="538632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"/>
            <p:cNvCxnSpPr>
              <a:stCxn id="175" idx="3"/>
              <a:endCxn id="174" idx="7"/>
            </p:cNvCxnSpPr>
            <p:nvPr/>
          </p:nvCxnSpPr>
          <p:spPr>
            <a:xfrm flipH="1">
              <a:off x="6602040" y="5692320"/>
              <a:ext cx="24984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7304040" y="588960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5" idx="5"/>
              <a:endCxn id="177" idx="1"/>
            </p:cNvCxnSpPr>
            <p:nvPr/>
          </p:nvCxnSpPr>
          <p:spPr>
            <a:xfrm>
              <a:off x="7106760" y="5692320"/>
              <a:ext cx="250200" cy="25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302600" y="488304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07320" y="538632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07320" y="4378320"/>
              <a:ext cx="36036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79" idx="5"/>
              <a:endCxn id="180" idx="1"/>
            </p:cNvCxnSpPr>
            <p:nvPr/>
          </p:nvCxnSpPr>
          <p:spPr>
            <a:xfrm>
              <a:off x="7610400" y="5189040"/>
              <a:ext cx="249840" cy="25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9" idx="3"/>
              <a:endCxn id="175" idx="7"/>
            </p:cNvCxnSpPr>
            <p:nvPr/>
          </p:nvCxnSpPr>
          <p:spPr>
            <a:xfrm flipH="1">
              <a:off x="7106760" y="5189040"/>
              <a:ext cx="248400" cy="25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81" idx="3"/>
              <a:endCxn id="179" idx="7"/>
            </p:cNvCxnSpPr>
            <p:nvPr/>
          </p:nvCxnSpPr>
          <p:spPr>
            <a:xfrm flipH="1">
              <a:off x="7610040" y="4684320"/>
              <a:ext cx="24984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endCxn id="181" idx="7"/>
            </p:cNvCxnSpPr>
            <p:nvPr/>
          </p:nvCxnSpPr>
          <p:spPr>
            <a:xfrm flipH="1">
              <a:off x="8115120" y="4271760"/>
              <a:ext cx="17820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6" name=""/>
            <p:cNvSpPr/>
            <p:nvPr/>
          </p:nvSpPr>
          <p:spPr>
            <a:xfrm rot="2700000">
              <a:off x="7089120" y="5065560"/>
              <a:ext cx="1271520" cy="506520"/>
            </a:xfrm>
            <a:prstGeom prst="roundRect">
              <a:avLst>
                <a:gd name="adj" fmla="val 39926"/>
              </a:avLst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8900000">
              <a:off x="6094440" y="5564160"/>
              <a:ext cx="1271520" cy="506520"/>
            </a:xfrm>
            <a:prstGeom prst="roundRect">
              <a:avLst>
                <a:gd name="adj" fmla="val 39926"/>
              </a:avLst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4AD-4D4A-4278-99CC-1078D43C20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vitare il rake concorrente di foglie con l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esso pad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po averle numerate da sinistra a destra, si esegue il rake in parallelo su foglie a numerazione alte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vitare il rake concorrente di foglie con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dri adiacent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ra le foglie a numerazione alterna selezionate, si eliminano prima quelle che sono figli sinistri e in seguito quelle che sono figli dest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48040" y="4989240"/>
            <a:ext cx="2084760" cy="1339200"/>
            <a:chOff x="3848040" y="4989240"/>
            <a:chExt cx="2084760" cy="1339200"/>
          </a:xfrm>
        </p:grpSpPr>
        <p:sp>
          <p:nvSpPr>
            <p:cNvPr id="191" name=""/>
            <p:cNvSpPr/>
            <p:nvPr/>
          </p:nvSpPr>
          <p:spPr>
            <a:xfrm>
              <a:off x="3848040" y="5999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59080" y="5972040"/>
              <a:ext cx="292320" cy="292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0560" y="5560920"/>
              <a:ext cx="291960" cy="292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" name=""/>
            <p:cNvCxnSpPr>
              <a:stCxn id="193" idx="3"/>
              <a:endCxn id="192" idx="7"/>
            </p:cNvCxnSpPr>
            <p:nvPr/>
          </p:nvCxnSpPr>
          <p:spPr>
            <a:xfrm flipH="1">
              <a:off x="4409640" y="5810400"/>
              <a:ext cx="202320" cy="20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5" name=""/>
            <p:cNvSpPr/>
            <p:nvPr/>
          </p:nvSpPr>
          <p:spPr>
            <a:xfrm>
              <a:off x="4981680" y="5970600"/>
              <a:ext cx="291960" cy="291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"/>
            <p:cNvCxnSpPr>
              <a:stCxn id="193" idx="5"/>
              <a:endCxn id="195" idx="1"/>
            </p:cNvCxnSpPr>
            <p:nvPr/>
          </p:nvCxnSpPr>
          <p:spPr>
            <a:xfrm>
              <a:off x="4821120" y="5810400"/>
              <a:ext cx="202320" cy="20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"/>
            <p:cNvSpPr/>
            <p:nvPr/>
          </p:nvSpPr>
          <p:spPr>
            <a:xfrm>
              <a:off x="4979880" y="5151600"/>
              <a:ext cx="293760" cy="291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91000" y="5560920"/>
              <a:ext cx="293760" cy="292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"/>
            <p:cNvCxnSpPr>
              <a:stCxn id="197" idx="5"/>
              <a:endCxn id="198" idx="1"/>
            </p:cNvCxnSpPr>
            <p:nvPr/>
          </p:nvCxnSpPr>
          <p:spPr>
            <a:xfrm>
              <a:off x="5230800" y="5400720"/>
              <a:ext cx="203760" cy="20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97" idx="3"/>
              <a:endCxn id="193" idx="7"/>
            </p:cNvCxnSpPr>
            <p:nvPr/>
          </p:nvCxnSpPr>
          <p:spPr>
            <a:xfrm flipH="1">
              <a:off x="4820760" y="5400720"/>
              <a:ext cx="202320" cy="20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endCxn id="197" idx="7"/>
            </p:cNvCxnSpPr>
            <p:nvPr/>
          </p:nvCxnSpPr>
          <p:spPr>
            <a:xfrm flipH="1">
              <a:off x="5230440" y="4989240"/>
              <a:ext cx="203760" cy="2055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5294160" y="6021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53080" y="5589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875200" y="2506320"/>
            <a:ext cx="1714680" cy="942480"/>
            <a:chOff x="5875200" y="2506320"/>
            <a:chExt cx="1714680" cy="942480"/>
          </a:xfrm>
        </p:grpSpPr>
        <p:sp>
          <p:nvSpPr>
            <p:cNvPr id="205" name=""/>
            <p:cNvSpPr/>
            <p:nvPr/>
          </p:nvSpPr>
          <p:spPr>
            <a:xfrm>
              <a:off x="6195960" y="3086280"/>
              <a:ext cx="292320" cy="291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97720" y="2676600"/>
              <a:ext cx="291960" cy="291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" name=""/>
            <p:cNvCxnSpPr>
              <a:stCxn id="206" idx="3"/>
              <a:endCxn id="205" idx="7"/>
            </p:cNvCxnSpPr>
            <p:nvPr/>
          </p:nvCxnSpPr>
          <p:spPr>
            <a:xfrm flipH="1">
              <a:off x="6444720" y="2925720"/>
              <a:ext cx="19440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8" name=""/>
            <p:cNvSpPr/>
            <p:nvPr/>
          </p:nvSpPr>
          <p:spPr>
            <a:xfrm>
              <a:off x="7015320" y="3086280"/>
              <a:ext cx="293400" cy="291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u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6" idx="5"/>
              <a:endCxn id="208" idx="1"/>
            </p:cNvCxnSpPr>
            <p:nvPr/>
          </p:nvCxnSpPr>
          <p:spPr>
            <a:xfrm>
              <a:off x="6846480" y="2925720"/>
              <a:ext cx="21204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endCxn id="206" idx="1"/>
            </p:cNvCxnSpPr>
            <p:nvPr/>
          </p:nvCxnSpPr>
          <p:spPr>
            <a:xfrm>
              <a:off x="6418080" y="2506320"/>
              <a:ext cx="222840" cy="2134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7310160" y="3141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75200" y="3141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B52-8218-4B48-B1E6-F7D71C97AA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 per la Contr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T albero binario 0/2 radicato i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T ridotto di 3 n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umerare le foglie da sinistra a destra esclusi gli estremi e memorizzarle in un vetto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T ha più di 3 no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840" indent="-4431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lica il rake in parallelo alle foglie in 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ispar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he sono figli sinis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840" indent="-4431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lica il rake in parallelo alle foglie in 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ispar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he sono figli des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840" indent="-4431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= 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p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1CE-F71B-4A8F-A268-6725E2BECA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98600" y="2238480"/>
            <a:ext cx="3857040" cy="2054160"/>
            <a:chOff x="498600" y="2238480"/>
            <a:chExt cx="3857040" cy="2054160"/>
          </a:xfrm>
        </p:grpSpPr>
        <p:sp>
          <p:nvSpPr>
            <p:cNvPr id="217" name=""/>
            <p:cNvSpPr/>
            <p:nvPr/>
          </p:nvSpPr>
          <p:spPr>
            <a:xfrm>
              <a:off x="498600" y="331812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0280" y="367668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9560" y="367668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8600" y="295776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>
              <a:stCxn id="222" idx="5"/>
              <a:endCxn id="219" idx="1"/>
            </p:cNvCxnSpPr>
            <p:nvPr/>
          </p:nvCxnSpPr>
          <p:spPr>
            <a:xfrm>
              <a:off x="1470960" y="3535560"/>
              <a:ext cx="17676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" name=""/>
            <p:cNvCxnSpPr>
              <a:stCxn id="222" idx="3"/>
              <a:endCxn id="218" idx="7"/>
            </p:cNvCxnSpPr>
            <p:nvPr/>
          </p:nvCxnSpPr>
          <p:spPr>
            <a:xfrm flipH="1">
              <a:off x="1110240" y="3535560"/>
              <a:ext cx="17820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" name=""/>
            <p:cNvCxnSpPr>
              <a:stCxn id="220" idx="3"/>
              <a:endCxn id="217" idx="7"/>
            </p:cNvCxnSpPr>
            <p:nvPr/>
          </p:nvCxnSpPr>
          <p:spPr>
            <a:xfrm flipH="1">
              <a:off x="716400" y="3176640"/>
              <a:ext cx="17820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2" name=""/>
            <p:cNvSpPr/>
            <p:nvPr/>
          </p:nvSpPr>
          <p:spPr>
            <a:xfrm>
              <a:off x="1250640" y="331812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0" idx="5"/>
              <a:endCxn id="222" idx="1"/>
            </p:cNvCxnSpPr>
            <p:nvPr/>
          </p:nvCxnSpPr>
          <p:spPr>
            <a:xfrm>
              <a:off x="1077480" y="3176640"/>
              <a:ext cx="21168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6" name=""/>
            <p:cNvSpPr/>
            <p:nvPr/>
          </p:nvSpPr>
          <p:spPr>
            <a:xfrm>
              <a:off x="1217520" y="259884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77880" y="295776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82600" y="223848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"/>
            <p:cNvCxnSpPr>
              <a:stCxn id="226" idx="5"/>
              <a:endCxn id="227" idx="1"/>
            </p:cNvCxnSpPr>
            <p:nvPr/>
          </p:nvCxnSpPr>
          <p:spPr>
            <a:xfrm>
              <a:off x="1436040" y="2816280"/>
              <a:ext cx="17820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0" name=""/>
            <p:cNvCxnSpPr>
              <a:stCxn id="226" idx="3"/>
              <a:endCxn id="220" idx="7"/>
            </p:cNvCxnSpPr>
            <p:nvPr/>
          </p:nvCxnSpPr>
          <p:spPr>
            <a:xfrm flipH="1">
              <a:off x="1076760" y="2816280"/>
              <a:ext cx="17676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1" name=""/>
            <p:cNvCxnSpPr>
              <a:stCxn id="228" idx="3"/>
              <a:endCxn id="226" idx="7"/>
            </p:cNvCxnSpPr>
            <p:nvPr/>
          </p:nvCxnSpPr>
          <p:spPr>
            <a:xfrm flipH="1">
              <a:off x="1436040" y="2455560"/>
              <a:ext cx="68472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2" name=""/>
            <p:cNvCxnSpPr>
              <a:stCxn id="228" idx="5"/>
              <a:endCxn id="233" idx="1"/>
            </p:cNvCxnSpPr>
            <p:nvPr/>
          </p:nvCxnSpPr>
          <p:spPr>
            <a:xfrm>
              <a:off x="2301480" y="2455560"/>
              <a:ext cx="75600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1236240" y="4037040"/>
              <a:ext cx="25704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55520" y="403704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6" name=""/>
            <p:cNvCxnSpPr>
              <a:stCxn id="219" idx="5"/>
              <a:endCxn id="235" idx="1"/>
            </p:cNvCxnSpPr>
            <p:nvPr/>
          </p:nvCxnSpPr>
          <p:spPr>
            <a:xfrm>
              <a:off x="1828440" y="3893760"/>
              <a:ext cx="16560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19" idx="3"/>
              <a:endCxn id="234" idx="7"/>
            </p:cNvCxnSpPr>
            <p:nvPr/>
          </p:nvCxnSpPr>
          <p:spPr>
            <a:xfrm flipH="1">
              <a:off x="1454760" y="3893760"/>
              <a:ext cx="19260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8" name=""/>
            <p:cNvSpPr/>
            <p:nvPr/>
          </p:nvSpPr>
          <p:spPr>
            <a:xfrm>
              <a:off x="1979280" y="3319560"/>
              <a:ext cx="25704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71320" y="3678480"/>
              <a:ext cx="25704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90600" y="367848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39640" y="2959200"/>
              <a:ext cx="25704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"/>
            <p:cNvCxnSpPr>
              <a:stCxn id="243" idx="5"/>
              <a:endCxn id="240" idx="1"/>
            </p:cNvCxnSpPr>
            <p:nvPr/>
          </p:nvCxnSpPr>
          <p:spPr>
            <a:xfrm>
              <a:off x="2950560" y="3536640"/>
              <a:ext cx="178200" cy="18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" name=""/>
            <p:cNvCxnSpPr>
              <a:stCxn id="243" idx="3"/>
              <a:endCxn id="239" idx="7"/>
            </p:cNvCxnSpPr>
            <p:nvPr/>
          </p:nvCxnSpPr>
          <p:spPr>
            <a:xfrm flipH="1">
              <a:off x="2589840" y="3536640"/>
              <a:ext cx="179640" cy="18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"/>
            <p:cNvCxnSpPr>
              <a:stCxn id="241" idx="3"/>
              <a:endCxn id="238" idx="7"/>
            </p:cNvCxnSpPr>
            <p:nvPr/>
          </p:nvCxnSpPr>
          <p:spPr>
            <a:xfrm flipH="1">
              <a:off x="2197800" y="3176280"/>
              <a:ext cx="17964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3" name=""/>
            <p:cNvSpPr/>
            <p:nvPr/>
          </p:nvSpPr>
          <p:spPr>
            <a:xfrm>
              <a:off x="2731680" y="3319560"/>
              <a:ext cx="25704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"/>
            <p:cNvCxnSpPr>
              <a:stCxn id="241" idx="5"/>
              <a:endCxn id="243" idx="1"/>
            </p:cNvCxnSpPr>
            <p:nvPr/>
          </p:nvCxnSpPr>
          <p:spPr>
            <a:xfrm>
              <a:off x="2558520" y="3176280"/>
              <a:ext cx="21132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3019320" y="259884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"/>
            <p:cNvCxnSpPr>
              <a:stCxn id="233" idx="3"/>
              <a:endCxn id="241" idx="7"/>
            </p:cNvCxnSpPr>
            <p:nvPr/>
          </p:nvCxnSpPr>
          <p:spPr>
            <a:xfrm flipH="1">
              <a:off x="2558160" y="2815920"/>
              <a:ext cx="49860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8" name=""/>
            <p:cNvSpPr/>
            <p:nvPr/>
          </p:nvSpPr>
          <p:spPr>
            <a:xfrm>
              <a:off x="3379680" y="331812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8600" y="3318120"/>
              <a:ext cx="25704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"/>
            <p:cNvCxnSpPr>
              <a:stCxn id="251" idx="5"/>
              <a:endCxn id="249" idx="1"/>
            </p:cNvCxnSpPr>
            <p:nvPr/>
          </p:nvCxnSpPr>
          <p:spPr>
            <a:xfrm>
              <a:off x="3958560" y="3176280"/>
              <a:ext cx="178200" cy="18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2" name=""/>
            <p:cNvCxnSpPr>
              <a:stCxn id="251" idx="3"/>
              <a:endCxn id="248" idx="7"/>
            </p:cNvCxnSpPr>
            <p:nvPr/>
          </p:nvCxnSpPr>
          <p:spPr>
            <a:xfrm flipH="1">
              <a:off x="3597840" y="3176280"/>
              <a:ext cx="179640" cy="18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1" name=""/>
            <p:cNvSpPr/>
            <p:nvPr/>
          </p:nvSpPr>
          <p:spPr>
            <a:xfrm>
              <a:off x="3740040" y="2959200"/>
              <a:ext cx="256680" cy="25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" name=""/>
            <p:cNvCxnSpPr>
              <a:stCxn id="233" idx="5"/>
              <a:endCxn id="251" idx="1"/>
            </p:cNvCxnSpPr>
            <p:nvPr/>
          </p:nvCxnSpPr>
          <p:spPr>
            <a:xfrm>
              <a:off x="3238200" y="2815920"/>
              <a:ext cx="54000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54" name=""/>
          <p:cNvSpPr/>
          <p:nvPr/>
        </p:nvSpPr>
        <p:spPr>
          <a:xfrm>
            <a:off x="468720" y="148428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5113440"/>
          <a:ext cx="2347920" cy="691920"/>
        </p:xfrm>
        <a:graphic>
          <a:graphicData uri="http://schemas.openxmlformats.org/drawingml/2006/table">
            <a:tbl>
              <a:tblPr/>
              <a:tblGrid>
                <a:gridCol w="262080"/>
                <a:gridCol w="258480"/>
                <a:gridCol w="262080"/>
                <a:gridCol w="260280"/>
                <a:gridCol w="262080"/>
                <a:gridCol w="261720"/>
                <a:gridCol w="258840"/>
                <a:gridCol w="262080"/>
                <a:gridCol w="260280"/>
              </a:tblGrid>
              <a:tr h="3466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638960" y="5877000"/>
            <a:ext cx="23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o 2.3 aggiorn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37880" y="134136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sso 2.1 rake su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d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7880" y="357336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sso 2.2 rake su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d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236000" y="5589720"/>
          <a:ext cx="1303200" cy="691920"/>
        </p:xfrm>
        <a:graphic>
          <a:graphicData uri="http://schemas.openxmlformats.org/drawingml/2006/table">
            <a:tbl>
              <a:tblPr/>
              <a:tblGrid>
                <a:gridCol w="261720"/>
                <a:gridCol w="258840"/>
                <a:gridCol w="262080"/>
                <a:gridCol w="260280"/>
                <a:gridCol w="260280"/>
              </a:tblGrid>
              <a:tr h="3466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pSp>
        <p:nvGrpSpPr>
          <p:cNvPr id="260" name=""/>
          <p:cNvGrpSpPr/>
          <p:nvPr/>
        </p:nvGrpSpPr>
        <p:grpSpPr>
          <a:xfrm>
            <a:off x="4889520" y="1733400"/>
            <a:ext cx="3497040" cy="1536480"/>
            <a:chOff x="4889520" y="1733400"/>
            <a:chExt cx="3497040" cy="1536480"/>
          </a:xfrm>
        </p:grpSpPr>
        <p:sp>
          <p:nvSpPr>
            <p:cNvPr id="261" name=""/>
            <p:cNvSpPr/>
            <p:nvPr/>
          </p:nvSpPr>
          <p:spPr>
            <a:xfrm>
              <a:off x="4889520" y="2711520"/>
              <a:ext cx="23292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54080" y="2711520"/>
              <a:ext cx="23328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6040" y="2385000"/>
              <a:ext cx="23292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"/>
            <p:cNvCxnSpPr>
              <a:stCxn id="263" idx="3"/>
              <a:endCxn id="261" idx="7"/>
            </p:cNvCxnSpPr>
            <p:nvPr/>
          </p:nvCxnSpPr>
          <p:spPr>
            <a:xfrm flipH="1">
              <a:off x="5087520" y="2583360"/>
              <a:ext cx="161640" cy="16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5" name=""/>
            <p:cNvCxnSpPr>
              <a:stCxn id="263" idx="5"/>
              <a:endCxn id="262" idx="1"/>
            </p:cNvCxnSpPr>
            <p:nvPr/>
          </p:nvCxnSpPr>
          <p:spPr>
            <a:xfrm>
              <a:off x="5414400" y="2581920"/>
              <a:ext cx="174600" cy="16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66" name=""/>
            <p:cNvSpPr/>
            <p:nvPr/>
          </p:nvSpPr>
          <p:spPr>
            <a:xfrm>
              <a:off x="5541480" y="2059920"/>
              <a:ext cx="23292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68000" y="2385000"/>
              <a:ext cx="23292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25560" y="1733400"/>
              <a:ext cx="23292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9" name=""/>
            <p:cNvCxnSpPr>
              <a:stCxn id="266" idx="5"/>
              <a:endCxn id="267" idx="1"/>
            </p:cNvCxnSpPr>
            <p:nvPr/>
          </p:nvCxnSpPr>
          <p:spPr>
            <a:xfrm>
              <a:off x="5739480" y="2256840"/>
              <a:ext cx="161640" cy="16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0" name=""/>
            <p:cNvCxnSpPr>
              <a:stCxn id="266" idx="3"/>
              <a:endCxn id="263" idx="7"/>
            </p:cNvCxnSpPr>
            <p:nvPr/>
          </p:nvCxnSpPr>
          <p:spPr>
            <a:xfrm flipH="1">
              <a:off x="5414040" y="2256840"/>
              <a:ext cx="160200" cy="16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>
              <a:stCxn id="268" idx="3"/>
              <a:endCxn id="266" idx="7"/>
            </p:cNvCxnSpPr>
            <p:nvPr/>
          </p:nvCxnSpPr>
          <p:spPr>
            <a:xfrm flipH="1">
              <a:off x="5739120" y="1930320"/>
              <a:ext cx="621000" cy="16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2" name=""/>
            <p:cNvCxnSpPr>
              <a:stCxn id="268" idx="5"/>
              <a:endCxn id="273" idx="1"/>
            </p:cNvCxnSpPr>
            <p:nvPr/>
          </p:nvCxnSpPr>
          <p:spPr>
            <a:xfrm>
              <a:off x="6524640" y="1930320"/>
              <a:ext cx="685440" cy="16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4" name=""/>
            <p:cNvSpPr/>
            <p:nvPr/>
          </p:nvSpPr>
          <p:spPr>
            <a:xfrm>
              <a:off x="5216040" y="3038400"/>
              <a:ext cx="23292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8000" y="3038400"/>
              <a:ext cx="23292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6" name=""/>
            <p:cNvCxnSpPr>
              <a:stCxn id="262" idx="5"/>
              <a:endCxn id="275" idx="1"/>
            </p:cNvCxnSpPr>
            <p:nvPr/>
          </p:nvCxnSpPr>
          <p:spPr>
            <a:xfrm>
              <a:off x="5752800" y="2908800"/>
              <a:ext cx="150480" cy="16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7" name=""/>
            <p:cNvCxnSpPr>
              <a:stCxn id="262" idx="3"/>
              <a:endCxn id="274" idx="7"/>
            </p:cNvCxnSpPr>
            <p:nvPr/>
          </p:nvCxnSpPr>
          <p:spPr>
            <a:xfrm flipH="1">
              <a:off x="5414040" y="2908800"/>
              <a:ext cx="174600" cy="16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8" name=""/>
            <p:cNvSpPr/>
            <p:nvPr/>
          </p:nvSpPr>
          <p:spPr>
            <a:xfrm>
              <a:off x="6456600" y="2710440"/>
              <a:ext cx="23328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08560" y="2710440"/>
              <a:ext cx="23292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81" idx="5"/>
              <a:endCxn id="279" idx="1"/>
            </p:cNvCxnSpPr>
            <p:nvPr/>
          </p:nvCxnSpPr>
          <p:spPr>
            <a:xfrm>
              <a:off x="6981840" y="2581920"/>
              <a:ext cx="161640" cy="16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81" idx="3"/>
              <a:endCxn id="278" idx="7"/>
            </p:cNvCxnSpPr>
            <p:nvPr/>
          </p:nvCxnSpPr>
          <p:spPr>
            <a:xfrm flipH="1">
              <a:off x="6654960" y="2581920"/>
              <a:ext cx="162720" cy="16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6783120" y="2385000"/>
              <a:ext cx="23328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73" idx="3"/>
              <a:endCxn id="281" idx="7"/>
            </p:cNvCxnSpPr>
            <p:nvPr/>
          </p:nvCxnSpPr>
          <p:spPr>
            <a:xfrm flipH="1">
              <a:off x="6981480" y="2256840"/>
              <a:ext cx="227880" cy="16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>
              <a:off x="7174800" y="2059920"/>
              <a:ext cx="23292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1680" y="2711520"/>
              <a:ext cx="23292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53280" y="2711520"/>
              <a:ext cx="23328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6" name=""/>
            <p:cNvCxnSpPr>
              <a:stCxn id="287" idx="5"/>
              <a:endCxn id="285" idx="1"/>
            </p:cNvCxnSpPr>
            <p:nvPr/>
          </p:nvCxnSpPr>
          <p:spPr>
            <a:xfrm>
              <a:off x="8026560" y="2583360"/>
              <a:ext cx="161640" cy="16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87" idx="3"/>
              <a:endCxn id="284" idx="7"/>
            </p:cNvCxnSpPr>
            <p:nvPr/>
          </p:nvCxnSpPr>
          <p:spPr>
            <a:xfrm flipH="1">
              <a:off x="7699680" y="2583360"/>
              <a:ext cx="163440" cy="16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7" name=""/>
            <p:cNvSpPr/>
            <p:nvPr/>
          </p:nvSpPr>
          <p:spPr>
            <a:xfrm>
              <a:off x="7828200" y="2386440"/>
              <a:ext cx="23292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73" idx="5"/>
              <a:endCxn id="287" idx="1"/>
            </p:cNvCxnSpPr>
            <p:nvPr/>
          </p:nvCxnSpPr>
          <p:spPr>
            <a:xfrm>
              <a:off x="7373160" y="2257200"/>
              <a:ext cx="489600" cy="16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90" name=""/>
          <p:cNvSpPr/>
          <p:nvPr/>
        </p:nvSpPr>
        <p:spPr>
          <a:xfrm>
            <a:off x="466560" y="478152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o 1 calcol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859280" y="3933720"/>
            <a:ext cx="3600000" cy="1245960"/>
            <a:chOff x="4859280" y="3933720"/>
            <a:chExt cx="3600000" cy="1245960"/>
          </a:xfrm>
        </p:grpSpPr>
        <p:sp>
          <p:nvSpPr>
            <p:cNvPr id="292" name=""/>
            <p:cNvSpPr/>
            <p:nvPr/>
          </p:nvSpPr>
          <p:spPr>
            <a:xfrm>
              <a:off x="4859280" y="4941360"/>
              <a:ext cx="240120" cy="23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4000" y="4941360"/>
              <a:ext cx="239760" cy="23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95520" y="4604760"/>
              <a:ext cx="240120" cy="23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94" idx="3"/>
              <a:endCxn id="292" idx="7"/>
            </p:cNvCxnSpPr>
            <p:nvPr/>
          </p:nvCxnSpPr>
          <p:spPr>
            <a:xfrm flipH="1">
              <a:off x="5063400" y="4807440"/>
              <a:ext cx="167760" cy="169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stCxn id="294" idx="5"/>
              <a:endCxn id="293" idx="1"/>
            </p:cNvCxnSpPr>
            <p:nvPr/>
          </p:nvCxnSpPr>
          <p:spPr>
            <a:xfrm>
              <a:off x="5399640" y="4807440"/>
              <a:ext cx="179640" cy="169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5530320" y="4269960"/>
              <a:ext cx="239760" cy="23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6560" y="4604760"/>
              <a:ext cx="239760" cy="23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37800" y="3933720"/>
              <a:ext cx="240120" cy="23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0" name=""/>
            <p:cNvCxnSpPr>
              <a:stCxn id="297" idx="5"/>
              <a:endCxn id="298" idx="1"/>
            </p:cNvCxnSpPr>
            <p:nvPr/>
          </p:nvCxnSpPr>
          <p:spPr>
            <a:xfrm>
              <a:off x="5734440" y="4473000"/>
              <a:ext cx="168120" cy="1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1" name=""/>
            <p:cNvCxnSpPr>
              <a:stCxn id="297" idx="3"/>
              <a:endCxn id="294" idx="7"/>
            </p:cNvCxnSpPr>
            <p:nvPr/>
          </p:nvCxnSpPr>
          <p:spPr>
            <a:xfrm flipH="1">
              <a:off x="5399280" y="4473000"/>
              <a:ext cx="166680" cy="1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2" name=""/>
            <p:cNvCxnSpPr>
              <a:stCxn id="299" idx="3"/>
              <a:endCxn id="297" idx="7"/>
            </p:cNvCxnSpPr>
            <p:nvPr/>
          </p:nvCxnSpPr>
          <p:spPr>
            <a:xfrm flipH="1">
              <a:off x="5734440" y="4136400"/>
              <a:ext cx="639360" cy="16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3" name=""/>
            <p:cNvCxnSpPr>
              <a:stCxn id="299" idx="5"/>
              <a:endCxn id="304" idx="1"/>
            </p:cNvCxnSpPr>
            <p:nvPr/>
          </p:nvCxnSpPr>
          <p:spPr>
            <a:xfrm>
              <a:off x="6542280" y="4136400"/>
              <a:ext cx="705240" cy="16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5" name=""/>
            <p:cNvSpPr/>
            <p:nvPr/>
          </p:nvSpPr>
          <p:spPr>
            <a:xfrm>
              <a:off x="6808680" y="4604760"/>
              <a:ext cx="240120" cy="23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"/>
            <p:cNvCxnSpPr>
              <a:stCxn id="304" idx="3"/>
              <a:endCxn id="305" idx="7"/>
            </p:cNvCxnSpPr>
            <p:nvPr/>
          </p:nvCxnSpPr>
          <p:spPr>
            <a:xfrm flipH="1">
              <a:off x="7013160" y="4473000"/>
              <a:ext cx="234720" cy="1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4" name=""/>
            <p:cNvSpPr/>
            <p:nvPr/>
          </p:nvSpPr>
          <p:spPr>
            <a:xfrm>
              <a:off x="7211880" y="4269960"/>
              <a:ext cx="239760" cy="23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48480" y="4941360"/>
              <a:ext cx="239760" cy="23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19520" y="4941360"/>
              <a:ext cx="239760" cy="23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" name=""/>
            <p:cNvCxnSpPr>
              <a:stCxn id="310" idx="5"/>
              <a:endCxn id="308" idx="1"/>
            </p:cNvCxnSpPr>
            <p:nvPr/>
          </p:nvCxnSpPr>
          <p:spPr>
            <a:xfrm>
              <a:off x="8088480" y="4809600"/>
              <a:ext cx="166680" cy="1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1" name=""/>
            <p:cNvCxnSpPr>
              <a:stCxn id="310" idx="3"/>
              <a:endCxn id="307" idx="7"/>
            </p:cNvCxnSpPr>
            <p:nvPr/>
          </p:nvCxnSpPr>
          <p:spPr>
            <a:xfrm flipH="1">
              <a:off x="7751880" y="4809600"/>
              <a:ext cx="168120" cy="1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0" name=""/>
            <p:cNvSpPr/>
            <p:nvPr/>
          </p:nvSpPr>
          <p:spPr>
            <a:xfrm>
              <a:off x="7884720" y="4606560"/>
              <a:ext cx="239760" cy="23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2" name=""/>
            <p:cNvCxnSpPr>
              <a:stCxn id="304" idx="5"/>
              <a:endCxn id="310" idx="1"/>
            </p:cNvCxnSpPr>
            <p:nvPr/>
          </p:nvCxnSpPr>
          <p:spPr>
            <a:xfrm>
              <a:off x="7416000" y="4473000"/>
              <a:ext cx="504360" cy="16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13" name=""/>
          <p:cNvSpPr/>
          <p:nvPr/>
        </p:nvSpPr>
        <p:spPr>
          <a:xfrm>
            <a:off x="4549680" y="148428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89000" y="1795320"/>
            <a:ext cx="87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lb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su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95120" y="4011480"/>
            <a:ext cx="87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lb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su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D8B-D0C9-4DBC-B4A1-5BF3E8B2EC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2600" y="5877000"/>
            <a:ext cx="23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o 2.3 aggiorn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2600" y="134136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sso 2.1 rake su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2960" y="357336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sso 2.2 rake su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419640" y="5589720"/>
          <a:ext cx="780840" cy="691920"/>
        </p:xfrm>
        <a:graphic>
          <a:graphicData uri="http://schemas.openxmlformats.org/drawingml/2006/table">
            <a:tbl>
              <a:tblPr/>
              <a:tblGrid>
                <a:gridCol w="261720"/>
                <a:gridCol w="258840"/>
                <a:gridCol w="260280"/>
              </a:tblGrid>
              <a:tr h="3466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1042920" y="2759040"/>
            <a:ext cx="23976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27280" y="2759040"/>
            <a:ext cx="23976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79520" y="2422440"/>
            <a:ext cx="23976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"/>
          <p:cNvCxnSpPr>
            <a:stCxn id="323" idx="3"/>
            <a:endCxn id="321" idx="7"/>
          </p:cNvCxnSpPr>
          <p:nvPr/>
        </p:nvCxnSpPr>
        <p:spPr>
          <a:xfrm flipH="1">
            <a:off x="1247400" y="2625480"/>
            <a:ext cx="16704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23" idx="5"/>
            <a:endCxn id="322" idx="1"/>
          </p:cNvCxnSpPr>
          <p:nvPr/>
        </p:nvCxnSpPr>
        <p:spPr>
          <a:xfrm>
            <a:off x="1584360" y="2625480"/>
            <a:ext cx="18000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1714680" y="2087640"/>
            <a:ext cx="239400" cy="237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2422440"/>
            <a:ext cx="23976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89320" y="1751040"/>
            <a:ext cx="241200" cy="237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5"/>
            <a:endCxn id="327" idx="1"/>
          </p:cNvCxnSpPr>
          <p:nvPr/>
        </p:nvCxnSpPr>
        <p:spPr>
          <a:xfrm>
            <a:off x="1918800" y="2290320"/>
            <a:ext cx="16704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26" idx="3"/>
            <a:endCxn id="323" idx="7"/>
          </p:cNvCxnSpPr>
          <p:nvPr/>
        </p:nvCxnSpPr>
        <p:spPr>
          <a:xfrm flipH="1">
            <a:off x="1583640" y="2290320"/>
            <a:ext cx="1659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28" idx="3"/>
            <a:endCxn id="326" idx="7"/>
          </p:cNvCxnSpPr>
          <p:nvPr/>
        </p:nvCxnSpPr>
        <p:spPr>
          <a:xfrm flipH="1">
            <a:off x="1918440" y="1954080"/>
            <a:ext cx="505800" cy="169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28" idx="5"/>
            <a:endCxn id="333" idx="1"/>
          </p:cNvCxnSpPr>
          <p:nvPr/>
        </p:nvCxnSpPr>
        <p:spPr>
          <a:xfrm>
            <a:off x="2595240" y="1954080"/>
            <a:ext cx="623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2846520" y="2470320"/>
            <a:ext cx="239760" cy="237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17920" y="2470320"/>
            <a:ext cx="239760" cy="237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"/>
          <p:cNvCxnSpPr>
            <a:stCxn id="333" idx="5"/>
            <a:endCxn id="335" idx="1"/>
          </p:cNvCxnSpPr>
          <p:nvPr/>
        </p:nvCxnSpPr>
        <p:spPr>
          <a:xfrm>
            <a:off x="3387240" y="2338200"/>
            <a:ext cx="1659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33" idx="3"/>
            <a:endCxn id="334" idx="7"/>
          </p:cNvCxnSpPr>
          <p:nvPr/>
        </p:nvCxnSpPr>
        <p:spPr>
          <a:xfrm flipH="1">
            <a:off x="3050640" y="2338200"/>
            <a:ext cx="1677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3182760" y="2135160"/>
            <a:ext cx="23976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67480" y="3357720"/>
            <a:ext cx="23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o 2.3 aggiorn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66760" y="134136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sso 2.1 rake su nu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68200" y="170028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sso 2.2 rake su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7364520" y="3068640"/>
          <a:ext cx="520560" cy="691920"/>
        </p:xfrm>
        <a:graphic>
          <a:graphicData uri="http://schemas.openxmlformats.org/drawingml/2006/table">
            <a:tbl>
              <a:tblPr/>
              <a:tblGrid>
                <a:gridCol w="261720"/>
                <a:gridCol w="258840"/>
              </a:tblGrid>
              <a:tr h="3466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549680" y="148428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79520" y="4676760"/>
            <a:ext cx="23976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14680" y="4341960"/>
            <a:ext cx="239400" cy="237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0920" y="4676760"/>
            <a:ext cx="23976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36840" y="4005360"/>
            <a:ext cx="241200" cy="237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4" idx="5"/>
            <a:endCxn id="345" idx="1"/>
          </p:cNvCxnSpPr>
          <p:nvPr/>
        </p:nvCxnSpPr>
        <p:spPr>
          <a:xfrm>
            <a:off x="1918800" y="4544640"/>
            <a:ext cx="16704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4" idx="3"/>
            <a:endCxn id="343" idx="7"/>
          </p:cNvCxnSpPr>
          <p:nvPr/>
        </p:nvCxnSpPr>
        <p:spPr>
          <a:xfrm flipH="1">
            <a:off x="1583640" y="4544640"/>
            <a:ext cx="1659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" name=""/>
          <p:cNvCxnSpPr>
            <a:stCxn id="346" idx="3"/>
            <a:endCxn id="344" idx="7"/>
          </p:cNvCxnSpPr>
          <p:nvPr/>
        </p:nvCxnSpPr>
        <p:spPr>
          <a:xfrm flipH="1">
            <a:off x="1918440" y="4208400"/>
            <a:ext cx="553320" cy="169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0" name=""/>
          <p:cNvCxnSpPr>
            <a:stCxn id="346" idx="5"/>
            <a:endCxn id="351" idx="1"/>
          </p:cNvCxnSpPr>
          <p:nvPr/>
        </p:nvCxnSpPr>
        <p:spPr>
          <a:xfrm>
            <a:off x="2642760" y="4208400"/>
            <a:ext cx="57564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2846520" y="4700520"/>
            <a:ext cx="23976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17920" y="4700520"/>
            <a:ext cx="23976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1" idx="5"/>
            <a:endCxn id="353" idx="1"/>
          </p:cNvCxnSpPr>
          <p:nvPr/>
        </p:nvCxnSpPr>
        <p:spPr>
          <a:xfrm>
            <a:off x="3387240" y="4568400"/>
            <a:ext cx="1659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51" idx="3"/>
            <a:endCxn id="352" idx="7"/>
          </p:cNvCxnSpPr>
          <p:nvPr/>
        </p:nvCxnSpPr>
        <p:spPr>
          <a:xfrm flipH="1">
            <a:off x="3050640" y="4568400"/>
            <a:ext cx="1677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3182760" y="4365720"/>
            <a:ext cx="239760" cy="237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24520" y="2492280"/>
            <a:ext cx="23976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84880" y="2133720"/>
            <a:ext cx="241200" cy="237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57" idx="3"/>
            <a:endCxn id="356" idx="7"/>
          </p:cNvCxnSpPr>
          <p:nvPr/>
        </p:nvCxnSpPr>
        <p:spPr>
          <a:xfrm flipH="1">
            <a:off x="6128640" y="2336400"/>
            <a:ext cx="191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>
            <a:stCxn id="357" idx="5"/>
            <a:endCxn id="360" idx="1"/>
          </p:cNvCxnSpPr>
          <p:nvPr/>
        </p:nvCxnSpPr>
        <p:spPr>
          <a:xfrm>
            <a:off x="6490800" y="2336760"/>
            <a:ext cx="23724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1" name=""/>
          <p:cNvSpPr/>
          <p:nvPr/>
        </p:nvSpPr>
        <p:spPr>
          <a:xfrm>
            <a:off x="6356520" y="2828880"/>
            <a:ext cx="23940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27920" y="2828880"/>
            <a:ext cx="23976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"/>
          <p:cNvCxnSpPr>
            <a:stCxn id="360" idx="5"/>
            <a:endCxn id="362" idx="1"/>
          </p:cNvCxnSpPr>
          <p:nvPr/>
        </p:nvCxnSpPr>
        <p:spPr>
          <a:xfrm>
            <a:off x="6897240" y="2696760"/>
            <a:ext cx="1659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60" idx="3"/>
            <a:endCxn id="361" idx="7"/>
          </p:cNvCxnSpPr>
          <p:nvPr/>
        </p:nvCxnSpPr>
        <p:spPr>
          <a:xfrm flipH="1">
            <a:off x="6560640" y="2696760"/>
            <a:ext cx="16704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692760" y="2494080"/>
            <a:ext cx="239760" cy="237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70360" y="5840280"/>
            <a:ext cx="28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o 2.3 aggiorna A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67480" y="42559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sso 2.1 rake su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66760" y="54799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sso 2.2 rake su nu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24520" y="5011560"/>
            <a:ext cx="239760" cy="23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284880" y="4653000"/>
            <a:ext cx="241200" cy="237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9" idx="3"/>
            <a:endCxn id="368" idx="7"/>
          </p:cNvCxnSpPr>
          <p:nvPr/>
        </p:nvCxnSpPr>
        <p:spPr>
          <a:xfrm flipH="1">
            <a:off x="6128640" y="4856040"/>
            <a:ext cx="19116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9" idx="5"/>
            <a:endCxn id="372" idx="1"/>
          </p:cNvCxnSpPr>
          <p:nvPr/>
        </p:nvCxnSpPr>
        <p:spPr>
          <a:xfrm>
            <a:off x="6490800" y="4856040"/>
            <a:ext cx="16596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6621480" y="5013360"/>
            <a:ext cx="239760" cy="237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16360" y="4005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5640" y="4083120"/>
            <a:ext cx="87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lb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su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67960" y="1839960"/>
            <a:ext cx="87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lb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su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935040" y="2222640"/>
            <a:ext cx="87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lb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su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901920" y="4719600"/>
            <a:ext cx="87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lb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su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F5B-3DED-4FC7-A2D3-4F0C6AD10D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realizzare il Passo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a la numerazione inorder di T tramite il TDE (è possibile perché l’albero è 0/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dividua le foglie (tutti i no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t.c. left[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]=right[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]=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umera le foglie (escludendo quella più a sx e quella più a dx) tramite somme prefi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realizzare il passo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i rake lavorano in parallelo i processori di indice dispar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discriminare le foglie che sono figli sinistri (destri) basta notare che la loro numerazione inorder nell’albero originale è minore (maggiore) di quella del pad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aggiornare A lavorano solo i processori di indice pari ed assegnano A[i/2] = A[i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AD0-BB88-4AB9-8A4F-79D01D6E7B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2-15T15:49:41Z</cp:lastPrinted>
  <dcterms:modified xsi:type="dcterms:W3CDTF">2008-05-09T14:26:45Z</dcterms:modified>
  <cp:revision>590</cp:revision>
  <dc:subject/>
  <dc:title>Algoritmi Paralleli e Distribuiti</dc:title>
</cp:coreProperties>
</file>