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3E34-24FA-42DB-99DB-89EEEB23D5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B30-8799-4260-9B4A-8CA34AC2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C35-B048-4926-808D-BD36FB10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9DE-624E-4511-8E85-B9C571C4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133-6972-4A96-846D-E7C3CCB7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C849-C925-4EAE-BF3C-3D7592B3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3005-DFE8-45A4-8020-FD588B3A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664B-38FB-4109-9A6F-577285F1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DB7E-7025-4873-849C-66F3D149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B743-6955-4136-BFAB-5AF220FB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0D4E-D57C-40E4-A3A7-A52C29B6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C8DF-5902-4A6C-9AE0-80799D96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212-B0A6-4907-8C36-A241CC84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949C-6373-4215-ABEA-814E331B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0737-D6B7-40B7-A9CF-F6CA438B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98CF-0567-4151-B31E-D7D13B1A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7547-57CF-4AEA-89E5-118AFF9E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C7D3-7C01-4B40-B769-6F03A476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C40-A93E-4807-A715-AF08495D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F3C-4E1E-43FA-B69A-53ADD659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C41-CFAB-48CA-A2F4-3D742CBA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6A2-8B88-4F9D-9186-8ED26CAB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2AD-FE55-444B-9E88-A1FFEFD4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4A4-204F-4966-B189-FB87D7CC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39C-DB53-4B50-81E6-EC0B69D2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1000" indent="-177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712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BC5F-7AEB-4248-802F-BA7B81565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84F8-4250-4DFA-A5BC-DECCB504D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16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036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zione del 17/04/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 – Pass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4520" y="13413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sto di alb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844640"/>
          <a:ext cx="3181320" cy="134136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  <a:gridCol w="244440"/>
                <a:gridCol w="244440"/>
                <a:gridCol w="244440"/>
                <a:gridCol w="244440"/>
              </a:tblGrid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11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 rot="16200000">
            <a:off x="-43920" y="2575080"/>
            <a:ext cx="88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ntativi di scrittura concorr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211640" y="1226160"/>
            <a:ext cx="4537080" cy="3282480"/>
            <a:chOff x="4211640" y="1226160"/>
            <a:chExt cx="4537080" cy="3282480"/>
          </a:xfrm>
        </p:grpSpPr>
        <p:sp>
          <p:nvSpPr>
            <p:cNvPr id="203" name=""/>
            <p:cNvSpPr/>
            <p:nvPr/>
          </p:nvSpPr>
          <p:spPr>
            <a:xfrm>
              <a:off x="5651640" y="155880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51640" y="213372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4" idx="0"/>
              <a:endCxn id="203" idx="4"/>
            </p:cNvCxnSpPr>
            <p:nvPr/>
          </p:nvCxnSpPr>
          <p:spPr>
            <a:xfrm flipV="1">
              <a:off x="5832000" y="1918800"/>
              <a:ext cx="108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203" idx="1"/>
              <a:endCxn id="203" idx="7"/>
            </p:cNvCxnSpPr>
            <p:nvPr/>
          </p:nvCxnSpPr>
          <p:spPr>
            <a:xfrm flipH="1" rot="16200000">
              <a:off x="5830920" y="1484280"/>
              <a:ext cx="2160" cy="255960"/>
            </a:xfrm>
            <a:prstGeom prst="curvedConnector5">
              <a:avLst>
                <a:gd name="adj1" fmla="val -17500000"/>
                <a:gd name="adj2" fmla="val 50000"/>
                <a:gd name="adj3" fmla="val -17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5146560" y="2133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46560" y="2708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0"/>
              <a:endCxn id="207" idx="4"/>
            </p:cNvCxnSpPr>
            <p:nvPr/>
          </p:nvCxnSpPr>
          <p:spPr>
            <a:xfrm flipV="1">
              <a:off x="5327280" y="2493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7" idx="7"/>
              <a:endCxn id="203" idx="3"/>
            </p:cNvCxnSpPr>
            <p:nvPr/>
          </p:nvCxnSpPr>
          <p:spPr>
            <a:xfrm flipV="1">
              <a:off x="5454720" y="1866600"/>
              <a:ext cx="249840" cy="31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6154560" y="2133720"/>
              <a:ext cx="3607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54560" y="2708280"/>
              <a:ext cx="36072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"/>
            <p:cNvCxnSpPr>
              <a:stCxn id="212" idx="0"/>
              <a:endCxn id="211" idx="4"/>
            </p:cNvCxnSpPr>
            <p:nvPr/>
          </p:nvCxnSpPr>
          <p:spPr>
            <a:xfrm flipV="1">
              <a:off x="6335280" y="2493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stCxn id="211" idx="1"/>
              <a:endCxn id="203" idx="5"/>
            </p:cNvCxnSpPr>
            <p:nvPr/>
          </p:nvCxnSpPr>
          <p:spPr>
            <a:xfrm flipH="1" flipV="1">
              <a:off x="5959080" y="1866600"/>
              <a:ext cx="248400" cy="31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>
              <a:off x="7378560" y="155880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78560" y="213372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" name=""/>
            <p:cNvCxnSpPr>
              <a:stCxn id="216" idx="0"/>
              <a:endCxn id="215" idx="4"/>
            </p:cNvCxnSpPr>
            <p:nvPr/>
          </p:nvCxnSpPr>
          <p:spPr>
            <a:xfrm flipV="1">
              <a:off x="7559280" y="1918800"/>
              <a:ext cx="108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5" idx="1"/>
              <a:endCxn id="215" idx="7"/>
            </p:cNvCxnSpPr>
            <p:nvPr/>
          </p:nvCxnSpPr>
          <p:spPr>
            <a:xfrm flipH="1" rot="16200000">
              <a:off x="7558200" y="1484280"/>
              <a:ext cx="2160" cy="255960"/>
            </a:xfrm>
            <a:prstGeom prst="curvedConnector5">
              <a:avLst>
                <a:gd name="adj1" fmla="val -17700000"/>
                <a:gd name="adj2" fmla="val 50000"/>
                <a:gd name="adj3" fmla="val -17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885080" y="1917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85080" y="2492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>
              <a:stCxn id="220" idx="0"/>
              <a:endCxn id="219" idx="4"/>
            </p:cNvCxnSpPr>
            <p:nvPr/>
          </p:nvCxnSpPr>
          <p:spPr>
            <a:xfrm flipV="1">
              <a:off x="8065800" y="2277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9" idx="1"/>
              <a:endCxn id="215" idx="5"/>
            </p:cNvCxnSpPr>
            <p:nvPr/>
          </p:nvCxnSpPr>
          <p:spPr>
            <a:xfrm flipH="1" flipV="1">
              <a:off x="7686000" y="1866600"/>
              <a:ext cx="251640" cy="10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8388360" y="227664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88360" y="285120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4" idx="0"/>
              <a:endCxn id="223" idx="4"/>
            </p:cNvCxnSpPr>
            <p:nvPr/>
          </p:nvCxnSpPr>
          <p:spPr>
            <a:xfrm flipV="1">
              <a:off x="8569080" y="263628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23" idx="1"/>
              <a:endCxn id="219" idx="5"/>
            </p:cNvCxnSpPr>
            <p:nvPr/>
          </p:nvCxnSpPr>
          <p:spPr>
            <a:xfrm flipH="1" flipV="1">
              <a:off x="8192520" y="2224800"/>
              <a:ext cx="248040" cy="104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7" name=""/>
            <p:cNvSpPr/>
            <p:nvPr/>
          </p:nvSpPr>
          <p:spPr>
            <a:xfrm>
              <a:off x="6732720" y="249228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32720" y="306720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"/>
            <p:cNvCxnSpPr>
              <a:stCxn id="228" idx="0"/>
              <a:endCxn id="227" idx="4"/>
            </p:cNvCxnSpPr>
            <p:nvPr/>
          </p:nvCxnSpPr>
          <p:spPr>
            <a:xfrm flipV="1">
              <a:off x="6913080" y="2852280"/>
              <a:ext cx="108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27" idx="1"/>
              <a:endCxn id="211" idx="5"/>
            </p:cNvCxnSpPr>
            <p:nvPr/>
          </p:nvCxnSpPr>
          <p:spPr>
            <a:xfrm flipH="1" flipV="1">
              <a:off x="6462000" y="2440800"/>
              <a:ext cx="322920" cy="104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1" name=""/>
            <p:cNvSpPr/>
            <p:nvPr/>
          </p:nvSpPr>
          <p:spPr>
            <a:xfrm>
              <a:off x="4211640" y="155736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11640" y="213192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"/>
            <p:cNvCxnSpPr>
              <a:stCxn id="232" idx="0"/>
              <a:endCxn id="231" idx="4"/>
            </p:cNvCxnSpPr>
            <p:nvPr/>
          </p:nvCxnSpPr>
          <p:spPr>
            <a:xfrm flipV="1">
              <a:off x="4392360" y="191700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31" idx="1"/>
              <a:endCxn id="231" idx="7"/>
            </p:cNvCxnSpPr>
            <p:nvPr/>
          </p:nvCxnSpPr>
          <p:spPr>
            <a:xfrm flipH="1" rot="16200000">
              <a:off x="4390560" y="1481760"/>
              <a:ext cx="2520" cy="255960"/>
            </a:xfrm>
            <a:prstGeom prst="curvedConnector5">
              <a:avLst>
                <a:gd name="adj1" fmla="val -17700000"/>
                <a:gd name="adj2" fmla="val 50000"/>
                <a:gd name="adj3" fmla="val -17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5" name=""/>
            <p:cNvSpPr/>
            <p:nvPr/>
          </p:nvSpPr>
          <p:spPr>
            <a:xfrm>
              <a:off x="7308720" y="285264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08720" y="342756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7" name=""/>
            <p:cNvCxnSpPr>
              <a:stCxn id="236" idx="0"/>
              <a:endCxn id="235" idx="4"/>
            </p:cNvCxnSpPr>
            <p:nvPr/>
          </p:nvCxnSpPr>
          <p:spPr>
            <a:xfrm flipV="1">
              <a:off x="7489440" y="3212640"/>
              <a:ext cx="108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35" idx="1"/>
              <a:endCxn id="227" idx="5"/>
            </p:cNvCxnSpPr>
            <p:nvPr/>
          </p:nvCxnSpPr>
          <p:spPr>
            <a:xfrm flipH="1" flipV="1">
              <a:off x="7039800" y="2799720"/>
              <a:ext cx="321480" cy="10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7812000" y="321300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12000" y="378792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>
              <a:stCxn id="240" idx="0"/>
              <a:endCxn id="239" idx="4"/>
            </p:cNvCxnSpPr>
            <p:nvPr/>
          </p:nvCxnSpPr>
          <p:spPr>
            <a:xfrm flipV="1">
              <a:off x="7992720" y="3573000"/>
              <a:ext cx="108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39" idx="1"/>
              <a:endCxn id="235" idx="5"/>
            </p:cNvCxnSpPr>
            <p:nvPr/>
          </p:nvCxnSpPr>
          <p:spPr>
            <a:xfrm flipH="1" flipV="1">
              <a:off x="7616520" y="3160080"/>
              <a:ext cx="248400" cy="10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8388360" y="357336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8360" y="4148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44" idx="0"/>
              <a:endCxn id="243" idx="4"/>
            </p:cNvCxnSpPr>
            <p:nvPr/>
          </p:nvCxnSpPr>
          <p:spPr>
            <a:xfrm flipV="1">
              <a:off x="8569080" y="3933360"/>
              <a:ext cx="108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43" idx="1"/>
              <a:endCxn id="239" idx="5"/>
            </p:cNvCxnSpPr>
            <p:nvPr/>
          </p:nvCxnSpPr>
          <p:spPr>
            <a:xfrm flipH="1" flipV="1">
              <a:off x="8119800" y="3520440"/>
              <a:ext cx="321120" cy="10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47" name=""/>
          <p:cNvSpPr/>
          <p:nvPr/>
        </p:nvSpPr>
        <p:spPr>
          <a:xfrm>
            <a:off x="179280" y="33577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3800" y="3433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sto di st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95280" y="3867120"/>
          <a:ext cx="3181320" cy="112860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  <a:gridCol w="244440"/>
                <a:gridCol w="244440"/>
                <a:gridCol w="244440"/>
                <a:gridCol w="244440"/>
              </a:tblGrid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98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179280" y="51436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4160" y="52196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o del pun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6560" y="5653080"/>
          <a:ext cx="3915000" cy="631800"/>
        </p:xfrm>
        <a:graphic>
          <a:graphicData uri="http://schemas.openxmlformats.org/drawingml/2006/table">
            <a:tbl>
              <a:tblPr/>
              <a:tblGrid>
                <a:gridCol w="246240"/>
                <a:gridCol w="243000"/>
                <a:gridCol w="245880"/>
                <a:gridCol w="244440"/>
                <a:gridCol w="244440"/>
                <a:gridCol w="246240"/>
                <a:gridCol w="243000"/>
                <a:gridCol w="245880"/>
                <a:gridCol w="244440"/>
                <a:gridCol w="244440"/>
                <a:gridCol w="244440"/>
                <a:gridCol w="244440"/>
                <a:gridCol w="244800"/>
                <a:gridCol w="244440"/>
                <a:gridCol w="244440"/>
                <a:gridCol w="244440"/>
              </a:tblGrid>
              <a:tr h="316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4788000" y="3476520"/>
            <a:ext cx="2232000" cy="1536840"/>
            <a:chOff x="4788000" y="3476520"/>
            <a:chExt cx="2232000" cy="1536840"/>
          </a:xfrm>
        </p:grpSpPr>
        <p:sp>
          <p:nvSpPr>
            <p:cNvPr id="254" name=""/>
            <p:cNvSpPr/>
            <p:nvPr/>
          </p:nvSpPr>
          <p:spPr>
            <a:xfrm>
              <a:off x="4788000" y="3476520"/>
              <a:ext cx="1152360" cy="1104840"/>
            </a:xfrm>
            <a:prstGeom prst="triangle">
              <a:avLst>
                <a:gd name="adj" fmla="val 56472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92720" y="400536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H="1" flipV="1">
              <a:off x="5443560" y="3688920"/>
              <a:ext cx="3060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57" name=""/>
            <p:cNvSpPr/>
            <p:nvPr/>
          </p:nvSpPr>
          <p:spPr>
            <a:xfrm>
              <a:off x="6084720" y="4365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59640" y="465300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"/>
            <p:cNvCxnSpPr>
              <a:stCxn id="258" idx="1"/>
              <a:endCxn id="257" idx="6"/>
            </p:cNvCxnSpPr>
            <p:nvPr/>
          </p:nvCxnSpPr>
          <p:spPr>
            <a:xfrm flipH="1" flipV="1">
              <a:off x="6444720" y="4545720"/>
              <a:ext cx="26712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7" idx="1"/>
              <a:endCxn id="255" idx="5"/>
            </p:cNvCxnSpPr>
            <p:nvPr/>
          </p:nvCxnSpPr>
          <p:spPr>
            <a:xfrm flipH="1" flipV="1">
              <a:off x="5600880" y="4312440"/>
              <a:ext cx="536760" cy="10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1" name=""/>
          <p:cNvSpPr/>
          <p:nvPr/>
        </p:nvSpPr>
        <p:spPr>
          <a:xfrm>
            <a:off x="6443640" y="3357720"/>
            <a:ext cx="223200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383080" y="5179680"/>
            <a:ext cx="2698920" cy="1379880"/>
            <a:chOff x="5383080" y="5179680"/>
            <a:chExt cx="2698920" cy="1379880"/>
          </a:xfrm>
        </p:grpSpPr>
        <p:sp>
          <p:nvSpPr>
            <p:cNvPr id="263" name=""/>
            <p:cNvSpPr/>
            <p:nvPr/>
          </p:nvSpPr>
          <p:spPr>
            <a:xfrm>
              <a:off x="5923080" y="5300640"/>
              <a:ext cx="180720" cy="1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83080" y="5587920"/>
              <a:ext cx="179640" cy="181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'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"/>
            <p:cNvCxnSpPr>
              <a:stCxn id="264" idx="0"/>
              <a:endCxn id="263" idx="2"/>
            </p:cNvCxnSpPr>
            <p:nvPr/>
          </p:nvCxnSpPr>
          <p:spPr>
            <a:xfrm flipV="1">
              <a:off x="5473800" y="5391000"/>
              <a:ext cx="4500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6" name=""/>
            <p:cNvCxnSpPr>
              <a:stCxn id="263" idx="1"/>
              <a:endCxn id="263" idx="7"/>
            </p:cNvCxnSpPr>
            <p:nvPr/>
          </p:nvCxnSpPr>
          <p:spPr>
            <a:xfrm flipH="1" rot="16200000">
              <a:off x="6012720" y="5263200"/>
              <a:ext cx="2160" cy="127440"/>
            </a:xfrm>
            <a:prstGeom prst="curvedConnector5">
              <a:avLst>
                <a:gd name="adj1" fmla="val -7800000"/>
                <a:gd name="adj2" fmla="val 49858"/>
                <a:gd name="adj3" fmla="val -7800000"/>
              </a:avLst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67" name=""/>
            <p:cNvSpPr/>
            <p:nvPr/>
          </p:nvSpPr>
          <p:spPr>
            <a:xfrm>
              <a:off x="5599080" y="55879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15080" y="5587920"/>
              <a:ext cx="179280" cy="181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'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9" name=""/>
            <p:cNvCxnSpPr>
              <a:stCxn id="268" idx="0"/>
              <a:endCxn id="263" idx="4"/>
            </p:cNvCxnSpPr>
            <p:nvPr/>
          </p:nvCxnSpPr>
          <p:spPr>
            <a:xfrm flipV="1">
              <a:off x="5905440" y="5479560"/>
              <a:ext cx="10872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0" name=""/>
            <p:cNvCxnSpPr>
              <a:stCxn id="267" idx="7"/>
              <a:endCxn id="263" idx="3"/>
            </p:cNvCxnSpPr>
            <p:nvPr/>
          </p:nvCxnSpPr>
          <p:spPr>
            <a:xfrm flipV="1">
              <a:off x="5752800" y="5454000"/>
              <a:ext cx="197640" cy="16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71" name=""/>
            <p:cNvSpPr/>
            <p:nvPr/>
          </p:nvSpPr>
          <p:spPr>
            <a:xfrm>
              <a:off x="6031080" y="5587920"/>
              <a:ext cx="18072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46720" y="5587920"/>
              <a:ext cx="181080" cy="181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'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3" name=""/>
            <p:cNvCxnSpPr>
              <a:stCxn id="272" idx="1"/>
              <a:endCxn id="263" idx="5"/>
            </p:cNvCxnSpPr>
            <p:nvPr/>
          </p:nvCxnSpPr>
          <p:spPr>
            <a:xfrm flipH="1" flipV="1">
              <a:off x="6076080" y="5454000"/>
              <a:ext cx="197640" cy="16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4" name=""/>
            <p:cNvCxnSpPr>
              <a:stCxn id="271" idx="0"/>
              <a:endCxn id="263" idx="4"/>
            </p:cNvCxnSpPr>
            <p:nvPr/>
          </p:nvCxnSpPr>
          <p:spPr>
            <a:xfrm flipH="1" flipV="1">
              <a:off x="6013080" y="5479560"/>
              <a:ext cx="10872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7469280" y="5300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45280" y="5624640"/>
              <a:ext cx="179280" cy="1792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'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76" idx="0"/>
              <a:endCxn id="275" idx="3"/>
            </p:cNvCxnSpPr>
            <p:nvPr/>
          </p:nvCxnSpPr>
          <p:spPr>
            <a:xfrm flipV="1">
              <a:off x="7235640" y="5454360"/>
              <a:ext cx="26100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8" name=""/>
            <p:cNvCxnSpPr>
              <a:stCxn id="275" idx="1"/>
              <a:endCxn id="275" idx="7"/>
            </p:cNvCxnSpPr>
            <p:nvPr/>
          </p:nvCxnSpPr>
          <p:spPr>
            <a:xfrm flipH="1" rot="16200000">
              <a:off x="7557840" y="5264640"/>
              <a:ext cx="2520" cy="126000"/>
            </a:xfrm>
            <a:prstGeom prst="curvedConnector5">
              <a:avLst>
                <a:gd name="adj1" fmla="val -6800000"/>
                <a:gd name="adj2" fmla="val 49856"/>
                <a:gd name="adj3" fmla="val -6800000"/>
              </a:avLst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7397640" y="5624640"/>
              <a:ext cx="181080" cy="1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50000" y="5624640"/>
              <a:ext cx="179640" cy="1792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'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" name=""/>
            <p:cNvCxnSpPr>
              <a:stCxn id="280" idx="0"/>
              <a:endCxn id="275" idx="4"/>
            </p:cNvCxnSpPr>
            <p:nvPr/>
          </p:nvCxnSpPr>
          <p:spPr>
            <a:xfrm flipH="1" flipV="1">
              <a:off x="7558920" y="5481000"/>
              <a:ext cx="181800" cy="1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2" name=""/>
            <p:cNvCxnSpPr>
              <a:stCxn id="279" idx="1"/>
              <a:endCxn id="275" idx="4"/>
            </p:cNvCxnSpPr>
            <p:nvPr/>
          </p:nvCxnSpPr>
          <p:spPr>
            <a:xfrm flipV="1">
              <a:off x="7424280" y="5481000"/>
              <a:ext cx="135720" cy="16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7902720" y="5624640"/>
              <a:ext cx="179280" cy="1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97640" y="5911920"/>
              <a:ext cx="181080" cy="1792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'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" name=""/>
            <p:cNvCxnSpPr>
              <a:stCxn id="284" idx="0"/>
              <a:endCxn id="279" idx="4"/>
            </p:cNvCxnSpPr>
            <p:nvPr/>
          </p:nvCxnSpPr>
          <p:spPr>
            <a:xfrm flipV="1">
              <a:off x="7488000" y="5803560"/>
              <a:ext cx="1080" cy="10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6" name=""/>
            <p:cNvCxnSpPr>
              <a:stCxn id="283" idx="1"/>
              <a:endCxn id="275" idx="6"/>
            </p:cNvCxnSpPr>
            <p:nvPr/>
          </p:nvCxnSpPr>
          <p:spPr>
            <a:xfrm flipH="1" flipV="1">
              <a:off x="7648200" y="5391000"/>
              <a:ext cx="280080" cy="25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7" name=""/>
            <p:cNvSpPr/>
            <p:nvPr/>
          </p:nvSpPr>
          <p:spPr>
            <a:xfrm>
              <a:off x="6462720" y="5587920"/>
              <a:ext cx="1810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88160" y="5840640"/>
              <a:ext cx="179280" cy="1792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'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0"/>
              <a:endCxn id="271" idx="3"/>
            </p:cNvCxnSpPr>
            <p:nvPr/>
          </p:nvCxnSpPr>
          <p:spPr>
            <a:xfrm flipV="1">
              <a:off x="5978160" y="5741640"/>
              <a:ext cx="80280" cy="9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0" name=""/>
            <p:cNvCxnSpPr>
              <a:stCxn id="287" idx="1"/>
              <a:endCxn id="263" idx="6"/>
            </p:cNvCxnSpPr>
            <p:nvPr/>
          </p:nvCxnSpPr>
          <p:spPr>
            <a:xfrm flipH="1" flipV="1">
              <a:off x="6103440" y="5390640"/>
              <a:ext cx="386640" cy="22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91" name=""/>
            <p:cNvSpPr/>
            <p:nvPr/>
          </p:nvSpPr>
          <p:spPr>
            <a:xfrm>
              <a:off x="6931080" y="612792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19800" y="6380280"/>
              <a:ext cx="179280" cy="1792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'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  <a:endCxn id="294" idx="4"/>
            </p:cNvCxnSpPr>
            <p:nvPr/>
          </p:nvCxnSpPr>
          <p:spPr>
            <a:xfrm flipV="1">
              <a:off x="6409800" y="6271920"/>
              <a:ext cx="1080" cy="10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5" name=""/>
            <p:cNvCxnSpPr>
              <a:stCxn id="291" idx="1"/>
              <a:endCxn id="296" idx="5"/>
            </p:cNvCxnSpPr>
            <p:nvPr/>
          </p:nvCxnSpPr>
          <p:spPr>
            <a:xfrm flipH="1" flipV="1">
              <a:off x="6832080" y="6028560"/>
              <a:ext cx="124560" cy="12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175440" y="5840640"/>
              <a:ext cx="179280" cy="1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2720" y="5877000"/>
              <a:ext cx="179280" cy="1792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'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9" name=""/>
            <p:cNvCxnSpPr>
              <a:stCxn id="298" idx="0"/>
              <a:endCxn id="287" idx="4"/>
            </p:cNvCxnSpPr>
            <p:nvPr/>
          </p:nvCxnSpPr>
          <p:spPr>
            <a:xfrm flipV="1">
              <a:off x="6552720" y="5768640"/>
              <a:ext cx="1080" cy="10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0" name=""/>
            <p:cNvCxnSpPr>
              <a:stCxn id="297" idx="0"/>
              <a:endCxn id="271" idx="5"/>
            </p:cNvCxnSpPr>
            <p:nvPr/>
          </p:nvCxnSpPr>
          <p:spPr>
            <a:xfrm flipH="1" flipV="1">
              <a:off x="6184080" y="5741640"/>
              <a:ext cx="80280" cy="9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96" name=""/>
            <p:cNvSpPr/>
            <p:nvPr/>
          </p:nvSpPr>
          <p:spPr>
            <a:xfrm>
              <a:off x="6678720" y="5877000"/>
              <a:ext cx="179280" cy="1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31080" y="6091200"/>
              <a:ext cx="180720" cy="181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'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"/>
            <p:cNvCxnSpPr>
              <a:stCxn id="301" idx="0"/>
              <a:endCxn id="297" idx="3"/>
            </p:cNvCxnSpPr>
            <p:nvPr/>
          </p:nvCxnSpPr>
          <p:spPr>
            <a:xfrm flipV="1">
              <a:off x="6121440" y="5993640"/>
              <a:ext cx="79920" cy="9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3" name=""/>
            <p:cNvCxnSpPr>
              <a:stCxn id="296" idx="0"/>
              <a:endCxn id="287" idx="5"/>
            </p:cNvCxnSpPr>
            <p:nvPr/>
          </p:nvCxnSpPr>
          <p:spPr>
            <a:xfrm flipH="1" flipV="1">
              <a:off x="6616080" y="5741280"/>
              <a:ext cx="153000" cy="13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94" name=""/>
            <p:cNvSpPr/>
            <p:nvPr/>
          </p:nvSpPr>
          <p:spPr>
            <a:xfrm>
              <a:off x="6319800" y="6091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78720" y="6127920"/>
              <a:ext cx="179280" cy="180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'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5" name=""/>
            <p:cNvCxnSpPr>
              <a:stCxn id="304" idx="0"/>
              <a:endCxn id="296" idx="4"/>
            </p:cNvCxnSpPr>
            <p:nvPr/>
          </p:nvCxnSpPr>
          <p:spPr>
            <a:xfrm flipV="1">
              <a:off x="6768720" y="6055560"/>
              <a:ext cx="1080" cy="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6" name=""/>
            <p:cNvCxnSpPr>
              <a:stCxn id="294" idx="0"/>
              <a:endCxn id="297" idx="5"/>
            </p:cNvCxnSpPr>
            <p:nvPr/>
          </p:nvCxnSpPr>
          <p:spPr>
            <a:xfrm flipH="1" flipV="1">
              <a:off x="6327000" y="5993640"/>
              <a:ext cx="83160" cy="9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305-482D-4440-8E94-1DF3A16200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 – Pass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4520" y="13413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sto di alb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59640" y="37180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335772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10" idx="6"/>
            <a:endCxn id="309" idx="2"/>
          </p:cNvCxnSpPr>
          <p:nvPr/>
        </p:nvCxnSpPr>
        <p:spPr>
          <a:xfrm>
            <a:off x="5219640" y="3538080"/>
            <a:ext cx="1440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9" idx="1"/>
            <a:endCxn id="309" idx="7"/>
          </p:cNvCxnSpPr>
          <p:nvPr/>
        </p:nvCxnSpPr>
        <p:spPr>
          <a:xfrm flipH="1" rot="16200000">
            <a:off x="6838560" y="3642480"/>
            <a:ext cx="2520" cy="255960"/>
          </a:xfrm>
          <a:prstGeom prst="curvedConnector5">
            <a:avLst>
              <a:gd name="adj1" fmla="val -11700000"/>
              <a:gd name="adj2" fmla="val 50000"/>
              <a:gd name="adj3" fmla="val -11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13" name=""/>
          <p:cNvGraphicFramePr/>
          <p:nvPr/>
        </p:nvGraphicFramePr>
        <p:xfrm>
          <a:off x="395280" y="1844640"/>
          <a:ext cx="3181320" cy="947880"/>
        </p:xfrm>
        <a:graphic>
          <a:graphicData uri="http://schemas.openxmlformats.org/drawingml/2006/table">
            <a:tbl>
              <a:tblPr/>
              <a:tblGrid>
                <a:gridCol w="246240"/>
                <a:gridCol w="242640"/>
                <a:gridCol w="246240"/>
                <a:gridCol w="244440"/>
                <a:gridCol w="244440"/>
                <a:gridCol w="245880"/>
                <a:gridCol w="243000"/>
                <a:gridCol w="246240"/>
                <a:gridCol w="244440"/>
                <a:gridCol w="244440"/>
                <a:gridCol w="244440"/>
                <a:gridCol w="244440"/>
                <a:gridCol w="244440"/>
              </a:tblGrid>
              <a:tr h="316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160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5003640" y="3789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19640" y="422100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5" idx="7"/>
            <a:endCxn id="309" idx="2"/>
          </p:cNvCxnSpPr>
          <p:nvPr/>
        </p:nvCxnSpPr>
        <p:spPr>
          <a:xfrm flipV="1">
            <a:off x="5527800" y="3898080"/>
            <a:ext cx="1132560" cy="37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14" idx="7"/>
            <a:endCxn id="309" idx="2"/>
          </p:cNvCxnSpPr>
          <p:nvPr/>
        </p:nvCxnSpPr>
        <p:spPr>
          <a:xfrm>
            <a:off x="5311800" y="3841920"/>
            <a:ext cx="1348560" cy="5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5508720" y="4581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486900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"/>
          <p:cNvCxnSpPr>
            <a:stCxn id="319" idx="0"/>
            <a:endCxn id="309" idx="3"/>
          </p:cNvCxnSpPr>
          <p:nvPr/>
        </p:nvCxnSpPr>
        <p:spPr>
          <a:xfrm flipV="1">
            <a:off x="6048000" y="4025520"/>
            <a:ext cx="66420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8" idx="7"/>
            <a:endCxn id="309" idx="3"/>
          </p:cNvCxnSpPr>
          <p:nvPr/>
        </p:nvCxnSpPr>
        <p:spPr>
          <a:xfrm flipV="1">
            <a:off x="5816160" y="4025160"/>
            <a:ext cx="89604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6227640" y="51577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88000" y="530064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"/>
          <p:cNvCxnSpPr>
            <a:stCxn id="323" idx="0"/>
            <a:endCxn id="309" idx="4"/>
          </p:cNvCxnSpPr>
          <p:nvPr/>
        </p:nvCxnSpPr>
        <p:spPr>
          <a:xfrm flipV="1">
            <a:off x="6769080" y="4077720"/>
            <a:ext cx="7200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22" idx="0"/>
            <a:endCxn id="309" idx="4"/>
          </p:cNvCxnSpPr>
          <p:nvPr/>
        </p:nvCxnSpPr>
        <p:spPr>
          <a:xfrm flipV="1">
            <a:off x="6408360" y="4078080"/>
            <a:ext cx="432360" cy="10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7020000" y="530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451640" y="515772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7" idx="0"/>
            <a:endCxn id="309" idx="5"/>
          </p:cNvCxnSpPr>
          <p:nvPr/>
        </p:nvCxnSpPr>
        <p:spPr>
          <a:xfrm flipH="1" flipV="1">
            <a:off x="6967440" y="4025520"/>
            <a:ext cx="66564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6" idx="0"/>
            <a:endCxn id="309" idx="4"/>
          </p:cNvCxnSpPr>
          <p:nvPr/>
        </p:nvCxnSpPr>
        <p:spPr>
          <a:xfrm flipH="1" flipV="1">
            <a:off x="6840000" y="4077720"/>
            <a:ext cx="36144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7812000" y="49417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96000" y="558972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1" idx="7"/>
          </p:cNvCxnSpPr>
          <p:nvPr/>
        </p:nvCxnSpPr>
        <p:spPr>
          <a:xfrm flipV="1">
            <a:off x="6103800" y="5444280"/>
            <a:ext cx="1771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30" idx="1"/>
            <a:endCxn id="309" idx="5"/>
          </p:cNvCxnSpPr>
          <p:nvPr/>
        </p:nvCxnSpPr>
        <p:spPr>
          <a:xfrm flipH="1" flipV="1">
            <a:off x="6967080" y="4025520"/>
            <a:ext cx="89784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8101080" y="4653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17080" y="429408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"/>
          <p:cNvCxnSpPr>
            <a:stCxn id="335" idx="1"/>
            <a:endCxn id="309" idx="5"/>
          </p:cNvCxnSpPr>
          <p:nvPr/>
        </p:nvCxnSpPr>
        <p:spPr>
          <a:xfrm flipH="1" flipV="1">
            <a:off x="6967080" y="4025160"/>
            <a:ext cx="14025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4" idx="1"/>
            <a:endCxn id="309" idx="5"/>
          </p:cNvCxnSpPr>
          <p:nvPr/>
        </p:nvCxnSpPr>
        <p:spPr>
          <a:xfrm flipH="1" flipV="1">
            <a:off x="6967080" y="4025160"/>
            <a:ext cx="118656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8172360" y="55897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5640" y="458136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"/>
          <p:cNvCxnSpPr>
            <a:stCxn id="339" idx="0"/>
            <a:endCxn id="341" idx="5"/>
          </p:cNvCxnSpPr>
          <p:nvPr/>
        </p:nvCxnSpPr>
        <p:spPr>
          <a:xfrm flipH="1" flipV="1">
            <a:off x="8767080" y="4168440"/>
            <a:ext cx="89640" cy="4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8" idx="0"/>
            <a:endCxn id="334" idx="4"/>
          </p:cNvCxnSpPr>
          <p:nvPr/>
        </p:nvCxnSpPr>
        <p:spPr>
          <a:xfrm flipH="1" flipV="1">
            <a:off x="8281800" y="5012640"/>
            <a:ext cx="720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8459640" y="386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388360" y="342900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"/>
          <p:cNvCxnSpPr>
            <a:stCxn id="343" idx="2"/>
            <a:endCxn id="309" idx="6"/>
          </p:cNvCxnSpPr>
          <p:nvPr/>
        </p:nvCxnSpPr>
        <p:spPr>
          <a:xfrm flipH="1">
            <a:off x="7019280" y="3610080"/>
            <a:ext cx="1369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41" idx="1"/>
            <a:endCxn id="309" idx="6"/>
          </p:cNvCxnSpPr>
          <p:nvPr/>
        </p:nvCxnSpPr>
        <p:spPr>
          <a:xfrm flipH="1" flipV="1">
            <a:off x="7019280" y="3898440"/>
            <a:ext cx="149292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8388360" y="2997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43280" y="479736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"/>
          <p:cNvCxnSpPr>
            <a:stCxn id="347" idx="7"/>
            <a:endCxn id="318" idx="2"/>
          </p:cNvCxnSpPr>
          <p:nvPr/>
        </p:nvCxnSpPr>
        <p:spPr>
          <a:xfrm flipV="1">
            <a:off x="4951440" y="4762080"/>
            <a:ext cx="55800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6" idx="2"/>
            <a:endCxn id="309" idx="6"/>
          </p:cNvCxnSpPr>
          <p:nvPr/>
        </p:nvCxnSpPr>
        <p:spPr>
          <a:xfrm flipH="1">
            <a:off x="7019280" y="3178080"/>
            <a:ext cx="1369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5003640" y="50864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604360" y="537372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34" idx="5"/>
          </p:cNvCxnSpPr>
          <p:nvPr/>
        </p:nvCxnSpPr>
        <p:spPr>
          <a:xfrm flipH="1" flipV="1">
            <a:off x="8408520" y="4960440"/>
            <a:ext cx="24840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50" idx="7"/>
            <a:endCxn id="318" idx="3"/>
          </p:cNvCxnSpPr>
          <p:nvPr/>
        </p:nvCxnSpPr>
        <p:spPr>
          <a:xfrm flipV="1">
            <a:off x="5311800" y="4889160"/>
            <a:ext cx="24984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179280" y="299736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880" y="3073320"/>
            <a:ext cx="36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sto di stel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n fa nu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3573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4160" y="357336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o del pun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66560" y="4006800"/>
          <a:ext cx="3915000" cy="631800"/>
        </p:xfrm>
        <a:graphic>
          <a:graphicData uri="http://schemas.openxmlformats.org/drawingml/2006/table">
            <a:tbl>
              <a:tblPr/>
              <a:tblGrid>
                <a:gridCol w="246240"/>
                <a:gridCol w="243000"/>
                <a:gridCol w="245880"/>
                <a:gridCol w="244440"/>
                <a:gridCol w="244440"/>
                <a:gridCol w="246240"/>
                <a:gridCol w="243000"/>
                <a:gridCol w="245880"/>
                <a:gridCol w="244440"/>
                <a:gridCol w="244440"/>
                <a:gridCol w="244440"/>
                <a:gridCol w="244440"/>
                <a:gridCol w="244800"/>
                <a:gridCol w="244440"/>
                <a:gridCol w="244440"/>
                <a:gridCol w="244440"/>
              </a:tblGrid>
              <a:tr h="316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318600" y="573552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 passo 3 si esegue soltanto il salto del pun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 l’algoritmo termina con D[ i ] =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356000" y="1459080"/>
            <a:ext cx="2521080" cy="1249200"/>
            <a:chOff x="4356000" y="1459080"/>
            <a:chExt cx="2521080" cy="1249200"/>
          </a:xfrm>
        </p:grpSpPr>
        <p:sp>
          <p:nvSpPr>
            <p:cNvPr id="361" name=""/>
            <p:cNvSpPr/>
            <p:nvPr/>
          </p:nvSpPr>
          <p:spPr>
            <a:xfrm>
              <a:off x="6012000" y="1819440"/>
              <a:ext cx="865080" cy="719280"/>
            </a:xfrm>
            <a:prstGeom prst="triangle">
              <a:avLst>
                <a:gd name="adj" fmla="val 7023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56000" y="1603440"/>
              <a:ext cx="1152720" cy="1104840"/>
            </a:xfrm>
            <a:prstGeom prst="triangle">
              <a:avLst>
                <a:gd name="adj" fmla="val 94213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19640" y="145908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40360" y="174636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5" name=""/>
            <p:cNvCxnSpPr>
              <a:stCxn id="364" idx="1"/>
              <a:endCxn id="363" idx="6"/>
            </p:cNvCxnSpPr>
            <p:nvPr/>
          </p:nvCxnSpPr>
          <p:spPr>
            <a:xfrm flipH="1" flipV="1">
              <a:off x="5579280" y="1639440"/>
              <a:ext cx="41364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2B0-010C-4238-AF8C-8DEFE8CC87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mostriamo ora che dopo O(log n) esecuzioni del ciclo while l’algoritmo termina. Sia C una componente connessa del grafo di partenza e sia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) la somma delle altezze degli alberi (e delle stelle) che contengono i nodi di C al passo k dell’algorit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orema: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ostrazione: per indu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0: ogni nod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a componente C appartiene ad un albero di due no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di altezza 1 quind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) = |C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&gt; 0: per ipotesi induttiva assumi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) =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+ …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325-A498-4DD4-ACD1-81FB19EAF0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 (continu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ctr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passo k alcuni degli alberi (e/o delle stelle) del passo precedente verranno innestati. Dato che non innestiamo mai nelle foglie sappiamo che se T è ottenuto innestando 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in 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ctr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(T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(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h(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ctr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ra, senza perdita di generalità, si h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ctr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) + …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ctr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ché l’esecuzione di un singolo passo del salto del puntatore garantisce una riduzione di almeno 2/3 dell’altezza ne conseg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ctr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2/3) 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|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227640" y="4853160"/>
            <a:ext cx="2303640" cy="1099080"/>
            <a:chOff x="6227640" y="4853160"/>
            <a:chExt cx="2303640" cy="1099080"/>
          </a:xfrm>
        </p:grpSpPr>
        <p:grpSp>
          <p:nvGrpSpPr>
            <p:cNvPr id="371" name=""/>
            <p:cNvGrpSpPr/>
            <p:nvPr/>
          </p:nvGrpSpPr>
          <p:grpSpPr>
            <a:xfrm>
              <a:off x="6227640" y="4861080"/>
              <a:ext cx="1079640" cy="1079280"/>
              <a:chOff x="6227640" y="4861080"/>
              <a:chExt cx="1079640" cy="107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91280" y="486108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802560" y="5148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15280" y="5437080"/>
                <a:ext cx="2156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27640" y="572472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6" name=""/>
              <p:cNvCxnSpPr>
                <a:stCxn id="375" idx="7"/>
                <a:endCxn id="374" idx="3"/>
              </p:cNvCxnSpPr>
              <p:nvPr/>
            </p:nvCxnSpPr>
            <p:spPr>
              <a:xfrm flipV="1">
                <a:off x="6411600" y="5620680"/>
                <a:ext cx="135720" cy="13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77" name=""/>
              <p:cNvCxnSpPr>
                <a:stCxn id="374" idx="7"/>
                <a:endCxn id="373" idx="3"/>
              </p:cNvCxnSpPr>
              <p:nvPr/>
            </p:nvCxnSpPr>
            <p:spPr>
              <a:xfrm flipV="1">
                <a:off x="6698880" y="5331960"/>
                <a:ext cx="135720" cy="13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78" name=""/>
              <p:cNvCxnSpPr>
                <a:stCxn id="373" idx="7"/>
                <a:endCxn id="372" idx="3"/>
              </p:cNvCxnSpPr>
              <p:nvPr/>
            </p:nvCxnSpPr>
            <p:spPr>
              <a:xfrm flipV="1">
                <a:off x="6986520" y="5044320"/>
                <a:ext cx="137520" cy="13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79" name=""/>
              <p:cNvSpPr/>
              <p:nvPr/>
            </p:nvSpPr>
            <p:spPr>
              <a:xfrm>
                <a:off x="6228360" y="5004000"/>
                <a:ext cx="48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=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7451640" y="4853160"/>
              <a:ext cx="1079640" cy="1099080"/>
              <a:chOff x="7451640" y="4853160"/>
              <a:chExt cx="1079640" cy="1099080"/>
            </a:xfrm>
          </p:grpSpPr>
          <p:sp>
            <p:nvSpPr>
              <p:cNvPr id="381" name=""/>
              <p:cNvSpPr/>
              <p:nvPr/>
            </p:nvSpPr>
            <p:spPr>
              <a:xfrm>
                <a:off x="8315280" y="485316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26560" y="5140440"/>
                <a:ext cx="21564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738920" y="54291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451640" y="571644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5" name=""/>
              <p:cNvCxnSpPr>
                <a:stCxn id="382" idx="7"/>
                <a:endCxn id="381" idx="3"/>
              </p:cNvCxnSpPr>
              <p:nvPr/>
            </p:nvCxnSpPr>
            <p:spPr>
              <a:xfrm flipV="1">
                <a:off x="8210160" y="5036400"/>
                <a:ext cx="137160" cy="13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86" name=""/>
              <p:cNvCxnSpPr>
                <a:stCxn id="383" idx="0"/>
                <a:endCxn id="381" idx="2"/>
              </p:cNvCxnSpPr>
              <p:nvPr/>
            </p:nvCxnSpPr>
            <p:spPr>
              <a:xfrm flipH="1" flipV="1" rot="5400000">
                <a:off x="7846560" y="4960080"/>
                <a:ext cx="469080" cy="469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87" name=""/>
              <p:cNvCxnSpPr>
                <a:stCxn id="384" idx="6"/>
                <a:endCxn id="382" idx="4"/>
              </p:cNvCxnSpPr>
              <p:nvPr/>
            </p:nvCxnSpPr>
            <p:spPr>
              <a:xfrm flipV="1">
                <a:off x="7667640" y="5355360"/>
                <a:ext cx="467280" cy="469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88" name=""/>
              <p:cNvSpPr/>
              <p:nvPr/>
            </p:nvSpPr>
            <p:spPr>
              <a:xfrm>
                <a:off x="8028720" y="5645160"/>
                <a:ext cx="48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=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102440" y="54295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0C5-F2CB-49FA-9AB7-6817A6BB3F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sa si differenziano i due algorit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iclo sequenziale di entrambi gli algoritmi è logarit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iclo parallelo dell’algoritmo per grafi densi richie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a ricerca di minimo (O(log n)). Questa operazione scompare nel secondo algoritmo in quanto l’innesto avviene in un qualunque nodo adiac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duzione degli alberi della pseudoforesta a stelle (O(log n)), che nel secondo algoritmo  si riduce ad un singolo passo del salto del puntatore (O(1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E19-6724-4561-BA86-89670DBBBA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o degli algorit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g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O(lo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=O(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AM C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g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O(log n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=O(n+m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AM CR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O(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O(((n+m) log n) log n)    simulato su PRAM C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&lt; 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e m &lt; O(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esta è la ragione per cui in letteratura i due algoritmi sono definiti per grafi densi o per grafi spar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DC4-DAD4-465B-B566-4C48314EA9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esegua sul seguente grafo l’algoritmo per grafi sparsi, sia come è stato presentato, sia escludendo il cicl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oreac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he gestisce separatamente le stelle.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mportante: si assuma che, in caso di scrittura concorrente, venga scritto sempre il valore mass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noti la serializzazione degli innesti nel caso in cui non si gestiscono separatamente le st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10200" y="3573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90920" y="4221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59280" y="3573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10200" y="45100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03640" y="43657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64000" y="3573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90920" y="4869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397" idx="4"/>
            <a:endCxn id="402" idx="0"/>
          </p:cNvCxnSpPr>
          <p:nvPr/>
        </p:nvCxnSpPr>
        <p:spPr>
          <a:xfrm>
            <a:off x="3671640" y="458100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4" name=""/>
          <p:cNvCxnSpPr>
            <a:stCxn id="397" idx="7"/>
            <a:endCxn id="396" idx="3"/>
          </p:cNvCxnSpPr>
          <p:nvPr/>
        </p:nvCxnSpPr>
        <p:spPr>
          <a:xfrm flipV="1">
            <a:off x="3798720" y="3880800"/>
            <a:ext cx="46440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396" idx="6"/>
            <a:endCxn id="401" idx="2"/>
          </p:cNvCxnSpPr>
          <p:nvPr/>
        </p:nvCxnSpPr>
        <p:spPr>
          <a:xfrm>
            <a:off x="4570560" y="3754080"/>
            <a:ext cx="794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6" name=""/>
          <p:cNvCxnSpPr>
            <a:stCxn id="396" idx="4"/>
            <a:endCxn id="399" idx="0"/>
          </p:cNvCxnSpPr>
          <p:nvPr/>
        </p:nvCxnSpPr>
        <p:spPr>
          <a:xfrm>
            <a:off x="4390560" y="3933360"/>
            <a:ext cx="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7" name=""/>
          <p:cNvCxnSpPr>
            <a:stCxn id="396" idx="2"/>
            <a:endCxn id="398" idx="6"/>
          </p:cNvCxnSpPr>
          <p:nvPr/>
        </p:nvCxnSpPr>
        <p:spPr>
          <a:xfrm flipH="1">
            <a:off x="3419280" y="3754080"/>
            <a:ext cx="791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8" name=""/>
          <p:cNvCxnSpPr>
            <a:stCxn id="396" idx="5"/>
            <a:endCxn id="400" idx="1"/>
          </p:cNvCxnSpPr>
          <p:nvPr/>
        </p:nvCxnSpPr>
        <p:spPr>
          <a:xfrm>
            <a:off x="4517640" y="3881520"/>
            <a:ext cx="53892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834-D267-4FC5-A17F-070A1A3983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operazione di inn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ano 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e 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ue alberi distinti nella pseudoforesta definita dalla funzione D. Sia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la radice di 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un nodo di 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L’innesto di 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 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innesto di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si realizza assegnando D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050920" y="3645000"/>
            <a:ext cx="5041800" cy="2015640"/>
            <a:chOff x="2050920" y="3645000"/>
            <a:chExt cx="5041800" cy="2015640"/>
          </a:xfrm>
        </p:grpSpPr>
        <p:grpSp>
          <p:nvGrpSpPr>
            <p:cNvPr id="96" name=""/>
            <p:cNvGrpSpPr/>
            <p:nvPr/>
          </p:nvGrpSpPr>
          <p:grpSpPr>
            <a:xfrm>
              <a:off x="2050920" y="4184640"/>
              <a:ext cx="2021040" cy="935640"/>
              <a:chOff x="2050920" y="4184640"/>
              <a:chExt cx="2021040" cy="935640"/>
            </a:xfrm>
          </p:grpSpPr>
          <p:sp>
            <p:nvSpPr>
              <p:cNvPr id="97" name=""/>
              <p:cNvSpPr/>
              <p:nvPr/>
            </p:nvSpPr>
            <p:spPr>
              <a:xfrm>
                <a:off x="2050920" y="4328640"/>
                <a:ext cx="865080" cy="7916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40000" y="4184640"/>
                <a:ext cx="288720" cy="286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03640" y="4328640"/>
                <a:ext cx="865080" cy="7916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90920" y="4760280"/>
                <a:ext cx="288720" cy="286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06400" y="4306320"/>
                <a:ext cx="39564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676320" y="4184640"/>
                <a:ext cx="39564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it-IT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51280" y="3645000"/>
              <a:ext cx="1441440" cy="2015640"/>
              <a:chOff x="5651280" y="3645000"/>
              <a:chExt cx="1441440" cy="2015640"/>
            </a:xfrm>
          </p:grpSpPr>
          <p:sp>
            <p:nvSpPr>
              <p:cNvPr id="104" name=""/>
              <p:cNvSpPr/>
              <p:nvPr/>
            </p:nvSpPr>
            <p:spPr>
              <a:xfrm>
                <a:off x="5651280" y="4868640"/>
                <a:ext cx="865440" cy="7920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40360" y="4724280"/>
                <a:ext cx="288720" cy="286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27640" y="3789360"/>
                <a:ext cx="865080" cy="7916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14920" y="4221000"/>
                <a:ext cx="289080" cy="286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696360" y="3645000"/>
                <a:ext cx="351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" name=""/>
              <p:cNvCxnSpPr>
                <a:stCxn id="105" idx="7"/>
                <a:endCxn id="107" idx="3"/>
              </p:cNvCxnSpPr>
              <p:nvPr/>
            </p:nvCxnSpPr>
            <p:spPr>
              <a:xfrm flipV="1">
                <a:off x="6186240" y="4464720"/>
                <a:ext cx="372240" cy="302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10" name=""/>
            <p:cNvSpPr/>
            <p:nvPr/>
          </p:nvSpPr>
          <p:spPr>
            <a:xfrm>
              <a:off x="4540320" y="465264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74B-30D9-4B8E-8015-A046ABB89E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anodi per grafi spar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generare i meganodi ad ogni iterazi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izialmente ogni nodo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l grafo di partenza forma un meganodo isolato e D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 parallelo per ogni arco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 s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è radice, si cerca di innestar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ramite un singolo passo di salto del puntatore, si riduce l’altezza di ogni albero della for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6DA-5A83-4AED-93A4-C57A23313D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tare l’innesto incroci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evitare ch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i voglia innestare i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e parallelame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i voglia innestare i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eseguiamo l’operazione di innesto di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s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mane valida la condizione ch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ve essere una rad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EFA-6834-4BAC-AF74-3CBD56EE1C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itare di innestare su una fog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l fine di garantire (per l’analisi della complessità che vedremo in seguito) che l’altezza di un albero T ottenuto innestando 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 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ia limitata 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h(T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(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h(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è necessario evitare di innestare nelle fogl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uindi per ogni arco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lavoreremo sui padri dei nodi: D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e D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evitare il problema al primo passo, quando D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aggiungiamo dei nodi fittizi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' con D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'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B87-978A-42C4-9B8B-0806C644A6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tare innesti seriali di st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à necessario gestire in maniera differenziata l’innesto di stelle per evitare che una serie di stelle che vogliono parallelamente realizzare un innesto con uno stesso albero si serializz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C5C-125A-4D69-B982-5FBE03EF4C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 per grafi spar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eac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=(i,j)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[ i ] = D[ D [ i ] ]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[ j ] &lt; D[ i ]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[ D [ i ] ] = D[ j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eac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=(i,j)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una stel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una stel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[ j ]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[ i ]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[ D [ i ] ] = D[ j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gni i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qualche stel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[ i ] = D[ D [ i ]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284-CCE8-4FE1-85A6-712207F304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icare le st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sapere quali nodi appartengono a delle stelle è sufficiente il seguente eseguire la seguente comp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eac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r[ i ]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[ i ]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[ D[ i ] ]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r[ i ]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r[ D[ i ] ]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r[ D[ D[ i ] ] ]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r[ i ] = star[ D[ i ]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353-D839-4325-804B-744E11E285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20638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2781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15588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0638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9440" y="2781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2781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2781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1800" y="20638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206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0" idx="6"/>
            <a:endCxn id="125" idx="2"/>
          </p:cNvCxnSpPr>
          <p:nvPr/>
        </p:nvCxnSpPr>
        <p:spPr>
          <a:xfrm>
            <a:off x="3203280" y="296208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25" idx="0"/>
            <a:endCxn id="124" idx="4"/>
          </p:cNvCxnSpPr>
          <p:nvPr/>
        </p:nvCxnSpPr>
        <p:spPr>
          <a:xfrm flipV="1">
            <a:off x="3816000" y="2423880"/>
            <a:ext cx="10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24" idx="7"/>
            <a:endCxn id="126" idx="3"/>
          </p:cNvCxnSpPr>
          <p:nvPr/>
        </p:nvCxnSpPr>
        <p:spPr>
          <a:xfrm flipV="1">
            <a:off x="3943080" y="1866600"/>
            <a:ext cx="32148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26" idx="5"/>
            <a:endCxn id="127" idx="1"/>
          </p:cNvCxnSpPr>
          <p:nvPr/>
        </p:nvCxnSpPr>
        <p:spPr>
          <a:xfrm>
            <a:off x="4519080" y="1866960"/>
            <a:ext cx="32148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25" idx="6"/>
            <a:endCxn id="128" idx="2"/>
          </p:cNvCxnSpPr>
          <p:nvPr/>
        </p:nvCxnSpPr>
        <p:spPr>
          <a:xfrm>
            <a:off x="3995280" y="2962080"/>
            <a:ext cx="7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8" idx="6"/>
            <a:endCxn id="129" idx="2"/>
          </p:cNvCxnSpPr>
          <p:nvPr/>
        </p:nvCxnSpPr>
        <p:spPr>
          <a:xfrm>
            <a:off x="5149440" y="296208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27" idx="6"/>
            <a:endCxn id="131" idx="2"/>
          </p:cNvCxnSpPr>
          <p:nvPr/>
        </p:nvCxnSpPr>
        <p:spPr>
          <a:xfrm>
            <a:off x="5148360" y="2244240"/>
            <a:ext cx="434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27" idx="4"/>
            <a:endCxn id="128" idx="0"/>
          </p:cNvCxnSpPr>
          <p:nvPr/>
        </p:nvCxnSpPr>
        <p:spPr>
          <a:xfrm>
            <a:off x="4968360" y="242424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1" idx="4"/>
            <a:endCxn id="129" idx="0"/>
          </p:cNvCxnSpPr>
          <p:nvPr/>
        </p:nvCxnSpPr>
        <p:spPr>
          <a:xfrm flipH="1">
            <a:off x="5760720" y="24242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1" idx="6"/>
            <a:endCxn id="132" idx="2"/>
          </p:cNvCxnSpPr>
          <p:nvPr/>
        </p:nvCxnSpPr>
        <p:spPr>
          <a:xfrm flipV="1">
            <a:off x="5941800" y="2241360"/>
            <a:ext cx="4309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2" idx="3"/>
            <a:endCxn id="129" idx="7"/>
          </p:cNvCxnSpPr>
          <p:nvPr/>
        </p:nvCxnSpPr>
        <p:spPr>
          <a:xfrm flipH="1">
            <a:off x="5888160" y="2368440"/>
            <a:ext cx="53676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226944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7280" y="371628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3440" y="47242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771640" y="5516640"/>
          <a:ext cx="3670560" cy="631800"/>
        </p:xfrm>
        <a:graphic>
          <a:graphicData uri="http://schemas.openxmlformats.org/drawingml/2006/table">
            <a:tbl>
              <a:tblPr/>
              <a:tblGrid>
                <a:gridCol w="246240"/>
                <a:gridCol w="243000"/>
                <a:gridCol w="245880"/>
                <a:gridCol w="244440"/>
                <a:gridCol w="244440"/>
                <a:gridCol w="246240"/>
                <a:gridCol w="242640"/>
                <a:gridCol w="246240"/>
                <a:gridCol w="244440"/>
                <a:gridCol w="244440"/>
                <a:gridCol w="244440"/>
                <a:gridCol w="244440"/>
                <a:gridCol w="244440"/>
                <a:gridCol w="244800"/>
                <a:gridCol w="244440"/>
              </a:tblGrid>
              <a:tr h="31572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050920" y="206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206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30" idx="1"/>
            <a:endCxn id="148" idx="5"/>
          </p:cNvCxnSpPr>
          <p:nvPr/>
        </p:nvCxnSpPr>
        <p:spPr>
          <a:xfrm flipH="1" flipV="1">
            <a:off x="2359080" y="2368080"/>
            <a:ext cx="53676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8" idx="6"/>
            <a:endCxn id="149" idx="2"/>
          </p:cNvCxnSpPr>
          <p:nvPr/>
        </p:nvCxnSpPr>
        <p:spPr>
          <a:xfrm>
            <a:off x="2411280" y="2241360"/>
            <a:ext cx="4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9" idx="5"/>
            <a:endCxn id="125" idx="1"/>
          </p:cNvCxnSpPr>
          <p:nvPr/>
        </p:nvCxnSpPr>
        <p:spPr>
          <a:xfrm>
            <a:off x="3150720" y="2368440"/>
            <a:ext cx="5374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53" name=""/>
          <p:cNvGrpSpPr/>
          <p:nvPr/>
        </p:nvGrpSpPr>
        <p:grpSpPr>
          <a:xfrm>
            <a:off x="2232000" y="4034520"/>
            <a:ext cx="4679640" cy="1266120"/>
            <a:chOff x="2232000" y="4034520"/>
            <a:chExt cx="4679640" cy="1266120"/>
          </a:xfrm>
        </p:grpSpPr>
        <p:sp>
          <p:nvSpPr>
            <p:cNvPr id="154" name=""/>
            <p:cNvSpPr/>
            <p:nvPr/>
          </p:nvSpPr>
          <p:spPr>
            <a:xfrm>
              <a:off x="2232000" y="4365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32000" y="4940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" name=""/>
            <p:cNvCxnSpPr>
              <a:stCxn id="155" idx="0"/>
              <a:endCxn id="154" idx="4"/>
            </p:cNvCxnSpPr>
            <p:nvPr/>
          </p:nvCxnSpPr>
          <p:spPr>
            <a:xfrm flipV="1">
              <a:off x="2412360" y="4725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4" idx="1"/>
              <a:endCxn id="154" idx="7"/>
            </p:cNvCxnSpPr>
            <p:nvPr/>
          </p:nvCxnSpPr>
          <p:spPr>
            <a:xfrm flipH="1" rot="16200000">
              <a:off x="2410920" y="4290120"/>
              <a:ext cx="2520" cy="255960"/>
            </a:xfrm>
            <a:prstGeom prst="curvedConnector5">
              <a:avLst>
                <a:gd name="adj1" fmla="val -17500000"/>
                <a:gd name="adj2" fmla="val 50000"/>
                <a:gd name="adj3" fmla="val -17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2663640" y="4365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3640" y="4940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"/>
            <p:cNvCxnSpPr>
              <a:stCxn id="159" idx="0"/>
              <a:endCxn id="158" idx="4"/>
            </p:cNvCxnSpPr>
            <p:nvPr/>
          </p:nvCxnSpPr>
          <p:spPr>
            <a:xfrm flipV="1">
              <a:off x="2844360" y="4725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8" idx="1"/>
              <a:endCxn id="158" idx="7"/>
            </p:cNvCxnSpPr>
            <p:nvPr/>
          </p:nvCxnSpPr>
          <p:spPr>
            <a:xfrm flipH="1" rot="16200000">
              <a:off x="2842560" y="4290120"/>
              <a:ext cx="2520" cy="255960"/>
            </a:xfrm>
            <a:prstGeom prst="curvedConnector5">
              <a:avLst>
                <a:gd name="adj1" fmla="val -17700000"/>
                <a:gd name="adj2" fmla="val 50000"/>
                <a:gd name="adj3" fmla="val -17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3095280" y="4365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95280" y="4940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" name=""/>
            <p:cNvCxnSpPr>
              <a:stCxn id="163" idx="0"/>
              <a:endCxn id="162" idx="4"/>
            </p:cNvCxnSpPr>
            <p:nvPr/>
          </p:nvCxnSpPr>
          <p:spPr>
            <a:xfrm flipV="1">
              <a:off x="3276000" y="4725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62" idx="1"/>
              <a:endCxn id="162" idx="7"/>
            </p:cNvCxnSpPr>
            <p:nvPr/>
          </p:nvCxnSpPr>
          <p:spPr>
            <a:xfrm flipH="1" rot="16200000">
              <a:off x="3274560" y="4290120"/>
              <a:ext cx="2520" cy="255960"/>
            </a:xfrm>
            <a:prstGeom prst="curvedConnector5">
              <a:avLst>
                <a:gd name="adj1" fmla="val -17700000"/>
                <a:gd name="adj2" fmla="val 50000"/>
                <a:gd name="adj3" fmla="val -17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527280" y="4365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27280" y="4940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"/>
            <p:cNvCxnSpPr>
              <a:stCxn id="167" idx="0"/>
              <a:endCxn id="166" idx="4"/>
            </p:cNvCxnSpPr>
            <p:nvPr/>
          </p:nvCxnSpPr>
          <p:spPr>
            <a:xfrm flipV="1">
              <a:off x="3708000" y="4725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6" idx="1"/>
              <a:endCxn id="166" idx="7"/>
            </p:cNvCxnSpPr>
            <p:nvPr/>
          </p:nvCxnSpPr>
          <p:spPr>
            <a:xfrm flipH="1" rot="16200000">
              <a:off x="3706200" y="4290120"/>
              <a:ext cx="2520" cy="255960"/>
            </a:xfrm>
            <a:prstGeom prst="curvedConnector5">
              <a:avLst>
                <a:gd name="adj1" fmla="val -17700000"/>
                <a:gd name="adj2" fmla="val 50000"/>
                <a:gd name="adj3" fmla="val -17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3958920" y="4365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58920" y="4940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0"/>
              <a:endCxn id="170" idx="4"/>
            </p:cNvCxnSpPr>
            <p:nvPr/>
          </p:nvCxnSpPr>
          <p:spPr>
            <a:xfrm flipV="1">
              <a:off x="4139640" y="4725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1"/>
              <a:endCxn id="170" idx="7"/>
            </p:cNvCxnSpPr>
            <p:nvPr/>
          </p:nvCxnSpPr>
          <p:spPr>
            <a:xfrm flipH="1" rot="16200000">
              <a:off x="4138200" y="4290120"/>
              <a:ext cx="2520" cy="255960"/>
            </a:xfrm>
            <a:prstGeom prst="curvedConnector5">
              <a:avLst>
                <a:gd name="adj1" fmla="val -17700000"/>
                <a:gd name="adj2" fmla="val 50000"/>
                <a:gd name="adj3" fmla="val -17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4" name=""/>
            <p:cNvSpPr/>
            <p:nvPr/>
          </p:nvSpPr>
          <p:spPr>
            <a:xfrm>
              <a:off x="4390920" y="4365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90920" y="4940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"/>
            <p:cNvCxnSpPr>
              <a:stCxn id="175" idx="0"/>
              <a:endCxn id="174" idx="4"/>
            </p:cNvCxnSpPr>
            <p:nvPr/>
          </p:nvCxnSpPr>
          <p:spPr>
            <a:xfrm flipV="1">
              <a:off x="4571280" y="4725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74" idx="1"/>
              <a:endCxn id="174" idx="7"/>
            </p:cNvCxnSpPr>
            <p:nvPr/>
          </p:nvCxnSpPr>
          <p:spPr>
            <a:xfrm flipH="1" rot="16200000">
              <a:off x="4569840" y="4290120"/>
              <a:ext cx="2520" cy="255960"/>
            </a:xfrm>
            <a:prstGeom prst="curvedConnector5">
              <a:avLst>
                <a:gd name="adj1" fmla="val -17700000"/>
                <a:gd name="adj2" fmla="val 50000"/>
                <a:gd name="adj3" fmla="val -17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4824360" y="4365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24360" y="4940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79" idx="0"/>
              <a:endCxn id="178" idx="4"/>
            </p:cNvCxnSpPr>
            <p:nvPr/>
          </p:nvCxnSpPr>
          <p:spPr>
            <a:xfrm flipV="1">
              <a:off x="5004720" y="4725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8" idx="1"/>
              <a:endCxn id="178" idx="7"/>
            </p:cNvCxnSpPr>
            <p:nvPr/>
          </p:nvCxnSpPr>
          <p:spPr>
            <a:xfrm flipH="1" rot="16200000">
              <a:off x="5003280" y="4290120"/>
              <a:ext cx="2520" cy="255960"/>
            </a:xfrm>
            <a:prstGeom prst="curvedConnector5">
              <a:avLst>
                <a:gd name="adj1" fmla="val -17700000"/>
                <a:gd name="adj2" fmla="val 50000"/>
                <a:gd name="adj3" fmla="val -17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5256000" y="4365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56000" y="4940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3" idx="0"/>
              <a:endCxn id="182" idx="4"/>
            </p:cNvCxnSpPr>
            <p:nvPr/>
          </p:nvCxnSpPr>
          <p:spPr>
            <a:xfrm flipV="1">
              <a:off x="5436720" y="4725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1"/>
              <a:endCxn id="182" idx="7"/>
            </p:cNvCxnSpPr>
            <p:nvPr/>
          </p:nvCxnSpPr>
          <p:spPr>
            <a:xfrm flipH="1" rot="16200000">
              <a:off x="5435280" y="4290120"/>
              <a:ext cx="2520" cy="255960"/>
            </a:xfrm>
            <a:prstGeom prst="curvedConnector5">
              <a:avLst>
                <a:gd name="adj1" fmla="val -17700000"/>
                <a:gd name="adj2" fmla="val 50000"/>
                <a:gd name="adj3" fmla="val -17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6" name=""/>
            <p:cNvSpPr/>
            <p:nvPr/>
          </p:nvSpPr>
          <p:spPr>
            <a:xfrm>
              <a:off x="5688000" y="4365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88000" y="4940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"/>
            <p:cNvCxnSpPr>
              <a:stCxn id="187" idx="0"/>
              <a:endCxn id="186" idx="4"/>
            </p:cNvCxnSpPr>
            <p:nvPr/>
          </p:nvCxnSpPr>
          <p:spPr>
            <a:xfrm flipV="1">
              <a:off x="5868360" y="4725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6" idx="1"/>
              <a:endCxn id="186" idx="7"/>
            </p:cNvCxnSpPr>
            <p:nvPr/>
          </p:nvCxnSpPr>
          <p:spPr>
            <a:xfrm flipH="1" rot="16200000">
              <a:off x="5866920" y="4290120"/>
              <a:ext cx="2520" cy="255960"/>
            </a:xfrm>
            <a:prstGeom prst="curvedConnector5">
              <a:avLst>
                <a:gd name="adj1" fmla="val -17700000"/>
                <a:gd name="adj2" fmla="val 50000"/>
                <a:gd name="adj3" fmla="val -17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0" name=""/>
            <p:cNvSpPr/>
            <p:nvPr/>
          </p:nvSpPr>
          <p:spPr>
            <a:xfrm>
              <a:off x="6119640" y="4365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19640" y="4940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"/>
            <p:cNvCxnSpPr>
              <a:stCxn id="191" idx="0"/>
              <a:endCxn id="190" idx="4"/>
            </p:cNvCxnSpPr>
            <p:nvPr/>
          </p:nvCxnSpPr>
          <p:spPr>
            <a:xfrm flipV="1">
              <a:off x="6300360" y="4725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90" idx="1"/>
              <a:endCxn id="190" idx="7"/>
            </p:cNvCxnSpPr>
            <p:nvPr/>
          </p:nvCxnSpPr>
          <p:spPr>
            <a:xfrm flipH="1" rot="16200000">
              <a:off x="6298560" y="4290120"/>
              <a:ext cx="2520" cy="255960"/>
            </a:xfrm>
            <a:prstGeom prst="curvedConnector5">
              <a:avLst>
                <a:gd name="adj1" fmla="val -17700000"/>
                <a:gd name="adj2" fmla="val 50000"/>
                <a:gd name="adj3" fmla="val -17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6551280" y="4365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1280" y="4940280"/>
              <a:ext cx="360360" cy="360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"/>
            <p:cNvCxnSpPr>
              <a:stCxn id="195" idx="0"/>
              <a:endCxn id="194" idx="4"/>
            </p:cNvCxnSpPr>
            <p:nvPr/>
          </p:nvCxnSpPr>
          <p:spPr>
            <a:xfrm flipV="1">
              <a:off x="6732000" y="472536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94" idx="1"/>
              <a:endCxn id="194" idx="7"/>
            </p:cNvCxnSpPr>
            <p:nvPr/>
          </p:nvCxnSpPr>
          <p:spPr>
            <a:xfrm flipH="1" rot="16200000">
              <a:off x="6730560" y="4290120"/>
              <a:ext cx="2520" cy="255960"/>
            </a:xfrm>
            <a:prstGeom prst="curvedConnector5">
              <a:avLst>
                <a:gd name="adj1" fmla="val -17700000"/>
                <a:gd name="adj2" fmla="val 50000"/>
                <a:gd name="adj3" fmla="val -17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2EF-D82A-4A7F-94AF-CFB5D02415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2-15T15:49:41Z</cp:lastPrinted>
  <dcterms:modified xsi:type="dcterms:W3CDTF">2008-05-13T09:18:22Z</dcterms:modified>
  <cp:revision>565</cp:revision>
  <dc:subject/>
  <dc:title>Algoritmi Paralleli e Distribuiti</dc:title>
</cp:coreProperties>
</file>