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4576-C168-47AE-A4FD-2FB517130C1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no Accademico 200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689-5B08-49AC-B981-81DFC4E7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401-F76A-4A2A-BF27-99202E6A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ECF-1EB2-48EC-BADD-EADFC86A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F78-6D34-440B-BB22-5C17E3E6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06F3-05C2-45A0-B3B3-171EFA6A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31C4-CA77-4913-B525-17C1B795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E64D-FD62-4C32-98E4-4795A00B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587A-3A8C-424E-B2AC-DBDB49A7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4AAB-BAB2-4A08-9B04-BFCE6219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CB0B-D081-4D7A-9E35-3C10BF01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062C-3927-4B5E-A0C5-294D50C5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ECB-7258-4787-A795-ED0361A8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1608-1875-4CCF-888B-CFA8069A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18F5-AAB0-4642-B669-B4E06AA3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9D31-D03E-45B3-8146-2CC303A2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6EFF-96CA-4554-9028-EF2673FB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84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29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4060-5479-436A-92E7-8F4666E7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44C-73B1-4A45-8E78-CAF9B818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9A2-3249-4B2C-B81B-8DCDE486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0A8-96E1-4640-9FC5-1D5AA9AF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245-56BB-4786-A94A-54251D35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2E5-0044-47DD-88E6-36E0E953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29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9EA-4419-4DE5-837C-7C270ABA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84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29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B9A-10BD-435B-81CB-04EFD5C3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1000" indent="-177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712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3880" indent="-268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3880" indent="-268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3880" indent="-268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1280" y="6453000"/>
            <a:ext cx="4392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5EB8-7654-4EB2-BFE3-D3BAF6B99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6684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D9C0-82DA-4D14-AD9F-FA47E685F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316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036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532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532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532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 Paralleli e Distribuit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a. 2007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zione del 30/05/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f.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s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OSSELLA PETRESC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ura del Dott. SAVERIO CAMIN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64120" y="8668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goritmo di fusi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mite ra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A=(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, B=(b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, ordinati in modo cresc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C=(c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n+m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, ordinato in modo cresc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si partiziona il vettore B in (m / log m) blocchi consecutivi di log(m) elementi ciascuno B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… e si crea il vettore Y costituito dall’insieme degli elementi massimi dei blocch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alcola Rango (Y:A)=(r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 e si divide A in blocchi consecutivi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=(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400" spc="-1" strike="noStrike" baseline="-6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,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=(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400" spc="-1" strike="noStrike" baseline="-6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400" spc="-1" strike="noStrike" baseline="-6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oiché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B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contengono elementi minori di tutti gli altri elementi di A e B, fondendo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B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tramite rango si ottiene la sequenza ordinata dei primi elementi di C. Iterando il ragionamento su tutte le coppie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B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ottiene l’intero vettore C ordina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90360" y="373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8C7-EC59-4C24-950C-F1A35F2F67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Dettaglio del partizion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[ 0 ]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[ m / log m ] =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m/log m -1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[ i ] = rango(B[ i * log m -1] :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 = 0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m/log m -1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(B[ i * log m ], …, B[ (i+1) * log m -1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(A[ q [ i ] ], …, A[ q[i+1] -1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3C7-6FA1-4004-8784-7C0C67C87C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empio di applicazione dell’algoritmo di fus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[ 4, 6, 7, 10, 12, 15, 18, 20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[ 3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6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o(9:A) = 3          rango(17:A)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= [ 0, 3, 8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[ 3, 9 ]     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[ 16, 17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[ 4, 6, 7 ]      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[ 10, 12, 15, 18, 20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4319280" y="2168280"/>
            <a:ext cx="142920" cy="50472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5076720" y="2060280"/>
            <a:ext cx="142920" cy="720720"/>
          </a:xfrm>
          <a:custGeom>
            <a:avLst/>
            <a:gdLst>
              <a:gd name="textAreaLeft" fmla="*/ 0 w 142920"/>
              <a:gd name="textAreaRight" fmla="*/ 51480 w 1429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640" y="242100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9640" y="242100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1FC-00EA-4432-8917-FA24FF9F33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ssità dell’algoritmo di fus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completare la Fusione di A e B (cioè per calcolare la posizione di ciascun valore nel vettore finale) si dovranno calcolare rango(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 rango(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. Bisogna inoltre tener conto di quanti elementi ci sono in tutti gli 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j&lt;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gli 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basta eseguire somme prefisse sul vettore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ontributo di tutti i 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i * log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tempo totale richiesto è O(log n) con O(n) su PRAM 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istono algoritmi che riducono la complessità temporale O(log log n) portando quindi il costo totale a O(n log log 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A41-CFF5-4D8A-B410-FDE218491F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goritmo di ordinamento per fus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 = log n -1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j =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i+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rdo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fondi(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2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2j+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o schema dell’algoritmo di ordinamento per fusione è facilmente riportabile su un albero binario completo che indica che ad ogni livello si effettuano K  fusioni con K potenza del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complessità temporale di ciascuna iterazione sarà quindi pari a quella necessaria alle fusioni di un totale di n elementi O(log log n). Essendoci log n iterazioni si ottiene un tempo totale pari a O(log n log log n),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 O(n) su PRAM CRE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508720" y="1557360"/>
            <a:ext cx="3310920" cy="2017800"/>
            <a:chOff x="5508720" y="1557360"/>
            <a:chExt cx="3310920" cy="2017800"/>
          </a:xfrm>
        </p:grpSpPr>
        <p:sp>
          <p:nvSpPr>
            <p:cNvPr id="162" name=""/>
            <p:cNvSpPr/>
            <p:nvPr/>
          </p:nvSpPr>
          <p:spPr>
            <a:xfrm>
              <a:off x="5941800" y="2206800"/>
              <a:ext cx="71712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…, 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53080" y="2709720"/>
              <a:ext cx="4312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16360" y="2709720"/>
              <a:ext cx="431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70520" y="2205000"/>
              <a:ext cx="7174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…, 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83240" y="2708280"/>
              <a:ext cx="42840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45440" y="2708280"/>
              <a:ext cx="4312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32360" y="1557360"/>
              <a:ext cx="8632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…, 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"/>
            <p:cNvCxnSpPr>
              <a:stCxn id="168" idx="2"/>
              <a:endCxn id="162" idx="0"/>
            </p:cNvCxnSpPr>
            <p:nvPr/>
          </p:nvCxnSpPr>
          <p:spPr>
            <a:xfrm flipH="1">
              <a:off x="6300360" y="1846080"/>
              <a:ext cx="86400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70" name=""/>
            <p:cNvCxnSpPr>
              <a:stCxn id="168" idx="2"/>
              <a:endCxn id="165" idx="0"/>
            </p:cNvCxnSpPr>
            <p:nvPr/>
          </p:nvCxnSpPr>
          <p:spPr>
            <a:xfrm>
              <a:off x="7164360" y="1846440"/>
              <a:ext cx="865440" cy="35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71" name=""/>
            <p:cNvCxnSpPr>
              <a:stCxn id="162" idx="2"/>
              <a:endCxn id="163" idx="0"/>
            </p:cNvCxnSpPr>
            <p:nvPr/>
          </p:nvCxnSpPr>
          <p:spPr>
            <a:xfrm flipH="1">
              <a:off x="5868000" y="2495160"/>
              <a:ext cx="4323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72" name=""/>
            <p:cNvCxnSpPr>
              <a:stCxn id="162" idx="2"/>
              <a:endCxn id="164" idx="0"/>
            </p:cNvCxnSpPr>
            <p:nvPr/>
          </p:nvCxnSpPr>
          <p:spPr>
            <a:xfrm>
              <a:off x="6300720" y="2495160"/>
              <a:ext cx="43200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73" name=""/>
            <p:cNvCxnSpPr>
              <a:stCxn id="165" idx="2"/>
              <a:endCxn id="166" idx="0"/>
            </p:cNvCxnSpPr>
            <p:nvPr/>
          </p:nvCxnSpPr>
          <p:spPr>
            <a:xfrm flipH="1">
              <a:off x="7597440" y="2493720"/>
              <a:ext cx="43200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74" name=""/>
            <p:cNvCxnSpPr>
              <a:stCxn id="165" idx="2"/>
              <a:endCxn id="167" idx="0"/>
            </p:cNvCxnSpPr>
            <p:nvPr/>
          </p:nvCxnSpPr>
          <p:spPr>
            <a:xfrm>
              <a:off x="8029440" y="2493720"/>
              <a:ext cx="43200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75" name=""/>
            <p:cNvCxnSpPr>
              <a:stCxn id="163" idx="2"/>
              <a:endCxn id="176" idx="0"/>
            </p:cNvCxnSpPr>
            <p:nvPr/>
          </p:nvCxnSpPr>
          <p:spPr>
            <a:xfrm flipH="1">
              <a:off x="5652720" y="2998800"/>
              <a:ext cx="21600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</p:cxnSp>
        <p:cxnSp>
          <p:nvCxnSpPr>
            <p:cNvPr id="177" name=""/>
            <p:cNvCxnSpPr>
              <a:stCxn id="163" idx="2"/>
              <a:endCxn id="178" idx="0"/>
            </p:cNvCxnSpPr>
            <p:nvPr/>
          </p:nvCxnSpPr>
          <p:spPr>
            <a:xfrm>
              <a:off x="5868360" y="2998800"/>
              <a:ext cx="21636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</p:cxnSp>
        <p:cxnSp>
          <p:nvCxnSpPr>
            <p:cNvPr id="179" name=""/>
            <p:cNvCxnSpPr>
              <a:stCxn id="164" idx="2"/>
              <a:endCxn id="180" idx="0"/>
            </p:cNvCxnSpPr>
            <p:nvPr/>
          </p:nvCxnSpPr>
          <p:spPr>
            <a:xfrm flipH="1">
              <a:off x="6515640" y="2998800"/>
              <a:ext cx="21636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</p:cxnSp>
        <p:cxnSp>
          <p:nvCxnSpPr>
            <p:cNvPr id="181" name=""/>
            <p:cNvCxnSpPr>
              <a:stCxn id="164" idx="2"/>
              <a:endCxn id="182" idx="0"/>
            </p:cNvCxnSpPr>
            <p:nvPr/>
          </p:nvCxnSpPr>
          <p:spPr>
            <a:xfrm>
              <a:off x="6732000" y="2998800"/>
              <a:ext cx="21636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</p:cxnSp>
        <p:cxnSp>
          <p:nvCxnSpPr>
            <p:cNvPr id="183" name=""/>
            <p:cNvCxnSpPr>
              <a:stCxn id="166" idx="2"/>
              <a:endCxn id="184" idx="0"/>
            </p:cNvCxnSpPr>
            <p:nvPr/>
          </p:nvCxnSpPr>
          <p:spPr>
            <a:xfrm flipH="1">
              <a:off x="7379640" y="2997360"/>
              <a:ext cx="2181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</p:cxnSp>
        <p:cxnSp>
          <p:nvCxnSpPr>
            <p:cNvPr id="185" name=""/>
            <p:cNvCxnSpPr>
              <a:stCxn id="166" idx="2"/>
              <a:endCxn id="186" idx="0"/>
            </p:cNvCxnSpPr>
            <p:nvPr/>
          </p:nvCxnSpPr>
          <p:spPr>
            <a:xfrm>
              <a:off x="7597800" y="2997360"/>
              <a:ext cx="2145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</p:cxnSp>
        <p:cxnSp>
          <p:nvCxnSpPr>
            <p:cNvPr id="187" name=""/>
            <p:cNvCxnSpPr>
              <a:stCxn id="167" idx="2"/>
              <a:endCxn id="188" idx="0"/>
            </p:cNvCxnSpPr>
            <p:nvPr/>
          </p:nvCxnSpPr>
          <p:spPr>
            <a:xfrm flipH="1">
              <a:off x="8242920" y="2997360"/>
              <a:ext cx="21780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</p:cxnSp>
        <p:cxnSp>
          <p:nvCxnSpPr>
            <p:cNvPr id="189" name=""/>
            <p:cNvCxnSpPr>
              <a:stCxn id="167" idx="2"/>
              <a:endCxn id="190" idx="0"/>
            </p:cNvCxnSpPr>
            <p:nvPr/>
          </p:nvCxnSpPr>
          <p:spPr>
            <a:xfrm>
              <a:off x="8460720" y="2997360"/>
              <a:ext cx="21492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</p:cxnSp>
        <p:sp>
          <p:nvSpPr>
            <p:cNvPr id="176" name=""/>
            <p:cNvSpPr/>
            <p:nvPr/>
          </p:nvSpPr>
          <p:spPr>
            <a:xfrm>
              <a:off x="5508720" y="328608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40360" y="3286080"/>
              <a:ext cx="288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72000" y="328608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04000" y="3286080"/>
              <a:ext cx="288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35640" y="328608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7640" y="3286080"/>
              <a:ext cx="288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99280" y="328608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30920" y="3286080"/>
              <a:ext cx="288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5B2-9815-4ABF-967B-654342D50A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 dell’algoritmo di C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è visto che il tempo parallelo dell’algoritmo di ordinamento tramite fusione è condizionato da un fattore log n dovuto all’altezza dell’albero binario, quindi per migliorare un tale algoritmo bisogna incidere sul computo della operazione di fusione. Questo computo, a tutt’oggi, pur richiedendo tempi paralleli molto limitati, non riesce ad essere ridotto ad una costante, impedendo così la ottimalità dell’algoritmo di ordinam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idea di Cole per risolvere questo problema è consistita nel rinunciare al calcolo delle K fusioni ad ogni livello, ma di accontentarsi solo del calcolo di alcuni valori a campione dei K vettori fusione. Questi valori campione, di numero costante, richiedono tempo parallelo O(1) per essere calcol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calcolo di nuovi campioni ad ogni livello permette di arrivare al vettore fusione alla radice, garantendo un tempo parallelo logaritmico per l’intero algoritmo di ordin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F09-3BAC-442B-BB7E-8C37FC2886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o un ordinamento ott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algoritmi paralleli di ordinamento visti fino ad ora raggiungono, nei casi migliori, un costo O(n lo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) su PRAM 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 1988 R. Cole presentò sul SIAM Journal Computing la prima versione del pipelined-merge sort (poi conosciuto come algoritmo di Cole) che richiede un tempo parallelo O(log n) su una PRAM. Da allora varianti e raffinamenti dell’algoritmo si sono susseguiti in letteratura fino a raggiungere un costo ottimo su PRAM E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 seguito presentiamo l’idea alla base di questo algoritmo e una serie di concetti e/o algoritmi necessari per la sua realizzazione. Il dettaglio dell’algoritmo è lasciato come tesina di approfo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375-4606-4066-A911-8C5C5C2915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concetto di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ti X = (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 Y = (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e z, con z, 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ello stesso insieme U, definia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ango(z:X) = numero di elementi in X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X = (-3,8,-2,5), z = 1, rango(z:X)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ango(Y:X) = (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con 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rango(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X = (15,-3,12,1,-5), Y = (3,-13,-2), rango(Y:X) = (3,0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FBF-266A-454C-ACD5-989B17B504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dere tramite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problema di fondere due vettori ordinati A e B in un unico vettore C si può risolvere calcolando il rango degli elementi di A rispetto a B e di quelli di B rispetto ad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atti, per ogni elemento x in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o(x: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= rango(x:A) + rango(x: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rango(x: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è esattamente la posizione in cui l’elemento x si trova nel vettore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306-F391-435D-8C1C-558414EF40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go di un elemen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un vettore ordin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Times New Roman"/>
              </a:rPr>
              <a:t>Variabili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720" indent="-170640" algn="just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N: numero dei processor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720" indent="-170640" algn="just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y: elemento da cerca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720" indent="-170640" algn="just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X = (x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), tale che x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: vettore in cui cercare 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720" indent="-170640" algn="just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l ed r (inizializzati ad 0 ed n rispettivamente): estremi del vettore su cui si lavora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720" indent="-170640" algn="just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,…q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 (relative a ciascun processore): indice degli elementi da analizzar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720" indent="-170640" algn="just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,…c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 (inizializzate a 0, c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 inizializzata ad 1): identificatori del sottovettore su cui iterar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: X, 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: i t.c. x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720" indent="-170640" algn="just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Passo 1: dividi iterativamente il vettore in sottovettori più o meno bilanciati finché il numero di elementi nel sottovettore identificato non è </a:t>
            </a:r>
            <a:r>
              <a:rPr b="0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 N e controlla se X[q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]=y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720" indent="-170640" algn="just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Passo 2: controlla se nel sottovettore di dimensione </a:t>
            </a:r>
            <a:r>
              <a:rPr b="0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 N è presente l’elemento cerca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BEE-7827-4935-B9CD-2D6E2AD229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j = 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r-l) &gt; 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j = 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l; q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l +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j (r-l) / (N+1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y = X[ q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y &gt; X[ q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&lt; 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 = q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 r = q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j = 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&lt; 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 = q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 r = q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j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r-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y = X[ l+j ]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+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y &gt; X[ l+j ]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&lt; 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+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714240"/>
                <a:tab algn="l" pos="1081080"/>
                <a:tab algn="l" pos="143820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j = 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&lt; 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n retur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2060640"/>
            <a:ext cx="360360" cy="2232000"/>
          </a:xfrm>
          <a:custGeom>
            <a:avLst/>
            <a:gdLst>
              <a:gd name="textAreaLeft" fmla="*/ 0 w 360360"/>
              <a:gd name="textAreaRight" fmla="*/ 129960 w 360360"/>
              <a:gd name="textAreaTop" fmla="*/ 162720 h 2232000"/>
              <a:gd name="textAreaBottom" fmla="*/ 206928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20"/>
                  <a:pt x="10800" y="5039"/>
                </a:cubicBezTo>
                <a:lnTo>
                  <a:pt x="10800" y="5761"/>
                </a:lnTo>
                <a:cubicBezTo>
                  <a:pt x="10800" y="8281"/>
                  <a:pt x="16200" y="10800"/>
                  <a:pt x="21600" y="10800"/>
                </a:cubicBezTo>
                <a:cubicBezTo>
                  <a:pt x="16200" y="10800"/>
                  <a:pt x="10800" y="13320"/>
                  <a:pt x="10800" y="15839"/>
                </a:cubicBezTo>
                <a:lnTo>
                  <a:pt x="10800" y="16561"/>
                </a:lnTo>
                <a:cubicBezTo>
                  <a:pt x="10800" y="1908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653000"/>
            <a:ext cx="360360" cy="1584360"/>
          </a:xfrm>
          <a:custGeom>
            <a:avLst/>
            <a:gdLst>
              <a:gd name="textAreaLeft" fmla="*/ 0 w 360360"/>
              <a:gd name="textAreaRight" fmla="*/ 129960 w 360360"/>
              <a:gd name="textAreaTop" fmla="*/ 110520 h 1584360"/>
              <a:gd name="textAreaBottom" fmla="*/ 14738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13"/>
                  <a:pt x="10800" y="4826"/>
                </a:cubicBezTo>
                <a:lnTo>
                  <a:pt x="10800" y="5974"/>
                </a:lnTo>
                <a:cubicBezTo>
                  <a:pt x="10800" y="8387"/>
                  <a:pt x="16200" y="10800"/>
                  <a:pt x="21600" y="10800"/>
                </a:cubicBezTo>
                <a:cubicBezTo>
                  <a:pt x="16200" y="10800"/>
                  <a:pt x="10800" y="13213"/>
                  <a:pt x="10800" y="15626"/>
                </a:cubicBezTo>
                <a:lnTo>
                  <a:pt x="10800" y="16774"/>
                </a:lnTo>
                <a:cubicBezTo>
                  <a:pt x="10800" y="1918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9440" y="29242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02440" y="51814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0D6-41D9-4E13-8B55-5305553A70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9640" y="1562040"/>
          <a:ext cx="6096240" cy="630360"/>
        </p:xfrm>
        <a:graphic>
          <a:graphicData uri="http://schemas.openxmlformats.org/drawingml/2006/table">
            <a:tbl>
              <a:tblPr/>
              <a:tblGrid>
                <a:gridCol w="358920"/>
                <a:gridCol w="358920"/>
                <a:gridCol w="358560"/>
                <a:gridCol w="358920"/>
                <a:gridCol w="357120"/>
                <a:gridCol w="358560"/>
                <a:gridCol w="358920"/>
                <a:gridCol w="358920"/>
                <a:gridCol w="358560"/>
                <a:gridCol w="358920"/>
                <a:gridCol w="358560"/>
                <a:gridCol w="358920"/>
                <a:gridCol w="357120"/>
                <a:gridCol w="358920"/>
                <a:gridCol w="358560"/>
                <a:gridCol w="358920"/>
                <a:gridCol w="358920"/>
              </a:tblGrid>
              <a:tr h="25488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7309800" y="1562040"/>
            <a:ext cx="9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000" y="2427120"/>
            <a:ext cx="182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11" idx="0"/>
          </p:cNvCxnSpPr>
          <p:nvPr/>
        </p:nvCxnSpPr>
        <p:spPr>
          <a:xfrm flipH="1" flipV="1">
            <a:off x="1077120" y="2192040"/>
            <a:ext cx="396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775960" y="2438280"/>
            <a:ext cx="182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3" idx="0"/>
          </p:cNvCxnSpPr>
          <p:nvPr/>
        </p:nvCxnSpPr>
        <p:spPr>
          <a:xfrm flipV="1">
            <a:off x="2866680" y="2191680"/>
            <a:ext cx="396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575960" y="2438280"/>
            <a:ext cx="182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H="1" flipV="1">
            <a:off x="4663440" y="2191680"/>
            <a:ext cx="396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6376320" y="2438280"/>
            <a:ext cx="182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H="1" flipV="1">
            <a:off x="6455520" y="2191680"/>
            <a:ext cx="1188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19" name=""/>
          <p:cNvGraphicFramePr/>
          <p:nvPr/>
        </p:nvGraphicFramePr>
        <p:xfrm>
          <a:off x="2995560" y="2714760"/>
          <a:ext cx="1505160" cy="569880"/>
        </p:xfrm>
        <a:graphic>
          <a:graphicData uri="http://schemas.openxmlformats.org/drawingml/2006/table">
            <a:tbl>
              <a:tblPr/>
              <a:tblGrid>
                <a:gridCol w="300960"/>
                <a:gridCol w="300960"/>
                <a:gridCol w="300960"/>
                <a:gridCol w="301320"/>
                <a:gridCol w="300960"/>
              </a:tblGrid>
              <a:tr h="25488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042200" y="11955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97560" y="119556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9640" y="3933720"/>
          <a:ext cx="3227400" cy="630360"/>
        </p:xfrm>
        <a:graphic>
          <a:graphicData uri="http://schemas.openxmlformats.org/drawingml/2006/table">
            <a:tbl>
              <a:tblPr/>
              <a:tblGrid>
                <a:gridCol w="358920"/>
                <a:gridCol w="358920"/>
                <a:gridCol w="358560"/>
                <a:gridCol w="358920"/>
                <a:gridCol w="358560"/>
                <a:gridCol w="358920"/>
                <a:gridCol w="358560"/>
                <a:gridCol w="358920"/>
                <a:gridCol w="357120"/>
              </a:tblGrid>
              <a:tr h="25488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1347120" y="4799160"/>
            <a:ext cx="182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3" idx="0"/>
          </p:cNvCxnSpPr>
          <p:nvPr/>
        </p:nvCxnSpPr>
        <p:spPr>
          <a:xfrm flipH="1" flipV="1">
            <a:off x="1436400" y="4563360"/>
            <a:ext cx="216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1696320" y="4809960"/>
            <a:ext cx="182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0"/>
          </p:cNvCxnSpPr>
          <p:nvPr/>
        </p:nvCxnSpPr>
        <p:spPr>
          <a:xfrm flipV="1">
            <a:off x="1787400" y="4563360"/>
            <a:ext cx="864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415600" y="4809960"/>
            <a:ext cx="182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7" idx="0"/>
          </p:cNvCxnSpPr>
          <p:nvPr/>
        </p:nvCxnSpPr>
        <p:spPr>
          <a:xfrm flipV="1">
            <a:off x="2506680" y="4563360"/>
            <a:ext cx="720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136320" y="4809960"/>
            <a:ext cx="182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3227040" y="4563360"/>
            <a:ext cx="396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31" name=""/>
          <p:cNvGraphicFramePr/>
          <p:nvPr/>
        </p:nvGraphicFramePr>
        <p:xfrm>
          <a:off x="1411200" y="5235480"/>
          <a:ext cx="1505160" cy="569880"/>
        </p:xfrm>
        <a:graphic>
          <a:graphicData uri="http://schemas.openxmlformats.org/drawingml/2006/table">
            <a:tbl>
              <a:tblPr/>
              <a:tblGrid>
                <a:gridCol w="300960"/>
                <a:gridCol w="300960"/>
                <a:gridCol w="300960"/>
                <a:gridCol w="301320"/>
                <a:gridCol w="300960"/>
              </a:tblGrid>
              <a:tr h="25488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392840" y="35672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82760" y="356724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350028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3789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859280" y="4383000"/>
          <a:ext cx="2151000" cy="630360"/>
        </p:xfrm>
        <a:graphic>
          <a:graphicData uri="http://schemas.openxmlformats.org/drawingml/2006/table">
            <a:tbl>
              <a:tblPr/>
              <a:tblGrid>
                <a:gridCol w="358560"/>
                <a:gridCol w="358920"/>
                <a:gridCol w="358560"/>
                <a:gridCol w="358920"/>
                <a:gridCol w="358560"/>
                <a:gridCol w="357480"/>
              </a:tblGrid>
              <a:tr h="25488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227560" y="5157720"/>
          <a:ext cx="1505160" cy="569880"/>
        </p:xfrm>
        <a:graphic>
          <a:graphicData uri="http://schemas.openxmlformats.org/drawingml/2006/table">
            <a:tbl>
              <a:tblPr/>
              <a:tblGrid>
                <a:gridCol w="300960"/>
                <a:gridCol w="300960"/>
                <a:gridCol w="300960"/>
                <a:gridCol w="301320"/>
                <a:gridCol w="300960"/>
              </a:tblGrid>
              <a:tr h="25488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5717520" y="401652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29240" y="401652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36450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97840" y="530064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8E8-2F72-4B93-8749-0AE1F3C717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ssità dell’algorit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ascuna iterazione del Passo 1 richiede tempo O(1). Analizziamo il numero di iterazioni esplicitando la dimensione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l sottovettore nell’iterazione i-esim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n+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/ (N+1) =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/ (N+1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indi il numero totale di iterazioni è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n+2) =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n+2) /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N+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l Passo 2 richiede tempo costante, quindi il tempo complessivo richiesto dall’algoritmo è O(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n+2) /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N+1)). Il modello di PRAM è CREW perché tutti gli N processori accedono contemporaneamente alle variabili y, l ed 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 noti che, quando N = O(1), il costo complessivo dell’algoritmo è O(log n): pari all’ottimo nel sequenzia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1AF-A867-44AD-9D19-3362D6129B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erire una breve sequenz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un vettore ordin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ano X=(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un vettore ordinato e Y=(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una sequenza di valori qualunque tale che m=O(n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con 0&lt;s&lt;1. Utilizziamo un numero di processori pari ad N=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/m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1-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. È possibile inserire ciascun valore 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ella sequenza X determinando rango(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X) in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O(m log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(n+2) / log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(N+1)) temp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Quando m &lt;&lt; n (ovvero se s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0) si ha N=O(n) e tempo O(1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Quando m=O(n) (s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1) si ha N=O(1) e tempo O(n log n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itmi Paralleli e Distribuiti a.a.2007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0D9-B8B7-4317-B9FF-C35FB24324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9:23:06Z</dcterms:created>
  <dc:creator>Utente della copia di valutazione di Office 2004</dc:creator>
  <dc:description/>
  <dc:language>en-US</dc:language>
  <cp:lastModifiedBy>Saverio Caminiti</cp:lastModifiedBy>
  <cp:lastPrinted>2008-05-21T12:22:04Z</cp:lastPrinted>
  <dcterms:modified xsi:type="dcterms:W3CDTF">2008-06-10T13:22:31Z</dcterms:modified>
  <cp:revision>890</cp:revision>
  <dc:subject/>
  <dc:title>Algoritmi Paralleli e Distribuiti</dc:title>
</cp:coreProperties>
</file>