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9CC-D9D1-4012-8AB3-2DB5DEF8AE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F0D-5AED-466A-B3E4-35A46523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4DB-7C3E-4B37-A3BA-FC3AA0E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B46-6325-4A02-9EA3-CE5B0C4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BF1-4F86-4E49-A01D-8AE3D3E7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D39-CA4F-40EB-B06D-9ABFA18E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B3F8-0A85-4E0F-A8F1-B858D35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9B6-3E21-47F7-8CA0-03BFD5C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B0D-0FD1-46DE-BF6F-C7AA2B0E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5E33-4918-4CE8-91B5-9AC882A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E8BE-ED99-4C79-9EED-1A42C9F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C10-EDE1-4752-9D81-61E9301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9CB-C9C4-4092-832C-039EED6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08EB-E15C-4732-A644-BC71292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230-9E16-4982-BFC6-F560B83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ABAB-310C-4F5F-B8E5-2605E19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31D-1AE6-4FF7-A5A1-2C7DBE04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3749-BDC7-49E3-B688-8B4F2BE0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42D-AC09-4C54-8CA1-932E126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497-A182-49E6-8389-448C0E4B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0C5-E1B7-4FFF-AEE2-65AB546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604-F2C7-4957-BE54-E45B419C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549-46E1-465F-81DE-2092D3E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3AA-5C9B-4009-9C98-723496F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94D-6B42-40CE-8185-65BCBF1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1000" indent="-177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712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C90A-794C-410E-BA73-98E495635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C45-2D7F-41DE-AE1A-B063B1FE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23/05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64120" y="8668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equenze biton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quenza Bitonic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è una sequenza che può essere divisa in due sottosequenze monotone, una crescente e l'altra decrescente o vicever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ono bitoniche le due sequenz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(S) = (min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, min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+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, …, min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(S) = (max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, max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+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, …, max{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ttenute dalla sequenza bitonica S = 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fruttando la definizione di m(S) ed M(S) e le relative proprietà si può ottenere una definizione ricorsiva per le sequenze bitoniche che ci permette di realizzare un primo algoritmo di ordinamento che opera ricorsivamente secondo lo sch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 = 1 3 8 9 6 5 5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) = 1 3 5 4          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) = 6 5 8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1 3     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5 4          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6 5     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M(S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8 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ctr" pos="1081080"/>
                <a:tab algn="ctr" pos="1795320"/>
                <a:tab algn="ctr" pos="2508120"/>
                <a:tab algn="ctr" pos="3233880"/>
                <a:tab algn="ctr" pos="3948120"/>
                <a:tab algn="ctr" pos="4660920"/>
                <a:tab algn="ctr" pos="5386320"/>
                <a:tab algn="ctr" pos="609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mplessità O(log(n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738-8B7F-4E27-A892-57C55EEDF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ze pu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sequenza binaria si dic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li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e è composta interamente da 0 o d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S è bitonica almeno una delle due sottosequenze bitoniche m(S) e M(S) è pulita (diretta conseguenza del fatto che la cardinalità di {0,1} è d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figura è presentato un circuito di ordinamento, di profondità logaritmica, per sequenze 0/1 bitoniche (ad ogni passo rendiamo pulita metà della sequenz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89080" y="3666960"/>
            <a:ext cx="3165480" cy="2643840"/>
            <a:chOff x="2989080" y="3666960"/>
            <a:chExt cx="3165480" cy="2643840"/>
          </a:xfrm>
        </p:grpSpPr>
        <p:grpSp>
          <p:nvGrpSpPr>
            <p:cNvPr id="99" name=""/>
            <p:cNvGrpSpPr/>
            <p:nvPr/>
          </p:nvGrpSpPr>
          <p:grpSpPr>
            <a:xfrm>
              <a:off x="3059280" y="3962520"/>
              <a:ext cx="3023640" cy="2274480"/>
              <a:chOff x="3059280" y="3962520"/>
              <a:chExt cx="3023640" cy="22744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059280" y="3965040"/>
                <a:ext cx="3023640" cy="2266920"/>
                <a:chOff x="3059280" y="3965040"/>
                <a:chExt cx="3023640" cy="2266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059280" y="396504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059280" y="428832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59280" y="461232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059280" y="493632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59280" y="525996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59280" y="558396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59280" y="590796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059280" y="6231960"/>
                  <a:ext cx="30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5647320" y="3967200"/>
                <a:ext cx="252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78560" y="3967200"/>
                <a:ext cx="1800" cy="65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89840" y="3962520"/>
                <a:ext cx="2520" cy="129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99640" y="4291200"/>
                <a:ext cx="2520" cy="129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06920" y="4614840"/>
                <a:ext cx="1800" cy="12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13840" y="4938840"/>
                <a:ext cx="1800" cy="129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85480" y="4291200"/>
                <a:ext cx="2520" cy="65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78560" y="5263200"/>
                <a:ext cx="1800" cy="65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85480" y="5587200"/>
                <a:ext cx="2520" cy="64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47320" y="4614840"/>
                <a:ext cx="252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47320" y="5263200"/>
                <a:ext cx="252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47320" y="5910840"/>
                <a:ext cx="252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989080" y="366696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1440" y="366696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60640" y="366696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59360" y="366696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AA3-79CF-41FD-9D68-9DABE7D11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o di fu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ircuito di fusione fonde due sequenze ordinate costruite sullo stesso alfabeto sfruttando il fatto che, date due sequenze ordinate entrambe crescenti (o decrescenti) x e y, la sequenza che si ottiene concatenando x con z=“y rovesciata” è bitonica (l’inversione della stringa y si realizzi semplicemente variando le connession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profondità del circuito è logaritmica e il numero di comparatori ad ogni passo è n/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89080" y="2811600"/>
            <a:ext cx="3165480" cy="2643840"/>
            <a:chOff x="2989080" y="2811600"/>
            <a:chExt cx="3165480" cy="2643840"/>
          </a:xfrm>
        </p:grpSpPr>
        <p:grpSp>
          <p:nvGrpSpPr>
            <p:cNvPr id="128" name=""/>
            <p:cNvGrpSpPr/>
            <p:nvPr/>
          </p:nvGrpSpPr>
          <p:grpSpPr>
            <a:xfrm>
              <a:off x="3059280" y="3109680"/>
              <a:ext cx="3024000" cy="2266200"/>
              <a:chOff x="3059280" y="3109680"/>
              <a:chExt cx="3024000" cy="2266200"/>
            </a:xfrm>
          </p:grpSpPr>
          <p:sp>
            <p:nvSpPr>
              <p:cNvPr id="129" name=""/>
              <p:cNvSpPr/>
              <p:nvPr/>
            </p:nvSpPr>
            <p:spPr>
              <a:xfrm>
                <a:off x="3059280" y="310968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343296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59280" y="375696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59280" y="408060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59280" y="440424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59280" y="472788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59280" y="505188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59280" y="537588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648400" y="311112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8200" y="3111120"/>
              <a:ext cx="324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0920" y="3106440"/>
              <a:ext cx="0" cy="22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00360" y="3435120"/>
              <a:ext cx="1800" cy="16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06920" y="3758760"/>
              <a:ext cx="32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4920" y="408276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86200" y="3435120"/>
              <a:ext cx="180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8200" y="4406760"/>
              <a:ext cx="324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86200" y="4730400"/>
              <a:ext cx="180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8400" y="375876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8400" y="4406760"/>
              <a:ext cx="1440" cy="32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48400" y="5054400"/>
              <a:ext cx="1440" cy="32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9080" y="2811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1440" y="2811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60640" y="2811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59360" y="2811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08D-C391-48E3-AA7D-74D2030CB7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ito di ordinam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figura è riportato un circuito di ordinamento che realizza l’ordinamento connettendo iterativamente diversi circuiti di  fusione (la base di questa costruzione sta nel fatto che ogni sequenza di due elementi è biton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iché concateniamo un numero logaritmico di circuiti di fusione, otteniamo una profondità del circuito O(log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30160" y="2589120"/>
            <a:ext cx="5684760" cy="2784600"/>
            <a:chOff x="1730160" y="2589120"/>
            <a:chExt cx="5684760" cy="2784600"/>
          </a:xfrm>
        </p:grpSpPr>
        <p:grpSp>
          <p:nvGrpSpPr>
            <p:cNvPr id="156" name=""/>
            <p:cNvGrpSpPr/>
            <p:nvPr/>
          </p:nvGrpSpPr>
          <p:grpSpPr>
            <a:xfrm>
              <a:off x="1763640" y="2894040"/>
              <a:ext cx="5580000" cy="2266560"/>
              <a:chOff x="1763640" y="2894040"/>
              <a:chExt cx="5580000" cy="2266560"/>
            </a:xfrm>
          </p:grpSpPr>
          <p:sp>
            <p:nvSpPr>
              <p:cNvPr id="157" name=""/>
              <p:cNvSpPr/>
              <p:nvPr/>
            </p:nvSpPr>
            <p:spPr>
              <a:xfrm>
                <a:off x="1763640" y="289404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63640" y="321732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63640" y="354132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63640" y="386532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63640" y="418860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3640" y="451260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63640" y="483660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3640" y="5160600"/>
                <a:ext cx="55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908760" y="289548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38560" y="2895480"/>
              <a:ext cx="32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1280" y="2890800"/>
              <a:ext cx="0" cy="22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0720" y="3219480"/>
              <a:ext cx="1440" cy="16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66920" y="3543480"/>
              <a:ext cx="32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4920" y="3867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46560" y="3219480"/>
              <a:ext cx="14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38560" y="4191120"/>
              <a:ext cx="32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6560" y="4514760"/>
              <a:ext cx="14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8760" y="35434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08760" y="419112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08760" y="483876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9440" y="2595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1440" y="2595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21000" y="2595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19720" y="2595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63720" y="2637000"/>
              <a:ext cx="2521080" cy="2736720"/>
            </a:xfrm>
            <a:custGeom>
              <a:avLst/>
              <a:gdLst>
                <a:gd name="textAreaLeft" fmla="*/ 64080 w 2521080"/>
                <a:gd name="textAreaRight" fmla="*/ 2457000 w 2521080"/>
                <a:gd name="textAreaTop" fmla="*/ 64080 h 2736720"/>
                <a:gd name="textAreaBottom" fmla="*/ 2672640 h 2736720"/>
              </a:gdLst>
              <a:ahLst/>
              <a:rect l="textAreaLeft" t="textAreaTop" r="textAreaRight" b="textAreaBottom"/>
              <a:pathLst>
                <a:path w="21600" h="23447">
                  <a:moveTo>
                    <a:pt x="1877" y="0"/>
                  </a:moveTo>
                  <a:arcTo wR="1877" hR="1877" stAng="16200000" swAng="-5400000"/>
                  <a:lnTo>
                    <a:pt x="0" y="21570"/>
                  </a:lnTo>
                  <a:arcTo wR="1877" hR="1877" stAng="10800000" swAng="-5400000"/>
                  <a:lnTo>
                    <a:pt x="19723" y="23447"/>
                  </a:lnTo>
                  <a:arcTo wR="1877" hR="1877" stAng="5400000" swAng="-5400000"/>
                  <a:lnTo>
                    <a:pt x="21600" y="1877"/>
                  </a:lnTo>
                  <a:arcTo wR="1877" hR="187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2000" y="289260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2000" y="354024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2000" y="41878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2000" y="483552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74640" y="259560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93920" y="2889360"/>
              <a:ext cx="32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01920" y="3213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3920" y="4184640"/>
              <a:ext cx="32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01920" y="45086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24000" y="2637000"/>
              <a:ext cx="1225440" cy="1296720"/>
            </a:xfrm>
            <a:custGeom>
              <a:avLst/>
              <a:gdLst>
                <a:gd name="textAreaLeft" fmla="*/ 30960 w 1225440"/>
                <a:gd name="textAreaRight" fmla="*/ 1194480 w 1225440"/>
                <a:gd name="textAreaTop" fmla="*/ 30960 h 1296720"/>
                <a:gd name="textAreaBottom" fmla="*/ 1265760 h 1296720"/>
              </a:gdLst>
              <a:ahLst/>
              <a:rect l="textAreaLeft" t="textAreaTop" r="textAreaRight" b="textAreaBottom"/>
              <a:pathLst>
                <a:path w="21600" h="22856">
                  <a:moveTo>
                    <a:pt x="1877" y="0"/>
                  </a:moveTo>
                  <a:arcTo wR="1877" hR="1877" stAng="16200000" swAng="-5400000"/>
                  <a:lnTo>
                    <a:pt x="0" y="20979"/>
                  </a:lnTo>
                  <a:arcTo wR="1877" hR="1877" stAng="10800000" swAng="-5400000"/>
                  <a:lnTo>
                    <a:pt x="19723" y="22856"/>
                  </a:lnTo>
                  <a:arcTo wR="1877" hR="1877" stAng="5400000" swAng="-5400000"/>
                  <a:lnTo>
                    <a:pt x="21600" y="1877"/>
                  </a:lnTo>
                  <a:arcTo wR="1877" hR="187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24000" y="3983040"/>
              <a:ext cx="1225440" cy="1368360"/>
            </a:xfrm>
            <a:custGeom>
              <a:avLst/>
              <a:gdLst>
                <a:gd name="textAreaLeft" fmla="*/ 30960 w 1225440"/>
                <a:gd name="textAreaRight" fmla="*/ 1194480 w 1225440"/>
                <a:gd name="textAreaTop" fmla="*/ 30960 h 1368360"/>
                <a:gd name="textAreaBottom" fmla="*/ 1337400 h 1368360"/>
              </a:gdLst>
              <a:ahLst/>
              <a:rect l="textAreaLeft" t="textAreaTop" r="textAreaRight" b="textAreaBottom"/>
              <a:pathLst>
                <a:path w="21600" h="24118">
                  <a:moveTo>
                    <a:pt x="1877" y="0"/>
                  </a:moveTo>
                  <a:arcTo wR="1877" hR="1877" stAng="16200000" swAng="-5400000"/>
                  <a:lnTo>
                    <a:pt x="0" y="22241"/>
                  </a:lnTo>
                  <a:arcTo wR="1877" hR="1877" stAng="10800000" swAng="-5400000"/>
                  <a:lnTo>
                    <a:pt x="19723" y="24118"/>
                  </a:lnTo>
                  <a:arcTo wR="1877" hR="1877" stAng="5400000" swAng="-5400000"/>
                  <a:lnTo>
                    <a:pt x="21600" y="1877"/>
                  </a:lnTo>
                  <a:arcTo wR="1877" hR="187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8480" y="258912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1040" y="288612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1040" y="353376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1040" y="418140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81040" y="482904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60360" y="2781360"/>
              <a:ext cx="433440" cy="576360"/>
            </a:xfrm>
            <a:custGeom>
              <a:avLst/>
              <a:gdLst>
                <a:gd name="textAreaLeft" fmla="*/ 40320 w 433440"/>
                <a:gd name="textAreaRight" fmla="*/ 393120 w 433440"/>
                <a:gd name="textAreaTop" fmla="*/ 40320 h 576360"/>
                <a:gd name="textAreaBottom" fmla="*/ 536040 h 576360"/>
              </a:gdLst>
              <a:ahLst/>
              <a:rect l="textAreaLeft" t="textAreaTop" r="textAreaRight" b="textAreaBottom"/>
              <a:pathLst>
                <a:path w="21600" h="28716">
                  <a:moveTo>
                    <a:pt x="6884" y="0"/>
                  </a:moveTo>
                  <a:arcTo wR="6884" hR="6884" stAng="16200000" swAng="-5400000"/>
                  <a:lnTo>
                    <a:pt x="0" y="21832"/>
                  </a:lnTo>
                  <a:arcTo wR="6884" hR="6884" stAng="10800000" swAng="-5400000"/>
                  <a:lnTo>
                    <a:pt x="14716" y="28716"/>
                  </a:lnTo>
                  <a:arcTo wR="6884" hR="6884" stAng="5400000" swAng="-5400000"/>
                  <a:lnTo>
                    <a:pt x="21600" y="6884"/>
                  </a:lnTo>
                  <a:arcTo wR="6884" hR="688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60360" y="3429000"/>
              <a:ext cx="433440" cy="576360"/>
            </a:xfrm>
            <a:custGeom>
              <a:avLst/>
              <a:gdLst>
                <a:gd name="textAreaLeft" fmla="*/ 40320 w 433440"/>
                <a:gd name="textAreaRight" fmla="*/ 393120 w 433440"/>
                <a:gd name="textAreaTop" fmla="*/ 40320 h 576360"/>
                <a:gd name="textAreaBottom" fmla="*/ 536040 h 576360"/>
              </a:gdLst>
              <a:ahLst/>
              <a:rect l="textAreaLeft" t="textAreaTop" r="textAreaRight" b="textAreaBottom"/>
              <a:pathLst>
                <a:path w="21600" h="28716">
                  <a:moveTo>
                    <a:pt x="6884" y="0"/>
                  </a:moveTo>
                  <a:arcTo wR="6884" hR="6884" stAng="16200000" swAng="-5400000"/>
                  <a:lnTo>
                    <a:pt x="0" y="21832"/>
                  </a:lnTo>
                  <a:arcTo wR="6884" hR="6884" stAng="10800000" swAng="-5400000"/>
                  <a:lnTo>
                    <a:pt x="14716" y="28716"/>
                  </a:lnTo>
                  <a:arcTo wR="6884" hR="6884" stAng="5400000" swAng="-5400000"/>
                  <a:lnTo>
                    <a:pt x="21600" y="6884"/>
                  </a:lnTo>
                  <a:arcTo wR="6884" hR="688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60360" y="4076640"/>
              <a:ext cx="433440" cy="576360"/>
            </a:xfrm>
            <a:custGeom>
              <a:avLst/>
              <a:gdLst>
                <a:gd name="textAreaLeft" fmla="*/ 40320 w 433440"/>
                <a:gd name="textAreaRight" fmla="*/ 393120 w 433440"/>
                <a:gd name="textAreaTop" fmla="*/ 40320 h 576360"/>
                <a:gd name="textAreaBottom" fmla="*/ 536040 h 576360"/>
              </a:gdLst>
              <a:ahLst/>
              <a:rect l="textAreaLeft" t="textAreaTop" r="textAreaRight" b="textAreaBottom"/>
              <a:pathLst>
                <a:path w="21600" h="28716">
                  <a:moveTo>
                    <a:pt x="6884" y="0"/>
                  </a:moveTo>
                  <a:arcTo wR="6884" hR="6884" stAng="16200000" swAng="-5400000"/>
                  <a:lnTo>
                    <a:pt x="0" y="21832"/>
                  </a:lnTo>
                  <a:arcTo wR="6884" hR="6884" stAng="10800000" swAng="-5400000"/>
                  <a:lnTo>
                    <a:pt x="14716" y="28716"/>
                  </a:lnTo>
                  <a:arcTo wR="6884" hR="6884" stAng="5400000" swAng="-5400000"/>
                  <a:lnTo>
                    <a:pt x="21600" y="6884"/>
                  </a:lnTo>
                  <a:arcTo wR="6884" hR="688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60360" y="4724280"/>
              <a:ext cx="433440" cy="576360"/>
            </a:xfrm>
            <a:custGeom>
              <a:avLst/>
              <a:gdLst>
                <a:gd name="textAreaLeft" fmla="*/ 40320 w 433440"/>
                <a:gd name="textAreaRight" fmla="*/ 393120 w 433440"/>
                <a:gd name="textAreaTop" fmla="*/ 40320 h 576360"/>
                <a:gd name="textAreaBottom" fmla="*/ 536040 h 576360"/>
              </a:gdLst>
              <a:ahLst/>
              <a:rect l="textAreaLeft" t="textAreaTop" r="textAreaRight" b="textAreaBottom"/>
              <a:pathLst>
                <a:path w="21600" h="28716">
                  <a:moveTo>
                    <a:pt x="6884" y="0"/>
                  </a:moveTo>
                  <a:arcTo wR="6884" hR="6884" stAng="16200000" swAng="-5400000"/>
                  <a:lnTo>
                    <a:pt x="0" y="21832"/>
                  </a:lnTo>
                  <a:arcTo wR="6884" hR="6884" stAng="10800000" swAng="-5400000"/>
                  <a:lnTo>
                    <a:pt x="14716" y="28716"/>
                  </a:lnTo>
                  <a:arcTo wR="6884" hR="6884" stAng="5400000" swAng="-5400000"/>
                  <a:lnTo>
                    <a:pt x="21600" y="6884"/>
                  </a:lnTo>
                  <a:arcTo wR="6884" hR="688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30160" y="2589120"/>
              <a:ext cx="295200" cy="26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228-5B1F-4547-8B43-A14AAEDAE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pplicando il teorema di B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ircuito di ordinamento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è un circuito combinatorico  di profondità p = O(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, di dimensione pari al numero di comparatori c = O(n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, fan in e fan out limitati. Per il Teorema di Brent, l’algoritmo di ordinamento che lavora su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uò essere simulato da una algoritmo che lavora su una PRAM EREW con N processori in tempo O(c / N + t), ovvero O((n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 / N +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N = O(n) si ha che la complessità temporale dell'ordinamento su una PRAM EREW è O(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 e il costo O(n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874-82BC-4E82-BABA-EF5B44E3C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pari/disp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idea base è quella di far lavorare prima tutti i processori di indice pari e poi quelli di indice dispari per evitare letture e scritture concorrenti nei confro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&lt;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x[i] &gt; x[i+1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wap(x[i], x[i+1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&lt;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x[i] &gt; x[i+1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wap(x[i], x[i+1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chiede tempo O(n) su una PRAM EREW con O(n) process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osto complessivo è O(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748480" y="2421000"/>
          <a:ext cx="2927160" cy="2273400"/>
        </p:xfrm>
        <a:graphic>
          <a:graphicData uri="http://schemas.openxmlformats.org/drawingml/2006/table">
            <a:tbl>
              <a:tblPr/>
              <a:tblGrid>
                <a:gridCol w="1122120"/>
                <a:gridCol w="257400"/>
                <a:gridCol w="258480"/>
                <a:gridCol w="257400"/>
                <a:gridCol w="257040"/>
                <a:gridCol w="258840"/>
                <a:gridCol w="257040"/>
                <a:gridCol w="258840"/>
              </a:tblGrid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1 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1 dis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2 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2 dis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3 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=3 disp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36000" rIns="108000" tIns="72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72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"/>
          <p:cNvGrpSpPr/>
          <p:nvPr/>
        </p:nvGrpSpPr>
        <p:grpSpPr>
          <a:xfrm>
            <a:off x="6941880" y="2925720"/>
            <a:ext cx="1393560" cy="71280"/>
            <a:chOff x="6941880" y="2925720"/>
            <a:chExt cx="1393560" cy="71280"/>
          </a:xfrm>
        </p:grpSpPr>
        <p:sp>
          <p:nvSpPr>
            <p:cNvPr id="209" name=""/>
            <p:cNvSpPr/>
            <p:nvPr/>
          </p:nvSpPr>
          <p:spPr>
            <a:xfrm rot="5400000">
              <a:off x="7086960" y="278172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7606080" y="278028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8120160" y="278028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198920" y="3213000"/>
            <a:ext cx="1393560" cy="71280"/>
            <a:chOff x="7198920" y="3213000"/>
            <a:chExt cx="1393560" cy="71280"/>
          </a:xfrm>
        </p:grpSpPr>
        <p:sp>
          <p:nvSpPr>
            <p:cNvPr id="213" name=""/>
            <p:cNvSpPr/>
            <p:nvPr/>
          </p:nvSpPr>
          <p:spPr>
            <a:xfrm rot="5400000">
              <a:off x="7344000" y="306900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7863120" y="306756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8377200" y="306756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48000" y="3502080"/>
            <a:ext cx="1393560" cy="71280"/>
            <a:chOff x="6948000" y="3502080"/>
            <a:chExt cx="1393560" cy="71280"/>
          </a:xfrm>
        </p:grpSpPr>
        <p:sp>
          <p:nvSpPr>
            <p:cNvPr id="217" name=""/>
            <p:cNvSpPr/>
            <p:nvPr/>
          </p:nvSpPr>
          <p:spPr>
            <a:xfrm rot="5400000">
              <a:off x="7093080" y="335808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7612200" y="335664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8126280" y="335664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205400" y="3789360"/>
            <a:ext cx="1393560" cy="71280"/>
            <a:chOff x="7205400" y="3789360"/>
            <a:chExt cx="1393560" cy="71280"/>
          </a:xfrm>
        </p:grpSpPr>
        <p:sp>
          <p:nvSpPr>
            <p:cNvPr id="221" name=""/>
            <p:cNvSpPr/>
            <p:nvPr/>
          </p:nvSpPr>
          <p:spPr>
            <a:xfrm rot="5400000">
              <a:off x="7350480" y="364536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9600" y="364392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8383680" y="364392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948000" y="4065480"/>
            <a:ext cx="1393560" cy="71280"/>
            <a:chOff x="6948000" y="4065480"/>
            <a:chExt cx="1393560" cy="71280"/>
          </a:xfrm>
        </p:grpSpPr>
        <p:sp>
          <p:nvSpPr>
            <p:cNvPr id="225" name=""/>
            <p:cNvSpPr/>
            <p:nvPr/>
          </p:nvSpPr>
          <p:spPr>
            <a:xfrm rot="5400000">
              <a:off x="7093080" y="392148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7612200" y="392004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8126280" y="392004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205400" y="4352760"/>
            <a:ext cx="1393560" cy="71280"/>
            <a:chOff x="7205400" y="4352760"/>
            <a:chExt cx="1393560" cy="71280"/>
          </a:xfrm>
        </p:grpSpPr>
        <p:sp>
          <p:nvSpPr>
            <p:cNvPr id="229" name=""/>
            <p:cNvSpPr/>
            <p:nvPr/>
          </p:nvSpPr>
          <p:spPr>
            <a:xfrm rot="5400000">
              <a:off x="7350480" y="420876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7869600" y="420732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8383680" y="4207320"/>
              <a:ext cx="69840" cy="36036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36360 h 360360"/>
                <a:gd name="textAreaBottom" fmla="*/ 324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89"/>
                    <a:pt x="21600" y="4377"/>
                  </a:cubicBezTo>
                  <a:lnTo>
                    <a:pt x="21600" y="17223"/>
                  </a:lnTo>
                  <a:cubicBezTo>
                    <a:pt x="21600" y="1941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FF1-F4B1-4026-9036-E64A21EB2A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oritmo pari/dispar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 p &lt; n process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gni processore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gestisce un blocco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mposto di n/p elem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ina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modo sequ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&lt;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= Merge(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[0, p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[p, 2p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&lt;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= Merge(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[0, p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' [p, 2p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tempo richiesto è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O(n/p log (n/p)) + p/2 O(n/p) che di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(n log n) quando il numero dei processori è O(log 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9A1-5394-40F4-81DF-7DE5A9E39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inamento su PRAM CRC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fruttiamo la scrittura concorrente per ottenere un semplice algoritmo di ordinamento. Assumiamo una PRAM CRCW con scrittura concorrente della somma dei valori scrit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x[ i ] &gt; x[ j ]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x[ i ] &gt; x[ j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&gt; j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[ i ]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,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[ c[ i ] ] = x[ i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 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rocessori il tempo richiesto è O(1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98100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osto totale è quindi O(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812000" y="2349360"/>
          <a:ext cx="550800" cy="1584360"/>
        </p:xfrm>
        <a:graphic>
          <a:graphicData uri="http://schemas.openxmlformats.org/drawingml/2006/table">
            <a:tbl>
              <a:tblPr/>
              <a:tblGrid>
                <a:gridCol w="276120"/>
                <a:gridCol w="274680"/>
              </a:tblGrid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it-IT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16720" y="2349360"/>
          <a:ext cx="550800" cy="1584360"/>
        </p:xfrm>
        <a:graphic>
          <a:graphicData uri="http://schemas.openxmlformats.org/drawingml/2006/table">
            <a:tbl>
              <a:tblPr/>
              <a:tblGrid>
                <a:gridCol w="276120"/>
                <a:gridCol w="274680"/>
              </a:tblGrid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it-IT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n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7164360" y="2349360"/>
          <a:ext cx="550800" cy="1584360"/>
        </p:xfrm>
        <a:graphic>
          <a:graphicData uri="http://schemas.openxmlformats.org/drawingml/2006/table">
            <a:tbl>
              <a:tblPr/>
              <a:tblGrid>
                <a:gridCol w="276120"/>
                <a:gridCol w="274680"/>
              </a:tblGrid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659640" y="4292640"/>
          <a:ext cx="1657440" cy="1847880"/>
        </p:xfrm>
        <a:graphic>
          <a:graphicData uri="http://schemas.openxmlformats.org/drawingml/2006/table">
            <a:tbl>
              <a:tblPr/>
              <a:tblGrid>
                <a:gridCol w="276120"/>
                <a:gridCol w="276480"/>
                <a:gridCol w="276120"/>
                <a:gridCol w="276120"/>
                <a:gridCol w="276480"/>
                <a:gridCol w="276120"/>
              </a:tblGrid>
              <a:tr h="26352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ronti effettu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0C0-E3B7-4BB5-B616-07466C2FB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5-21T12:22:04Z</cp:lastPrinted>
  <dcterms:modified xsi:type="dcterms:W3CDTF">2008-05-29T10:21:53Z</dcterms:modified>
  <cp:revision>802</cp:revision>
  <dc:subject/>
  <dc:title>Algoritmi Paralleli e Distribuiti</dc:title>
</cp:coreProperties>
</file>