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A972-FDE0-4BA9-A8CD-C32DFBC15F7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no Accademico 200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3E0-8608-4CA5-8BBC-D9B063EC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76D-E421-469E-B204-041915C9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4F4-C6A9-4337-9718-03790322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074-3B61-4A80-AC08-8CC069DB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B857-6342-4BC5-827A-5E11271D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31D5-D406-4EA7-A076-BBA0545B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263A-53A1-4FEC-B70F-F0F29667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5A0E-0A9B-4098-9706-658D251F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71F8-3493-4541-903C-940210C9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6728-ACDD-4ABF-841D-050E41D3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8DF3-B366-4C27-902F-9D8C68E0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D70-C6E2-46E4-AF0B-3A09CE8E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6CFF-9A72-45D7-8793-F8D4D757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920F-D227-4831-973C-5CB9F3CC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8F87-978D-489F-9DCD-60696AE6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03B1-854C-432A-975F-C1A15219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B989-4337-464E-BD0C-607068F4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201-BA92-40D3-9B67-1A06D8FF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F85-067E-4325-A5D0-ABD45CDA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B36-8B4E-44B1-AD3C-151D3AC5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B40-9BF8-401B-B4CA-1AA5720E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A88-0679-4A20-83A6-BD160494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B7D-53A5-41C5-80C4-D80DA44D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DF2-F1C6-4D0C-B71A-8C8CE3EB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1000" indent="-177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712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1280" y="6453000"/>
            <a:ext cx="439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77B9-1FBF-4FD5-9B2B-739C4EB49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684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3B8E-F50F-4BC1-B6A1-2C58B5B6E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16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036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 Paralleli e Distribuit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. 2007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zione del 15/05/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f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s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OSSELLA PETRES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ura del Dott. SAVERIO CAMIN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olo del minim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mite contr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pplicazione ripetuta del rake con confronto del valore fra i nodi eliminati ad ogni pass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p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e fr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permette di identificare il valore minimo presente in un albero in tempo O(log n) con n processori su PRAM E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diamo un esemp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708360" y="4349880"/>
          <a:ext cx="4967280" cy="947520"/>
        </p:xfrm>
        <a:graphic>
          <a:graphicData uri="http://schemas.openxmlformats.org/drawingml/2006/table">
            <a:tbl>
              <a:tblPr/>
              <a:tblGrid>
                <a:gridCol w="811080"/>
                <a:gridCol w="322560"/>
                <a:gridCol w="317520"/>
                <a:gridCol w="318960"/>
                <a:gridCol w="318960"/>
                <a:gridCol w="320760"/>
                <a:gridCol w="320760"/>
                <a:gridCol w="317520"/>
                <a:gridCol w="322200"/>
                <a:gridCol w="317520"/>
                <a:gridCol w="322200"/>
                <a:gridCol w="317520"/>
                <a:gridCol w="322200"/>
                <a:gridCol w="317520"/>
              </a:tblGrid>
              <a:tr h="31572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69" name=""/>
          <p:cNvGrpSpPr/>
          <p:nvPr/>
        </p:nvGrpSpPr>
        <p:grpSpPr>
          <a:xfrm>
            <a:off x="699480" y="3971880"/>
            <a:ext cx="2431440" cy="1980360"/>
            <a:chOff x="699480" y="3971880"/>
            <a:chExt cx="2431440" cy="1980360"/>
          </a:xfrm>
        </p:grpSpPr>
        <p:sp>
          <p:nvSpPr>
            <p:cNvPr id="470" name=""/>
            <p:cNvSpPr/>
            <p:nvPr/>
          </p:nvSpPr>
          <p:spPr>
            <a:xfrm>
              <a:off x="900000" y="463536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76360" y="463536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7280" y="434808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"/>
            <p:cNvCxnSpPr>
              <a:stCxn id="470" idx="7"/>
              <a:endCxn id="472" idx="3"/>
            </p:cNvCxnSpPr>
            <p:nvPr/>
          </p:nvCxnSpPr>
          <p:spPr>
            <a:xfrm flipV="1">
              <a:off x="1144080" y="4592160"/>
              <a:ext cx="8676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4" name=""/>
            <p:cNvCxnSpPr>
              <a:stCxn id="471" idx="1"/>
              <a:endCxn id="472" idx="5"/>
            </p:cNvCxnSpPr>
            <p:nvPr/>
          </p:nvCxnSpPr>
          <p:spPr>
            <a:xfrm flipH="1" flipV="1">
              <a:off x="1431720" y="459216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5" name=""/>
            <p:cNvSpPr/>
            <p:nvPr/>
          </p:nvSpPr>
          <p:spPr>
            <a:xfrm>
              <a:off x="2413080" y="434988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36720" y="39895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2" idx="7"/>
              <a:endCxn id="476" idx="3"/>
            </p:cNvCxnSpPr>
            <p:nvPr/>
          </p:nvCxnSpPr>
          <p:spPr>
            <a:xfrm flipV="1">
              <a:off x="1431720" y="4233600"/>
              <a:ext cx="448200" cy="15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8" name=""/>
            <p:cNvCxnSpPr>
              <a:stCxn id="475" idx="1"/>
              <a:endCxn id="476" idx="5"/>
            </p:cNvCxnSpPr>
            <p:nvPr/>
          </p:nvCxnSpPr>
          <p:spPr>
            <a:xfrm flipH="1" flipV="1">
              <a:off x="2080440" y="4233240"/>
              <a:ext cx="37548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9" name=""/>
            <p:cNvSpPr/>
            <p:nvPr/>
          </p:nvSpPr>
          <p:spPr>
            <a:xfrm>
              <a:off x="1187280" y="492444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63640" y="49244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76360" y="52135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52720" y="52135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3" name=""/>
            <p:cNvCxnSpPr>
              <a:stCxn id="482" idx="1"/>
              <a:endCxn id="480" idx="5"/>
            </p:cNvCxnSpPr>
            <p:nvPr/>
          </p:nvCxnSpPr>
          <p:spPr>
            <a:xfrm flipH="1" flipV="1">
              <a:off x="2007720" y="5168520"/>
              <a:ext cx="8784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4" name=""/>
            <p:cNvCxnSpPr>
              <a:stCxn id="481" idx="7"/>
              <a:endCxn id="480" idx="3"/>
            </p:cNvCxnSpPr>
            <p:nvPr/>
          </p:nvCxnSpPr>
          <p:spPr>
            <a:xfrm flipV="1">
              <a:off x="1720800" y="5168520"/>
              <a:ext cx="8640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5" name=""/>
            <p:cNvCxnSpPr>
              <a:stCxn id="479" idx="7"/>
              <a:endCxn id="471" idx="3"/>
            </p:cNvCxnSpPr>
            <p:nvPr/>
          </p:nvCxnSpPr>
          <p:spPr>
            <a:xfrm flipV="1">
              <a:off x="1432080" y="4879440"/>
              <a:ext cx="8784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6" name=""/>
            <p:cNvCxnSpPr>
              <a:stCxn id="480" idx="1"/>
              <a:endCxn id="471" idx="5"/>
            </p:cNvCxnSpPr>
            <p:nvPr/>
          </p:nvCxnSpPr>
          <p:spPr>
            <a:xfrm flipH="1" flipV="1">
              <a:off x="1720440" y="4879440"/>
              <a:ext cx="8640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87" name=""/>
            <p:cNvSpPr/>
            <p:nvPr/>
          </p:nvSpPr>
          <p:spPr>
            <a:xfrm>
              <a:off x="2124000" y="46371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00360" y="46371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7" idx="7"/>
            </p:cNvCxnSpPr>
            <p:nvPr/>
          </p:nvCxnSpPr>
          <p:spPr>
            <a:xfrm flipV="1">
              <a:off x="2368440" y="459396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0" name=""/>
            <p:cNvCxnSpPr>
              <a:stCxn id="488" idx="1"/>
            </p:cNvCxnSpPr>
            <p:nvPr/>
          </p:nvCxnSpPr>
          <p:spPr>
            <a:xfrm flipH="1" flipV="1">
              <a:off x="2655360" y="459396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1" name=""/>
            <p:cNvSpPr/>
            <p:nvPr/>
          </p:nvSpPr>
          <p:spPr>
            <a:xfrm>
              <a:off x="1763640" y="55008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40000" y="55008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92" idx="1"/>
            </p:cNvCxnSpPr>
            <p:nvPr/>
          </p:nvCxnSpPr>
          <p:spPr>
            <a:xfrm flipH="1" flipV="1">
              <a:off x="2295000" y="5455800"/>
              <a:ext cx="8784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4" name=""/>
            <p:cNvCxnSpPr>
              <a:stCxn id="491" idx="7"/>
            </p:cNvCxnSpPr>
            <p:nvPr/>
          </p:nvCxnSpPr>
          <p:spPr>
            <a:xfrm flipV="1">
              <a:off x="2008080" y="5455800"/>
              <a:ext cx="8640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5" name=""/>
            <p:cNvSpPr/>
            <p:nvPr/>
          </p:nvSpPr>
          <p:spPr>
            <a:xfrm>
              <a:off x="986760" y="42768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63120" y="3971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54640" y="434988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80" y="4835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4160" y="461952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41080" y="470844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60200" y="47642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55080" y="4997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80720" y="492444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14000" y="528480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70160" y="521172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02720" y="564516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57800" y="55720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3CF-D2F6-4AB0-AC49-DA110BAC0F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5119920" y="4437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25200" y="414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olo del minim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mite contr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900000" y="21859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76360" y="21859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7280" y="1898640"/>
            <a:ext cx="287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"/>
          <p:cNvCxnSpPr>
            <a:stCxn id="511" idx="7"/>
            <a:endCxn id="513" idx="3"/>
          </p:cNvCxnSpPr>
          <p:nvPr/>
        </p:nvCxnSpPr>
        <p:spPr>
          <a:xfrm flipV="1">
            <a:off x="1144080" y="2142720"/>
            <a:ext cx="8676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12" idx="1"/>
            <a:endCxn id="513" idx="5"/>
          </p:cNvCxnSpPr>
          <p:nvPr/>
        </p:nvCxnSpPr>
        <p:spPr>
          <a:xfrm flipH="1" flipV="1">
            <a:off x="1431720" y="2142720"/>
            <a:ext cx="8784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6" name=""/>
          <p:cNvSpPr/>
          <p:nvPr/>
        </p:nvSpPr>
        <p:spPr>
          <a:xfrm>
            <a:off x="2413080" y="190008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36720" y="153972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"/>
          <p:cNvCxnSpPr>
            <a:stCxn id="513" idx="7"/>
            <a:endCxn id="517" idx="3"/>
          </p:cNvCxnSpPr>
          <p:nvPr/>
        </p:nvCxnSpPr>
        <p:spPr>
          <a:xfrm flipV="1">
            <a:off x="1431720" y="1784160"/>
            <a:ext cx="44820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16" idx="1"/>
            <a:endCxn id="517" idx="5"/>
          </p:cNvCxnSpPr>
          <p:nvPr/>
        </p:nvCxnSpPr>
        <p:spPr>
          <a:xfrm flipH="1" flipV="1">
            <a:off x="2080440" y="1783800"/>
            <a:ext cx="37548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187280" y="2475000"/>
            <a:ext cx="287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63640" y="24750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476360" y="27637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052720" y="27637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4" name=""/>
          <p:cNvCxnSpPr>
            <a:stCxn id="523" idx="1"/>
            <a:endCxn id="521" idx="5"/>
          </p:cNvCxnSpPr>
          <p:nvPr/>
        </p:nvCxnSpPr>
        <p:spPr>
          <a:xfrm flipH="1" flipV="1">
            <a:off x="2007720" y="2719080"/>
            <a:ext cx="87840" cy="8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5" name=""/>
          <p:cNvCxnSpPr>
            <a:stCxn id="522" idx="7"/>
            <a:endCxn id="521" idx="3"/>
          </p:cNvCxnSpPr>
          <p:nvPr/>
        </p:nvCxnSpPr>
        <p:spPr>
          <a:xfrm flipV="1">
            <a:off x="1720800" y="2719080"/>
            <a:ext cx="86400" cy="8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6" name=""/>
          <p:cNvCxnSpPr>
            <a:stCxn id="520" idx="7"/>
            <a:endCxn id="512" idx="3"/>
          </p:cNvCxnSpPr>
          <p:nvPr/>
        </p:nvCxnSpPr>
        <p:spPr>
          <a:xfrm flipV="1">
            <a:off x="1432080" y="2430000"/>
            <a:ext cx="87840" cy="8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521" idx="1"/>
            <a:endCxn id="512" idx="5"/>
          </p:cNvCxnSpPr>
          <p:nvPr/>
        </p:nvCxnSpPr>
        <p:spPr>
          <a:xfrm flipH="1" flipV="1">
            <a:off x="1720440" y="2430000"/>
            <a:ext cx="86400" cy="8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124000" y="21877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700360" y="21877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"/>
          <p:cNvCxnSpPr>
            <a:stCxn id="528" idx="7"/>
          </p:cNvCxnSpPr>
          <p:nvPr/>
        </p:nvCxnSpPr>
        <p:spPr>
          <a:xfrm flipV="1">
            <a:off x="2368440" y="2144520"/>
            <a:ext cx="8640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9" idx="1"/>
          </p:cNvCxnSpPr>
          <p:nvPr/>
        </p:nvCxnSpPr>
        <p:spPr>
          <a:xfrm flipH="1" flipV="1">
            <a:off x="2655360" y="2144520"/>
            <a:ext cx="8784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763640" y="305100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340000" y="305100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"/>
          <p:cNvCxnSpPr>
            <a:stCxn id="533" idx="1"/>
          </p:cNvCxnSpPr>
          <p:nvPr/>
        </p:nvCxnSpPr>
        <p:spPr>
          <a:xfrm flipH="1" flipV="1">
            <a:off x="2295000" y="3006360"/>
            <a:ext cx="87840" cy="8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32" idx="7"/>
          </p:cNvCxnSpPr>
          <p:nvPr/>
        </p:nvCxnSpPr>
        <p:spPr>
          <a:xfrm flipV="1">
            <a:off x="2008080" y="3006360"/>
            <a:ext cx="86400" cy="8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536" name=""/>
          <p:cNvGraphicFramePr/>
          <p:nvPr/>
        </p:nvGraphicFramePr>
        <p:xfrm>
          <a:off x="3708360" y="1900080"/>
          <a:ext cx="4967280" cy="947880"/>
        </p:xfrm>
        <a:graphic>
          <a:graphicData uri="http://schemas.openxmlformats.org/drawingml/2006/table">
            <a:tbl>
              <a:tblPr/>
              <a:tblGrid>
                <a:gridCol w="811080"/>
                <a:gridCol w="322560"/>
                <a:gridCol w="317520"/>
                <a:gridCol w="318960"/>
                <a:gridCol w="318960"/>
                <a:gridCol w="320760"/>
                <a:gridCol w="320760"/>
                <a:gridCol w="317520"/>
                <a:gridCol w="322200"/>
                <a:gridCol w="317520"/>
                <a:gridCol w="322200"/>
                <a:gridCol w="317520"/>
                <a:gridCol w="322200"/>
                <a:gridCol w="317520"/>
              </a:tblGrid>
              <a:tr h="31608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"/>
          <p:cNvSpPr/>
          <p:nvPr/>
        </p:nvSpPr>
        <p:spPr>
          <a:xfrm>
            <a:off x="986760" y="1827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63120" y="1522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654640" y="190008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99480" y="2386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94160" y="217008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41080" y="2259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60200" y="2314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55080" y="2548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80720" y="2475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14000" y="2835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70160" y="276228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602720" y="3195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57800" y="31226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8900000">
            <a:off x="1095480" y="2276280"/>
            <a:ext cx="765000" cy="38412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8900000">
            <a:off x="1669680" y="2852640"/>
            <a:ext cx="765360" cy="38412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18900000">
            <a:off x="2023920" y="1988640"/>
            <a:ext cx="765360" cy="38448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71640" y="44355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58920" y="414828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"/>
          <p:cNvCxnSpPr>
            <a:stCxn id="553" idx="7"/>
            <a:endCxn id="554" idx="3"/>
          </p:cNvCxnSpPr>
          <p:nvPr/>
        </p:nvCxnSpPr>
        <p:spPr>
          <a:xfrm flipV="1">
            <a:off x="1216080" y="4392360"/>
            <a:ext cx="8640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6" name=""/>
          <p:cNvCxnSpPr>
            <a:endCxn id="554" idx="5"/>
          </p:cNvCxnSpPr>
          <p:nvPr/>
        </p:nvCxnSpPr>
        <p:spPr>
          <a:xfrm flipH="1" flipV="1">
            <a:off x="1503000" y="4392360"/>
            <a:ext cx="8784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2484360" y="41497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908000" y="3789360"/>
            <a:ext cx="287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"/>
          <p:cNvCxnSpPr>
            <a:stCxn id="554" idx="7"/>
            <a:endCxn id="558" idx="3"/>
          </p:cNvCxnSpPr>
          <p:nvPr/>
        </p:nvCxnSpPr>
        <p:spPr>
          <a:xfrm flipV="1">
            <a:off x="1503360" y="4033080"/>
            <a:ext cx="44856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57" idx="1"/>
            <a:endCxn id="558" idx="5"/>
          </p:cNvCxnSpPr>
          <p:nvPr/>
        </p:nvCxnSpPr>
        <p:spPr>
          <a:xfrm flipH="1" flipV="1">
            <a:off x="2152440" y="4033080"/>
            <a:ext cx="37512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1" name=""/>
          <p:cNvSpPr/>
          <p:nvPr/>
        </p:nvSpPr>
        <p:spPr>
          <a:xfrm>
            <a:off x="1522440" y="44370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35160" y="472608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"/>
          <p:cNvCxnSpPr>
            <a:endCxn id="561" idx="5"/>
          </p:cNvCxnSpPr>
          <p:nvPr/>
        </p:nvCxnSpPr>
        <p:spPr>
          <a:xfrm flipH="1" flipV="1">
            <a:off x="1766520" y="4681080"/>
            <a:ext cx="87840" cy="8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62" idx="7"/>
            <a:endCxn id="561" idx="3"/>
          </p:cNvCxnSpPr>
          <p:nvPr/>
        </p:nvCxnSpPr>
        <p:spPr>
          <a:xfrm flipV="1">
            <a:off x="1479600" y="4681080"/>
            <a:ext cx="86400" cy="8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5" name=""/>
          <p:cNvSpPr/>
          <p:nvPr/>
        </p:nvSpPr>
        <p:spPr>
          <a:xfrm>
            <a:off x="1811160" y="4726080"/>
            <a:ext cx="287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468360" y="5157720"/>
          <a:ext cx="2684520" cy="947880"/>
        </p:xfrm>
        <a:graphic>
          <a:graphicData uri="http://schemas.openxmlformats.org/drawingml/2006/table">
            <a:tbl>
              <a:tblPr/>
              <a:tblGrid>
                <a:gridCol w="450720"/>
                <a:gridCol w="322560"/>
                <a:gridCol w="317520"/>
                <a:gridCol w="318960"/>
                <a:gridCol w="317520"/>
                <a:gridCol w="317520"/>
                <a:gridCol w="322200"/>
                <a:gridCol w="317520"/>
              </a:tblGrid>
              <a:tr h="31608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1058400" y="4076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34760" y="3772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1120" y="463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80756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39320" y="4797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28960" y="4797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18900000">
            <a:off x="1143000" y="4541400"/>
            <a:ext cx="765000" cy="38412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676480" y="414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2920" y="4435560"/>
            <a:ext cx="287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70560" y="414828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"/>
          <p:cNvCxnSpPr>
            <a:stCxn id="575" idx="7"/>
            <a:endCxn id="576" idx="3"/>
          </p:cNvCxnSpPr>
          <p:nvPr/>
        </p:nvCxnSpPr>
        <p:spPr>
          <a:xfrm flipV="1">
            <a:off x="4527720" y="4392360"/>
            <a:ext cx="8640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8" name=""/>
          <p:cNvCxnSpPr>
            <a:endCxn id="576" idx="5"/>
          </p:cNvCxnSpPr>
          <p:nvPr/>
        </p:nvCxnSpPr>
        <p:spPr>
          <a:xfrm flipH="1" flipV="1">
            <a:off x="4814640" y="4392360"/>
            <a:ext cx="8784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5435640" y="41497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991040" y="3789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"/>
          <p:cNvCxnSpPr>
            <a:stCxn id="576" idx="7"/>
            <a:endCxn id="580" idx="3"/>
          </p:cNvCxnSpPr>
          <p:nvPr/>
        </p:nvCxnSpPr>
        <p:spPr>
          <a:xfrm flipV="1">
            <a:off x="4815000" y="4033080"/>
            <a:ext cx="21960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79" idx="1"/>
            <a:endCxn id="580" idx="5"/>
          </p:cNvCxnSpPr>
          <p:nvPr/>
        </p:nvCxnSpPr>
        <p:spPr>
          <a:xfrm flipH="1" flipV="1">
            <a:off x="5234760" y="4033080"/>
            <a:ext cx="24372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3" name=""/>
          <p:cNvSpPr/>
          <p:nvPr/>
        </p:nvSpPr>
        <p:spPr>
          <a:xfrm>
            <a:off x="4834080" y="44370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3780000" y="5157720"/>
          <a:ext cx="2044440" cy="947880"/>
        </p:xfrm>
        <a:graphic>
          <a:graphicData uri="http://schemas.openxmlformats.org/drawingml/2006/table">
            <a:tbl>
              <a:tblPr/>
              <a:tblGrid>
                <a:gridCol w="450360"/>
                <a:gridCol w="322560"/>
                <a:gridCol w="317160"/>
                <a:gridCol w="319320"/>
                <a:gridCol w="317520"/>
                <a:gridCol w="317520"/>
              </a:tblGrid>
              <a:tr h="31608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1572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1608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585" name=""/>
          <p:cNvSpPr/>
          <p:nvPr/>
        </p:nvSpPr>
        <p:spPr>
          <a:xfrm>
            <a:off x="4285800" y="4076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717440" y="3772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082400" y="463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2700000">
            <a:off x="4463280" y="4244760"/>
            <a:ext cx="765360" cy="38412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765560" y="4276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945480" y="427500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24720" y="42768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237440" y="4005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"/>
          <p:cNvCxnSpPr>
            <a:stCxn id="590" idx="7"/>
            <a:endCxn id="592" idx="3"/>
          </p:cNvCxnSpPr>
          <p:nvPr/>
        </p:nvCxnSpPr>
        <p:spPr>
          <a:xfrm flipV="1">
            <a:off x="7189560" y="4249080"/>
            <a:ext cx="910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91" idx="1"/>
            <a:endCxn id="592" idx="5"/>
          </p:cNvCxnSpPr>
          <p:nvPr/>
        </p:nvCxnSpPr>
        <p:spPr>
          <a:xfrm flipH="1" flipV="1">
            <a:off x="7481520" y="4249800"/>
            <a:ext cx="8640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595" name=""/>
          <p:cNvGraphicFramePr/>
          <p:nvPr/>
        </p:nvGraphicFramePr>
        <p:xfrm>
          <a:off x="6507000" y="5145120"/>
          <a:ext cx="1409760" cy="947880"/>
        </p:xfrm>
        <a:graphic>
          <a:graphicData uri="http://schemas.openxmlformats.org/drawingml/2006/table">
            <a:tbl>
              <a:tblPr/>
              <a:tblGrid>
                <a:gridCol w="451080"/>
                <a:gridCol w="322200"/>
                <a:gridCol w="318960"/>
                <a:gridCol w="317520"/>
              </a:tblGrid>
              <a:tr h="31572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"/>
          <p:cNvSpPr/>
          <p:nvPr/>
        </p:nvSpPr>
        <p:spPr>
          <a:xfrm>
            <a:off x="6660720" y="420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63840" y="39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AE3-DEDC-41D6-B855-3B47C051BE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o in ogni sottoalb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le approccio però non consente di calcolare contemporaneamente, per ogni nod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l minimo in 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atti nelle operazioni di rake il minimo proveniente dal padre (o dal fratello) può “nascondere” il minimo proveniente dal sottoalbero. Nell’esempio vis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3556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nod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 valore 5 vede subito il valore 1 proveniente dal padre è ciò previene ogni successivo effetto del valore 2 presente nel suo sottoalbe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3556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nod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rende come minimo 1 che in realtà viene dal sottoalbero del frat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901-2408-42B0-8C9E-AD88834EF3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bero delle espres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ta un’espressione aritmetica, si associ alle foglie di un albero binario 0/2 le costanti dell’espressione e ai nodi interni le operazioni binar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l’albero delle espressioni è bilanciato, con costo O(n log n) si eseguono in parallelo le operazioni richieste da ogni nodo, livello per livello, fino a generare il risultato alla radice (esempio a sx). Se l’albero non è bilanciato il tempo parallelo richiesto può anche essere lineare (esempio a d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500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5280" y="4653000"/>
            <a:ext cx="3887640" cy="1222200"/>
            <a:chOff x="395280" y="4653000"/>
            <a:chExt cx="3887640" cy="1222200"/>
          </a:xfrm>
        </p:grpSpPr>
        <p:sp>
          <p:nvSpPr>
            <p:cNvPr id="97" name=""/>
            <p:cNvSpPr/>
            <p:nvPr/>
          </p:nvSpPr>
          <p:spPr>
            <a:xfrm>
              <a:off x="395280" y="55879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71640" y="55879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2560" y="5300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"/>
            <p:cNvCxnSpPr>
              <a:stCxn id="97" idx="7"/>
              <a:endCxn id="99" idx="3"/>
            </p:cNvCxnSpPr>
            <p:nvPr/>
          </p:nvCxnSpPr>
          <p:spPr>
            <a:xfrm flipV="1">
              <a:off x="639720" y="554472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" name=""/>
            <p:cNvCxnSpPr>
              <a:stCxn id="98" idx="1"/>
              <a:endCxn id="99" idx="5"/>
            </p:cNvCxnSpPr>
            <p:nvPr/>
          </p:nvCxnSpPr>
          <p:spPr>
            <a:xfrm flipH="1" flipV="1">
              <a:off x="926640" y="554472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" name=""/>
            <p:cNvSpPr/>
            <p:nvPr/>
          </p:nvSpPr>
          <p:spPr>
            <a:xfrm>
              <a:off x="1403280" y="55879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79640" y="55879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90560" y="5300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"/>
            <p:cNvCxnSpPr>
              <a:stCxn id="102" idx="7"/>
              <a:endCxn id="104" idx="3"/>
            </p:cNvCxnSpPr>
            <p:nvPr/>
          </p:nvCxnSpPr>
          <p:spPr>
            <a:xfrm flipV="1">
              <a:off x="1647720" y="554472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6" name=""/>
            <p:cNvCxnSpPr>
              <a:stCxn id="103" idx="1"/>
              <a:endCxn id="104" idx="5"/>
            </p:cNvCxnSpPr>
            <p:nvPr/>
          </p:nvCxnSpPr>
          <p:spPr>
            <a:xfrm flipH="1" flipV="1">
              <a:off x="1934640" y="554472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7" name=""/>
            <p:cNvSpPr/>
            <p:nvPr/>
          </p:nvSpPr>
          <p:spPr>
            <a:xfrm>
              <a:off x="1187280" y="501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"/>
            <p:cNvCxnSpPr>
              <a:stCxn id="99" idx="7"/>
              <a:endCxn id="107" idx="3"/>
            </p:cNvCxnSpPr>
            <p:nvPr/>
          </p:nvCxnSpPr>
          <p:spPr>
            <a:xfrm flipV="1">
              <a:off x="927000" y="5257440"/>
              <a:ext cx="303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>
              <a:stCxn id="104" idx="1"/>
              <a:endCxn id="107" idx="5"/>
            </p:cNvCxnSpPr>
            <p:nvPr/>
          </p:nvCxnSpPr>
          <p:spPr>
            <a:xfrm flipH="1" flipV="1">
              <a:off x="1431360" y="5257440"/>
              <a:ext cx="302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0" name=""/>
            <p:cNvSpPr/>
            <p:nvPr/>
          </p:nvSpPr>
          <p:spPr>
            <a:xfrm>
              <a:off x="2195280" y="465300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1280" y="55879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7640" y="55879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560" y="530064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>
              <a:stCxn id="111" idx="7"/>
              <a:endCxn id="113" idx="3"/>
            </p:cNvCxnSpPr>
            <p:nvPr/>
          </p:nvCxnSpPr>
          <p:spPr>
            <a:xfrm flipV="1">
              <a:off x="2655720" y="554472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>
              <a:stCxn id="112" idx="1"/>
              <a:endCxn id="113" idx="5"/>
            </p:cNvCxnSpPr>
            <p:nvPr/>
          </p:nvCxnSpPr>
          <p:spPr>
            <a:xfrm flipH="1" flipV="1">
              <a:off x="2942640" y="554472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6" name=""/>
            <p:cNvSpPr/>
            <p:nvPr/>
          </p:nvSpPr>
          <p:spPr>
            <a:xfrm>
              <a:off x="3419280" y="558792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5640" y="55879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06920" y="5300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"/>
            <p:cNvCxnSpPr>
              <a:stCxn id="116" idx="7"/>
              <a:endCxn id="118" idx="3"/>
            </p:cNvCxnSpPr>
            <p:nvPr/>
          </p:nvCxnSpPr>
          <p:spPr>
            <a:xfrm flipV="1">
              <a:off x="3663360" y="5544720"/>
              <a:ext cx="8676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>
              <a:stCxn id="117" idx="1"/>
              <a:endCxn id="118" idx="5"/>
            </p:cNvCxnSpPr>
            <p:nvPr/>
          </p:nvCxnSpPr>
          <p:spPr>
            <a:xfrm flipH="1" flipV="1">
              <a:off x="3951000" y="554472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1" name=""/>
            <p:cNvSpPr/>
            <p:nvPr/>
          </p:nvSpPr>
          <p:spPr>
            <a:xfrm>
              <a:off x="3203640" y="501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"/>
            <p:cNvCxnSpPr>
              <a:stCxn id="113" idx="7"/>
              <a:endCxn id="121" idx="3"/>
            </p:cNvCxnSpPr>
            <p:nvPr/>
          </p:nvCxnSpPr>
          <p:spPr>
            <a:xfrm flipV="1">
              <a:off x="2942640" y="5257440"/>
              <a:ext cx="3042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"/>
            <p:cNvCxnSpPr>
              <a:stCxn id="118" idx="1"/>
              <a:endCxn id="121" idx="5"/>
            </p:cNvCxnSpPr>
            <p:nvPr/>
          </p:nvCxnSpPr>
          <p:spPr>
            <a:xfrm flipH="1" flipV="1">
              <a:off x="3447720" y="5257440"/>
              <a:ext cx="302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"/>
            <p:cNvCxnSpPr>
              <a:stCxn id="107" idx="7"/>
              <a:endCxn id="110" idx="3"/>
            </p:cNvCxnSpPr>
            <p:nvPr/>
          </p:nvCxnSpPr>
          <p:spPr>
            <a:xfrm flipV="1">
              <a:off x="1431360" y="4896720"/>
              <a:ext cx="80748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21" idx="1"/>
              <a:endCxn id="110" idx="5"/>
            </p:cNvCxnSpPr>
            <p:nvPr/>
          </p:nvCxnSpPr>
          <p:spPr>
            <a:xfrm flipH="1" flipV="1">
              <a:off x="2439720" y="4896720"/>
              <a:ext cx="80712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6" name=""/>
          <p:cNvSpPr/>
          <p:nvPr/>
        </p:nvSpPr>
        <p:spPr>
          <a:xfrm>
            <a:off x="847440" y="3933720"/>
            <a:ext cx="317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a + b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c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)) + ((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) + (g + h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59280" y="4005360"/>
            <a:ext cx="2592360" cy="2303280"/>
            <a:chOff x="4859280" y="4005360"/>
            <a:chExt cx="2592360" cy="2303280"/>
          </a:xfrm>
        </p:grpSpPr>
        <p:sp>
          <p:nvSpPr>
            <p:cNvPr id="128" name=""/>
            <p:cNvSpPr/>
            <p:nvPr/>
          </p:nvSpPr>
          <p:spPr>
            <a:xfrm>
              <a:off x="6588360" y="6021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64360" y="6021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75640" y="573408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"/>
            <p:cNvCxnSpPr>
              <a:stCxn id="128" idx="7"/>
              <a:endCxn id="130" idx="3"/>
            </p:cNvCxnSpPr>
            <p:nvPr/>
          </p:nvCxnSpPr>
          <p:spPr>
            <a:xfrm flipV="1">
              <a:off x="6832800" y="597816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29" idx="1"/>
              <a:endCxn id="130" idx="5"/>
            </p:cNvCxnSpPr>
            <p:nvPr/>
          </p:nvCxnSpPr>
          <p:spPr>
            <a:xfrm flipH="1" flipV="1">
              <a:off x="7119720" y="597816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3" name=""/>
            <p:cNvSpPr/>
            <p:nvPr/>
          </p:nvSpPr>
          <p:spPr>
            <a:xfrm>
              <a:off x="6300720" y="573408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88360" y="54468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"/>
            <p:cNvCxnSpPr>
              <a:stCxn id="133" idx="7"/>
              <a:endCxn id="134" idx="3"/>
            </p:cNvCxnSpPr>
            <p:nvPr/>
          </p:nvCxnSpPr>
          <p:spPr>
            <a:xfrm flipV="1">
              <a:off x="6544800" y="5690880"/>
              <a:ext cx="8676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endCxn id="134" idx="5"/>
            </p:cNvCxnSpPr>
            <p:nvPr/>
          </p:nvCxnSpPr>
          <p:spPr>
            <a:xfrm flipH="1" flipV="1">
              <a:off x="6832440" y="569088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6012000" y="544500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51577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"/>
            <p:cNvCxnSpPr>
              <a:stCxn id="137" idx="7"/>
              <a:endCxn id="138" idx="3"/>
            </p:cNvCxnSpPr>
            <p:nvPr/>
          </p:nvCxnSpPr>
          <p:spPr>
            <a:xfrm flipV="1">
              <a:off x="6256440" y="540180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endCxn id="138" idx="5"/>
            </p:cNvCxnSpPr>
            <p:nvPr/>
          </p:nvCxnSpPr>
          <p:spPr>
            <a:xfrm flipH="1" flipV="1">
              <a:off x="6543360" y="540180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5724720" y="51577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12000" y="48704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"/>
            <p:cNvCxnSpPr>
              <a:stCxn id="141" idx="7"/>
              <a:endCxn id="142" idx="3"/>
            </p:cNvCxnSpPr>
            <p:nvPr/>
          </p:nvCxnSpPr>
          <p:spPr>
            <a:xfrm flipV="1">
              <a:off x="5969160" y="511452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" name=""/>
            <p:cNvCxnSpPr>
              <a:endCxn id="142" idx="5"/>
            </p:cNvCxnSpPr>
            <p:nvPr/>
          </p:nvCxnSpPr>
          <p:spPr>
            <a:xfrm flipH="1" flipV="1">
              <a:off x="6256080" y="511452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"/>
            <p:cNvSpPr/>
            <p:nvPr/>
          </p:nvSpPr>
          <p:spPr>
            <a:xfrm>
              <a:off x="5435640" y="48690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2920" y="458136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45" idx="7"/>
              <a:endCxn id="146" idx="3"/>
            </p:cNvCxnSpPr>
            <p:nvPr/>
          </p:nvCxnSpPr>
          <p:spPr>
            <a:xfrm flipV="1">
              <a:off x="5680080" y="482580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" name=""/>
            <p:cNvCxnSpPr>
              <a:endCxn id="146" idx="5"/>
            </p:cNvCxnSpPr>
            <p:nvPr/>
          </p:nvCxnSpPr>
          <p:spPr>
            <a:xfrm flipH="1" flipV="1">
              <a:off x="5967000" y="482580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9" name=""/>
            <p:cNvSpPr/>
            <p:nvPr/>
          </p:nvSpPr>
          <p:spPr>
            <a:xfrm>
              <a:off x="5148360" y="458136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35640" y="429408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"/>
            <p:cNvCxnSpPr>
              <a:stCxn id="149" idx="7"/>
              <a:endCxn id="150" idx="3"/>
            </p:cNvCxnSpPr>
            <p:nvPr/>
          </p:nvCxnSpPr>
          <p:spPr>
            <a:xfrm flipV="1">
              <a:off x="5392800" y="4537800"/>
              <a:ext cx="86400" cy="8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endCxn id="150" idx="5"/>
            </p:cNvCxnSpPr>
            <p:nvPr/>
          </p:nvCxnSpPr>
          <p:spPr>
            <a:xfrm flipH="1" flipV="1">
              <a:off x="5679720" y="4537800"/>
              <a:ext cx="87840" cy="8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485928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6560" y="400536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>
              <a:stCxn id="153" idx="7"/>
              <a:endCxn id="154" idx="3"/>
            </p:cNvCxnSpPr>
            <p:nvPr/>
          </p:nvCxnSpPr>
          <p:spPr>
            <a:xfrm flipV="1">
              <a:off x="5103360" y="4249440"/>
              <a:ext cx="8676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endCxn id="154" idx="5"/>
            </p:cNvCxnSpPr>
            <p:nvPr/>
          </p:nvCxnSpPr>
          <p:spPr>
            <a:xfrm flipH="1" flipV="1">
              <a:off x="5391000" y="424944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7" name=""/>
          <p:cNvSpPr/>
          <p:nvPr/>
        </p:nvSpPr>
        <p:spPr>
          <a:xfrm>
            <a:off x="5547960" y="3844800"/>
            <a:ext cx="321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b + (c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d + (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f + (g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))))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E59-EF59-4C93-B5EB-DEAD5603DD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tare una espress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l’albero non è bilanciato, per mantenere il tempo parallelo logaritmico, ci si accontenta che ogni nodo faccia solo un computo parziale  prima di essere considerato completamente visit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mputo parzia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l nod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dato da 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X+b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 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b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stanti e X indeterminata che rappresenta il valore non noto della sottoespressione al nod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Ogni nodo è caratterizzato dalla etichetta (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inizialmente pari a (1,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0A4-D3FF-4F8D-8C76-402E53340C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vari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consideri il nod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interno all’albero delle espressioni. Ad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associato l’operator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{+,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 e l’etichetta (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ai figli 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sono associate le etichette (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(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rispettivamente. Il valore della sottoespressione calcolata in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dato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al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al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+ b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al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+ b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noti che 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b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on appaiono nel calcolo di val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ma saranno presenti nel calcolo di val(p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51D-51F7-4864-BC14-6085A1BB2D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oritmo per valutare un’espr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T albero delle espressioni tale che ogni nod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onosce il padre p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e il fratello fr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val(T) = val(T'), T' risultato della co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sso 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si assegna l’etichetta (1,0) a tutti i nodi di T eccetto la ra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sso 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si applichi l’algoritmo di contrazione con l’aggiunta della condizione che ogni singola operazione di rake preservi l’invar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sso 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su T' di radic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on operator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fogli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ontenenti le costanti c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c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rispettivamente, si calco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al(T') = (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= val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passi 1 e 3 richiedono tempo parallelo costante. Quindi il tempo totale dipende dal passo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085-B455-42E1-8B1A-44E69D7060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me l’operazione di rake preserva l’invari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operazione di rake applicata ad una fogli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on fratell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elimin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p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. Al fine di mantenere la validità dell’invariante, il contributo d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p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al computo totale (ovvero 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deve essere conglobato in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ovvero in 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iché val(p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) = (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X+b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, il contributo di p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al computo di val(p(p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)) è dato 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al(p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) + b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p(u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(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X+b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) + b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 cui si possono calcolare i nuovi valori per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indi il passo 2 resta dominato dal costo computazionale del r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28000" y="35607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59640" y="39942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96360" y="39942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8" idx="7"/>
            <a:endCxn id="166" idx="3"/>
          </p:cNvCxnSpPr>
          <p:nvPr/>
        </p:nvCxnSpPr>
        <p:spPr>
          <a:xfrm flipV="1">
            <a:off x="7903800" y="3868560"/>
            <a:ext cx="1767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7" idx="1"/>
            <a:endCxn id="166" idx="5"/>
          </p:cNvCxnSpPr>
          <p:nvPr/>
        </p:nvCxnSpPr>
        <p:spPr>
          <a:xfrm flipH="1" flipV="1">
            <a:off x="8335440" y="3868560"/>
            <a:ext cx="17712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7"/>
          </p:cNvCxnSpPr>
          <p:nvPr/>
        </p:nvCxnSpPr>
        <p:spPr>
          <a:xfrm flipV="1">
            <a:off x="8335440" y="3415680"/>
            <a:ext cx="197640" cy="197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2" name=""/>
          <p:cNvCxnSpPr>
            <a:endCxn id="168" idx="3"/>
          </p:cNvCxnSpPr>
          <p:nvPr/>
        </p:nvCxnSpPr>
        <p:spPr>
          <a:xfrm flipV="1">
            <a:off x="7451280" y="4301640"/>
            <a:ext cx="1976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3" name=""/>
          <p:cNvCxnSpPr>
            <a:endCxn id="168" idx="5"/>
          </p:cNvCxnSpPr>
          <p:nvPr/>
        </p:nvCxnSpPr>
        <p:spPr>
          <a:xfrm flipH="1" flipV="1">
            <a:off x="7903440" y="4301640"/>
            <a:ext cx="181800" cy="18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74" name=""/>
          <p:cNvSpPr/>
          <p:nvPr/>
        </p:nvSpPr>
        <p:spPr>
          <a:xfrm rot="2700000">
            <a:off x="7849080" y="3711960"/>
            <a:ext cx="1150920" cy="50508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28000" y="51577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75" idx="7"/>
          </p:cNvCxnSpPr>
          <p:nvPr/>
        </p:nvCxnSpPr>
        <p:spPr>
          <a:xfrm flipV="1">
            <a:off x="8335800" y="4938480"/>
            <a:ext cx="269280" cy="27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7" name=""/>
          <p:cNvCxnSpPr>
            <a:endCxn id="175" idx="3"/>
          </p:cNvCxnSpPr>
          <p:nvPr/>
        </p:nvCxnSpPr>
        <p:spPr>
          <a:xfrm flipV="1">
            <a:off x="7883640" y="5465160"/>
            <a:ext cx="197280" cy="176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8" name=""/>
          <p:cNvCxnSpPr>
            <a:endCxn id="175" idx="5"/>
          </p:cNvCxnSpPr>
          <p:nvPr/>
        </p:nvCxnSpPr>
        <p:spPr>
          <a:xfrm flipH="1" flipV="1">
            <a:off x="8335080" y="5465520"/>
            <a:ext cx="181800" cy="18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79" name=""/>
          <p:cNvSpPr/>
          <p:nvPr/>
        </p:nvSpPr>
        <p:spPr>
          <a:xfrm>
            <a:off x="8172360" y="459252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9160" y="5157720"/>
            <a:ext cx="687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26400" y="4005360"/>
            <a:ext cx="650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42480" y="3273480"/>
            <a:ext cx="86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454600" y="438768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55640" y="4365720"/>
          <a:ext cx="5904000" cy="1441440"/>
        </p:xfrm>
        <a:graphic>
          <a:graphicData uri="http://schemas.openxmlformats.org/drawingml/2006/table">
            <a:tbl>
              <a:tblPr/>
              <a:tblGrid>
                <a:gridCol w="647640"/>
                <a:gridCol w="2592360"/>
                <a:gridCol w="2664000"/>
              </a:tblGrid>
              <a:tr h="480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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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'</a:t>
                      </a:r>
                      <a:r>
                        <a:rPr b="0" i="1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(u)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</a:t>
                      </a:r>
                      <a:r>
                        <a:rPr b="0" i="1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(u)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</a:t>
                      </a:r>
                      <a:r>
                        <a:rPr b="0" i="1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'</a:t>
                      </a:r>
                      <a:r>
                        <a:rPr b="0" i="1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(u)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+ b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(u)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</a:t>
                      </a:r>
                      <a:r>
                        <a:rPr b="0" i="1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b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3E3-2D5D-43F1-A38C-B2BF525D03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empio di calcolo d’espr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put: albero che corrisponde all’espr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izialmente (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1,0) per ogni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4360" y="2492280"/>
            <a:ext cx="4175280" cy="1800000"/>
            <a:chOff x="2484360" y="2492280"/>
            <a:chExt cx="4175280" cy="1800000"/>
          </a:xfrm>
        </p:grpSpPr>
        <p:sp>
          <p:nvSpPr>
            <p:cNvPr id="188" name=""/>
            <p:cNvSpPr/>
            <p:nvPr/>
          </p:nvSpPr>
          <p:spPr>
            <a:xfrm>
              <a:off x="2484360" y="34272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60720" y="34272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71640" y="313992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88" idx="7"/>
              <a:endCxn id="190" idx="3"/>
            </p:cNvCxnSpPr>
            <p:nvPr/>
          </p:nvCxnSpPr>
          <p:spPr>
            <a:xfrm flipV="1">
              <a:off x="2728440" y="3384000"/>
              <a:ext cx="8676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89" idx="1"/>
              <a:endCxn id="190" idx="5"/>
            </p:cNvCxnSpPr>
            <p:nvPr/>
          </p:nvCxnSpPr>
          <p:spPr>
            <a:xfrm flipH="1" flipV="1">
              <a:off x="3016080" y="338400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3" name=""/>
            <p:cNvSpPr/>
            <p:nvPr/>
          </p:nvSpPr>
          <p:spPr>
            <a:xfrm>
              <a:off x="3780000" y="31399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5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"/>
            <p:cNvCxnSpPr>
              <a:stCxn id="190" idx="7"/>
              <a:endCxn id="194" idx="3"/>
            </p:cNvCxnSpPr>
            <p:nvPr/>
          </p:nvCxnSpPr>
          <p:spPr>
            <a:xfrm flipV="1">
              <a:off x="3016440" y="3096720"/>
              <a:ext cx="303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6" name=""/>
            <p:cNvCxnSpPr>
              <a:stCxn id="193" idx="1"/>
              <a:endCxn id="194" idx="5"/>
            </p:cNvCxnSpPr>
            <p:nvPr/>
          </p:nvCxnSpPr>
          <p:spPr>
            <a:xfrm flipH="1" flipV="1">
              <a:off x="3520800" y="3096720"/>
              <a:ext cx="302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"/>
            <p:cNvSpPr/>
            <p:nvPr/>
          </p:nvSpPr>
          <p:spPr>
            <a:xfrm>
              <a:off x="4284720" y="249228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00720" y="34272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76720" y="342720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88000" y="31399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" name=""/>
            <p:cNvCxnSpPr>
              <a:stCxn id="198" idx="7"/>
              <a:endCxn id="200" idx="3"/>
            </p:cNvCxnSpPr>
            <p:nvPr/>
          </p:nvCxnSpPr>
          <p:spPr>
            <a:xfrm flipV="1">
              <a:off x="4745160" y="338400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2" name=""/>
            <p:cNvCxnSpPr>
              <a:stCxn id="199" idx="1"/>
              <a:endCxn id="200" idx="5"/>
            </p:cNvCxnSpPr>
            <p:nvPr/>
          </p:nvCxnSpPr>
          <p:spPr>
            <a:xfrm flipH="1" flipV="1">
              <a:off x="5032080" y="338400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3" name=""/>
            <p:cNvSpPr/>
            <p:nvPr/>
          </p:nvSpPr>
          <p:spPr>
            <a:xfrm>
              <a:off x="5508720" y="34272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85080" y="34272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6000" y="31399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"/>
            <p:cNvCxnSpPr>
              <a:stCxn id="203" idx="7"/>
              <a:endCxn id="205" idx="3"/>
            </p:cNvCxnSpPr>
            <p:nvPr/>
          </p:nvCxnSpPr>
          <p:spPr>
            <a:xfrm flipV="1">
              <a:off x="5753160" y="338400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stCxn id="204" idx="1"/>
              <a:endCxn id="205" idx="5"/>
            </p:cNvCxnSpPr>
            <p:nvPr/>
          </p:nvCxnSpPr>
          <p:spPr>
            <a:xfrm flipH="1" flipV="1">
              <a:off x="6040080" y="338400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8" name=""/>
            <p:cNvSpPr/>
            <p:nvPr/>
          </p:nvSpPr>
          <p:spPr>
            <a:xfrm>
              <a:off x="5292720" y="285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0" idx="7"/>
              <a:endCxn id="208" idx="3"/>
            </p:cNvCxnSpPr>
            <p:nvPr/>
          </p:nvCxnSpPr>
          <p:spPr>
            <a:xfrm flipV="1">
              <a:off x="5032440" y="3096720"/>
              <a:ext cx="303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205" idx="1"/>
              <a:endCxn id="208" idx="5"/>
            </p:cNvCxnSpPr>
            <p:nvPr/>
          </p:nvCxnSpPr>
          <p:spPr>
            <a:xfrm flipH="1" flipV="1">
              <a:off x="5536800" y="3096720"/>
              <a:ext cx="302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>
              <a:stCxn id="194" idx="7"/>
              <a:endCxn id="197" idx="3"/>
            </p:cNvCxnSpPr>
            <p:nvPr/>
          </p:nvCxnSpPr>
          <p:spPr>
            <a:xfrm flipV="1">
              <a:off x="3521160" y="2736000"/>
              <a:ext cx="80712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" name=""/>
            <p:cNvCxnSpPr>
              <a:stCxn id="208" idx="1"/>
              <a:endCxn id="197" idx="5"/>
            </p:cNvCxnSpPr>
            <p:nvPr/>
          </p:nvCxnSpPr>
          <p:spPr>
            <a:xfrm flipH="1" flipV="1">
              <a:off x="4528800" y="2736000"/>
              <a:ext cx="80712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3" name=""/>
            <p:cNvSpPr/>
            <p:nvPr/>
          </p:nvSpPr>
          <p:spPr>
            <a:xfrm>
              <a:off x="2771640" y="3715920"/>
              <a:ext cx="28764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48000" y="371592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60720" y="40050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37080" y="40050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11640" y="371592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8000" y="371592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6" idx="1"/>
              <a:endCxn id="214" idx="5"/>
            </p:cNvCxnSpPr>
            <p:nvPr/>
          </p:nvCxnSpPr>
          <p:spPr>
            <a:xfrm flipH="1" flipV="1">
              <a:off x="3592080" y="3960360"/>
              <a:ext cx="8784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" name=""/>
            <p:cNvCxnSpPr>
              <a:stCxn id="215" idx="7"/>
              <a:endCxn id="214" idx="3"/>
            </p:cNvCxnSpPr>
            <p:nvPr/>
          </p:nvCxnSpPr>
          <p:spPr>
            <a:xfrm flipV="1">
              <a:off x="3305160" y="3960360"/>
              <a:ext cx="8640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1" name=""/>
            <p:cNvCxnSpPr>
              <a:stCxn id="213" idx="7"/>
              <a:endCxn id="189" idx="3"/>
            </p:cNvCxnSpPr>
            <p:nvPr/>
          </p:nvCxnSpPr>
          <p:spPr>
            <a:xfrm flipV="1">
              <a:off x="3016440" y="3671280"/>
              <a:ext cx="8784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14" idx="1"/>
              <a:endCxn id="189" idx="5"/>
            </p:cNvCxnSpPr>
            <p:nvPr/>
          </p:nvCxnSpPr>
          <p:spPr>
            <a:xfrm flipH="1" flipV="1">
              <a:off x="3304800" y="3671280"/>
              <a:ext cx="8640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" name=""/>
            <p:cNvCxnSpPr>
              <a:stCxn id="217" idx="7"/>
              <a:endCxn id="198" idx="3"/>
            </p:cNvCxnSpPr>
            <p:nvPr/>
          </p:nvCxnSpPr>
          <p:spPr>
            <a:xfrm flipV="1">
              <a:off x="4455720" y="3671280"/>
              <a:ext cx="8784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" name=""/>
            <p:cNvCxnSpPr>
              <a:stCxn id="218" idx="1"/>
              <a:endCxn id="198" idx="5"/>
            </p:cNvCxnSpPr>
            <p:nvPr/>
          </p:nvCxnSpPr>
          <p:spPr>
            <a:xfrm flipH="1" flipV="1">
              <a:off x="4744800" y="3671280"/>
              <a:ext cx="8640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5796000" y="371592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72360" y="371592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>
              <a:stCxn id="225" idx="7"/>
            </p:cNvCxnSpPr>
            <p:nvPr/>
          </p:nvCxnSpPr>
          <p:spPr>
            <a:xfrm flipV="1">
              <a:off x="6040080" y="3671280"/>
              <a:ext cx="8784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8" name=""/>
            <p:cNvCxnSpPr>
              <a:stCxn id="226" idx="1"/>
            </p:cNvCxnSpPr>
            <p:nvPr/>
          </p:nvCxnSpPr>
          <p:spPr>
            <a:xfrm flipH="1" flipV="1">
              <a:off x="6329160" y="3671280"/>
              <a:ext cx="8640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29" name=""/>
          <p:cNvSpPr/>
          <p:nvPr/>
        </p:nvSpPr>
        <p:spPr>
          <a:xfrm>
            <a:off x="2014200" y="1938240"/>
            <a:ext cx="51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2+(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+5))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+(((5+2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+(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+1))) = 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C44-C3A9-4ED0-AAF0-41D6EE703E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empio di calcolo d’espr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numerano le fogli e si esegue il rake su quelle di numerazione dispari, prima quelle che sono figli sinistri e poi quelle che sono figli dest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484360" y="2276640"/>
            <a:ext cx="4175280" cy="1891080"/>
            <a:chOff x="2484360" y="2276640"/>
            <a:chExt cx="4175280" cy="1891080"/>
          </a:xfrm>
        </p:grpSpPr>
        <p:sp>
          <p:nvSpPr>
            <p:cNvPr id="233" name=""/>
            <p:cNvSpPr/>
            <p:nvPr/>
          </p:nvSpPr>
          <p:spPr>
            <a:xfrm>
              <a:off x="2484360" y="32115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60720" y="32115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71640" y="292428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6" name=""/>
            <p:cNvCxnSpPr>
              <a:stCxn id="233" idx="7"/>
              <a:endCxn id="235" idx="3"/>
            </p:cNvCxnSpPr>
            <p:nvPr/>
          </p:nvCxnSpPr>
          <p:spPr>
            <a:xfrm flipV="1">
              <a:off x="2728800" y="316836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4" idx="1"/>
              <a:endCxn id="235" idx="5"/>
            </p:cNvCxnSpPr>
            <p:nvPr/>
          </p:nvCxnSpPr>
          <p:spPr>
            <a:xfrm flipH="1" flipV="1">
              <a:off x="3015720" y="316836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8" name=""/>
            <p:cNvSpPr/>
            <p:nvPr/>
          </p:nvSpPr>
          <p:spPr>
            <a:xfrm>
              <a:off x="3780000" y="292428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76720" y="26370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"/>
            <p:cNvCxnSpPr>
              <a:stCxn id="235" idx="7"/>
              <a:endCxn id="239" idx="3"/>
            </p:cNvCxnSpPr>
            <p:nvPr/>
          </p:nvCxnSpPr>
          <p:spPr>
            <a:xfrm flipV="1">
              <a:off x="3015720" y="2881080"/>
              <a:ext cx="3042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1" name=""/>
            <p:cNvCxnSpPr>
              <a:stCxn id="238" idx="1"/>
              <a:endCxn id="239" idx="5"/>
            </p:cNvCxnSpPr>
            <p:nvPr/>
          </p:nvCxnSpPr>
          <p:spPr>
            <a:xfrm flipH="1" flipV="1">
              <a:off x="3520800" y="2881080"/>
              <a:ext cx="302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>
              <a:off x="428472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00720" y="32115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76720" y="32115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88000" y="292428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"/>
            <p:cNvCxnSpPr>
              <a:stCxn id="243" idx="7"/>
              <a:endCxn id="245" idx="3"/>
            </p:cNvCxnSpPr>
            <p:nvPr/>
          </p:nvCxnSpPr>
          <p:spPr>
            <a:xfrm flipV="1">
              <a:off x="4745160" y="316836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"/>
            <p:cNvCxnSpPr>
              <a:stCxn id="244" idx="1"/>
              <a:endCxn id="245" idx="5"/>
            </p:cNvCxnSpPr>
            <p:nvPr/>
          </p:nvCxnSpPr>
          <p:spPr>
            <a:xfrm flipH="1" flipV="1">
              <a:off x="5032080" y="316836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8" name=""/>
            <p:cNvSpPr/>
            <p:nvPr/>
          </p:nvSpPr>
          <p:spPr>
            <a:xfrm>
              <a:off x="5508720" y="32115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84720" y="321156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6000" y="292428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"/>
            <p:cNvCxnSpPr>
              <a:stCxn id="248" idx="7"/>
              <a:endCxn id="250" idx="3"/>
            </p:cNvCxnSpPr>
            <p:nvPr/>
          </p:nvCxnSpPr>
          <p:spPr>
            <a:xfrm flipV="1">
              <a:off x="5753160" y="316836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2" name=""/>
            <p:cNvCxnSpPr>
              <a:stCxn id="249" idx="1"/>
              <a:endCxn id="250" idx="5"/>
            </p:cNvCxnSpPr>
            <p:nvPr/>
          </p:nvCxnSpPr>
          <p:spPr>
            <a:xfrm flipH="1" flipV="1">
              <a:off x="6040080" y="316836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3" name=""/>
            <p:cNvSpPr/>
            <p:nvPr/>
          </p:nvSpPr>
          <p:spPr>
            <a:xfrm>
              <a:off x="5292720" y="26370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4" name=""/>
            <p:cNvCxnSpPr>
              <a:stCxn id="245" idx="7"/>
              <a:endCxn id="253" idx="3"/>
            </p:cNvCxnSpPr>
            <p:nvPr/>
          </p:nvCxnSpPr>
          <p:spPr>
            <a:xfrm flipV="1">
              <a:off x="5032440" y="2881080"/>
              <a:ext cx="303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50" idx="1"/>
              <a:endCxn id="253" idx="5"/>
            </p:cNvCxnSpPr>
            <p:nvPr/>
          </p:nvCxnSpPr>
          <p:spPr>
            <a:xfrm flipH="1" flipV="1">
              <a:off x="5536800" y="2881080"/>
              <a:ext cx="302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6" name=""/>
            <p:cNvCxnSpPr>
              <a:stCxn id="239" idx="7"/>
              <a:endCxn id="242" idx="3"/>
            </p:cNvCxnSpPr>
            <p:nvPr/>
          </p:nvCxnSpPr>
          <p:spPr>
            <a:xfrm flipV="1">
              <a:off x="3521160" y="2520360"/>
              <a:ext cx="80712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7" name=""/>
            <p:cNvCxnSpPr>
              <a:stCxn id="253" idx="1"/>
              <a:endCxn id="242" idx="5"/>
            </p:cNvCxnSpPr>
            <p:nvPr/>
          </p:nvCxnSpPr>
          <p:spPr>
            <a:xfrm flipH="1" flipV="1">
              <a:off x="4528800" y="2520360"/>
              <a:ext cx="80712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8" name=""/>
            <p:cNvSpPr/>
            <p:nvPr/>
          </p:nvSpPr>
          <p:spPr>
            <a:xfrm>
              <a:off x="2771640" y="3500280"/>
              <a:ext cx="28764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48000" y="350028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60720" y="3789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37080" y="3789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1640" y="350028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88000" y="350028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"/>
            <p:cNvCxnSpPr>
              <a:stCxn id="261" idx="1"/>
              <a:endCxn id="259" idx="5"/>
            </p:cNvCxnSpPr>
            <p:nvPr/>
          </p:nvCxnSpPr>
          <p:spPr>
            <a:xfrm flipH="1" flipV="1">
              <a:off x="3592080" y="3744720"/>
              <a:ext cx="8784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5" name=""/>
            <p:cNvCxnSpPr>
              <a:stCxn id="260" idx="7"/>
              <a:endCxn id="259" idx="3"/>
            </p:cNvCxnSpPr>
            <p:nvPr/>
          </p:nvCxnSpPr>
          <p:spPr>
            <a:xfrm flipV="1">
              <a:off x="3305160" y="3744720"/>
              <a:ext cx="8640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8" idx="7"/>
              <a:endCxn id="234" idx="3"/>
            </p:cNvCxnSpPr>
            <p:nvPr/>
          </p:nvCxnSpPr>
          <p:spPr>
            <a:xfrm flipV="1">
              <a:off x="3015720" y="3455640"/>
              <a:ext cx="8784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7" name=""/>
            <p:cNvCxnSpPr>
              <a:stCxn id="259" idx="1"/>
              <a:endCxn id="234" idx="5"/>
            </p:cNvCxnSpPr>
            <p:nvPr/>
          </p:nvCxnSpPr>
          <p:spPr>
            <a:xfrm flipH="1" flipV="1">
              <a:off x="3304800" y="3455640"/>
              <a:ext cx="8640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8" name=""/>
            <p:cNvCxnSpPr>
              <a:stCxn id="262" idx="7"/>
              <a:endCxn id="243" idx="3"/>
            </p:cNvCxnSpPr>
            <p:nvPr/>
          </p:nvCxnSpPr>
          <p:spPr>
            <a:xfrm flipV="1">
              <a:off x="4455720" y="3455640"/>
              <a:ext cx="8784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9" name=""/>
            <p:cNvCxnSpPr>
              <a:stCxn id="263" idx="1"/>
              <a:endCxn id="243" idx="5"/>
            </p:cNvCxnSpPr>
            <p:nvPr/>
          </p:nvCxnSpPr>
          <p:spPr>
            <a:xfrm flipH="1" flipV="1">
              <a:off x="4744800" y="3455640"/>
              <a:ext cx="8640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0" name=""/>
            <p:cNvSpPr/>
            <p:nvPr/>
          </p:nvSpPr>
          <p:spPr>
            <a:xfrm>
              <a:off x="5796000" y="350028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72360" y="350028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2" name=""/>
            <p:cNvCxnSpPr>
              <a:stCxn id="270" idx="7"/>
            </p:cNvCxnSpPr>
            <p:nvPr/>
          </p:nvCxnSpPr>
          <p:spPr>
            <a:xfrm flipV="1">
              <a:off x="6040080" y="3455640"/>
              <a:ext cx="8784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3" name=""/>
            <p:cNvCxnSpPr>
              <a:stCxn id="271" idx="1"/>
            </p:cNvCxnSpPr>
            <p:nvPr/>
          </p:nvCxnSpPr>
          <p:spPr>
            <a:xfrm flipH="1" flipV="1">
              <a:off x="6329160" y="3455640"/>
              <a:ext cx="8640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4" name=""/>
            <p:cNvSpPr/>
            <p:nvPr/>
          </p:nvSpPr>
          <p:spPr>
            <a:xfrm>
              <a:off x="2485800" y="3645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3860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52720" y="3860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25800" y="3141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7440" y="3784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38480" y="3718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27560" y="3429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14840" y="345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75200" y="3807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2662200" y="3284280"/>
              <a:ext cx="804960" cy="43164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4100400" y="3284280"/>
              <a:ext cx="804960" cy="43164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5684760" y="3284280"/>
              <a:ext cx="804960" cy="43164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39640" y="4365720"/>
            <a:ext cx="3754440" cy="1680120"/>
            <a:chOff x="539640" y="4365720"/>
            <a:chExt cx="3754440" cy="1680120"/>
          </a:xfrm>
        </p:grpSpPr>
        <p:sp>
          <p:nvSpPr>
            <p:cNvPr id="287" name=""/>
            <p:cNvSpPr/>
            <p:nvPr/>
          </p:nvSpPr>
          <p:spPr>
            <a:xfrm>
              <a:off x="539640" y="5300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6920" y="501336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7" idx="7"/>
              <a:endCxn id="288" idx="3"/>
            </p:cNvCxnSpPr>
            <p:nvPr/>
          </p:nvCxnSpPr>
          <p:spPr>
            <a:xfrm flipV="1">
              <a:off x="783720" y="5257440"/>
              <a:ext cx="8676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1692360" y="501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60360" y="472608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2" name=""/>
            <p:cNvCxnSpPr>
              <a:stCxn id="288" idx="7"/>
              <a:endCxn id="291" idx="3"/>
            </p:cNvCxnSpPr>
            <p:nvPr/>
          </p:nvCxnSpPr>
          <p:spPr>
            <a:xfrm flipV="1">
              <a:off x="1071360" y="4970160"/>
              <a:ext cx="2322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3" name=""/>
            <p:cNvCxnSpPr>
              <a:stCxn id="290" idx="1"/>
              <a:endCxn id="291" idx="5"/>
            </p:cNvCxnSpPr>
            <p:nvPr/>
          </p:nvCxnSpPr>
          <p:spPr>
            <a:xfrm flipH="1" flipV="1">
              <a:off x="1504440" y="4970160"/>
              <a:ext cx="23112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4" name=""/>
            <p:cNvSpPr/>
            <p:nvPr/>
          </p:nvSpPr>
          <p:spPr>
            <a:xfrm>
              <a:off x="2119320" y="43657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38600" y="5300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49520" y="501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7" name=""/>
            <p:cNvCxnSpPr>
              <a:stCxn id="298" idx="7"/>
              <a:endCxn id="296" idx="3"/>
            </p:cNvCxnSpPr>
            <p:nvPr/>
          </p:nvCxnSpPr>
          <p:spPr>
            <a:xfrm flipV="1">
              <a:off x="2506680" y="525744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9" name=""/>
            <p:cNvCxnSpPr>
              <a:stCxn id="295" idx="1"/>
              <a:endCxn id="296" idx="5"/>
            </p:cNvCxnSpPr>
            <p:nvPr/>
          </p:nvCxnSpPr>
          <p:spPr>
            <a:xfrm flipH="1" flipV="1">
              <a:off x="2793600" y="525744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0" name=""/>
            <p:cNvSpPr/>
            <p:nvPr/>
          </p:nvSpPr>
          <p:spPr>
            <a:xfrm>
              <a:off x="3270240" y="5300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7520" y="501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"/>
            <p:cNvCxnSpPr>
              <a:stCxn id="300" idx="7"/>
              <a:endCxn id="301" idx="3"/>
            </p:cNvCxnSpPr>
            <p:nvPr/>
          </p:nvCxnSpPr>
          <p:spPr>
            <a:xfrm flipV="1">
              <a:off x="3514680" y="5257440"/>
              <a:ext cx="86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3" name=""/>
            <p:cNvCxnSpPr>
              <a:stCxn id="304" idx="1"/>
              <a:endCxn id="301" idx="5"/>
            </p:cNvCxnSpPr>
            <p:nvPr/>
          </p:nvCxnSpPr>
          <p:spPr>
            <a:xfrm flipH="1" flipV="1">
              <a:off x="3801600" y="5257440"/>
              <a:ext cx="87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5" name=""/>
            <p:cNvSpPr/>
            <p:nvPr/>
          </p:nvSpPr>
          <p:spPr>
            <a:xfrm>
              <a:off x="3054240" y="472608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"/>
            <p:cNvCxnSpPr>
              <a:stCxn id="296" idx="7"/>
              <a:endCxn id="305" idx="3"/>
            </p:cNvCxnSpPr>
            <p:nvPr/>
          </p:nvCxnSpPr>
          <p:spPr>
            <a:xfrm flipV="1">
              <a:off x="2793960" y="4970160"/>
              <a:ext cx="3038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7" name=""/>
            <p:cNvCxnSpPr>
              <a:stCxn id="301" idx="1"/>
              <a:endCxn id="305" idx="5"/>
            </p:cNvCxnSpPr>
            <p:nvPr/>
          </p:nvCxnSpPr>
          <p:spPr>
            <a:xfrm flipH="1" flipV="1">
              <a:off x="3298320" y="4970160"/>
              <a:ext cx="30240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8" name=""/>
            <p:cNvCxnSpPr>
              <a:stCxn id="291" idx="7"/>
              <a:endCxn id="294" idx="3"/>
            </p:cNvCxnSpPr>
            <p:nvPr/>
          </p:nvCxnSpPr>
          <p:spPr>
            <a:xfrm flipV="1">
              <a:off x="1504800" y="4609440"/>
              <a:ext cx="65808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9" name=""/>
            <p:cNvCxnSpPr>
              <a:stCxn id="305" idx="1"/>
              <a:endCxn id="294" idx="5"/>
            </p:cNvCxnSpPr>
            <p:nvPr/>
          </p:nvCxnSpPr>
          <p:spPr>
            <a:xfrm flipH="1" flipV="1">
              <a:off x="2363040" y="4609440"/>
              <a:ext cx="73404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0" name=""/>
            <p:cNvSpPr/>
            <p:nvPr/>
          </p:nvSpPr>
          <p:spPr>
            <a:xfrm>
              <a:off x="1111320" y="5300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4040" y="558972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00040" y="558972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62240" y="5300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"/>
            <p:cNvCxnSpPr>
              <a:stCxn id="312" idx="1"/>
              <a:endCxn id="310" idx="5"/>
            </p:cNvCxnSpPr>
            <p:nvPr/>
          </p:nvCxnSpPr>
          <p:spPr>
            <a:xfrm flipH="1" flipV="1">
              <a:off x="1355400" y="5544720"/>
              <a:ext cx="8784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4" name=""/>
            <p:cNvCxnSpPr>
              <a:stCxn id="311" idx="7"/>
              <a:endCxn id="310" idx="3"/>
            </p:cNvCxnSpPr>
            <p:nvPr/>
          </p:nvCxnSpPr>
          <p:spPr>
            <a:xfrm flipV="1">
              <a:off x="1068480" y="5544720"/>
              <a:ext cx="8640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5" name=""/>
            <p:cNvCxnSpPr>
              <a:stCxn id="310" idx="1"/>
              <a:endCxn id="288" idx="5"/>
            </p:cNvCxnSpPr>
            <p:nvPr/>
          </p:nvCxnSpPr>
          <p:spPr>
            <a:xfrm flipH="1" flipV="1">
              <a:off x="1071000" y="5257440"/>
              <a:ext cx="8316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4" name=""/>
            <p:cNvSpPr/>
            <p:nvPr/>
          </p:nvSpPr>
          <p:spPr>
            <a:xfrm>
              <a:off x="3846600" y="5300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4560" y="5661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49160" y="5738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65080" y="5284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08040" y="5511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89080" y="5573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76360" y="5540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700000">
              <a:off x="989280" y="5366520"/>
              <a:ext cx="804960" cy="43164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700000">
              <a:off x="2440800" y="5088240"/>
              <a:ext cx="804960" cy="4320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74680" y="554688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1,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52720" y="555156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1,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1120" y="534672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3,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442120" y="4437000"/>
            <a:ext cx="3177720" cy="1481760"/>
            <a:chOff x="5442120" y="4437000"/>
            <a:chExt cx="3177720" cy="1481760"/>
          </a:xfrm>
        </p:grpSpPr>
        <p:sp>
          <p:nvSpPr>
            <p:cNvPr id="328" name=""/>
            <p:cNvSpPr/>
            <p:nvPr/>
          </p:nvSpPr>
          <p:spPr>
            <a:xfrm>
              <a:off x="6878520" y="5345280"/>
              <a:ext cx="51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2,1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42120" y="537228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29400" y="508464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1" name=""/>
            <p:cNvCxnSpPr>
              <a:stCxn id="329" idx="7"/>
              <a:endCxn id="330" idx="3"/>
            </p:cNvCxnSpPr>
            <p:nvPr/>
          </p:nvCxnSpPr>
          <p:spPr>
            <a:xfrm flipV="1">
              <a:off x="5686560" y="5328360"/>
              <a:ext cx="86400" cy="8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2" name=""/>
            <p:cNvSpPr/>
            <p:nvPr/>
          </p:nvSpPr>
          <p:spPr>
            <a:xfrm>
              <a:off x="6445080" y="5084640"/>
              <a:ext cx="28764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6520" y="4797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4" name=""/>
            <p:cNvCxnSpPr>
              <a:stCxn id="330" idx="7"/>
              <a:endCxn id="333" idx="3"/>
            </p:cNvCxnSpPr>
            <p:nvPr/>
          </p:nvCxnSpPr>
          <p:spPr>
            <a:xfrm flipV="1">
              <a:off x="5973840" y="5041440"/>
              <a:ext cx="15588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" name=""/>
            <p:cNvCxnSpPr>
              <a:stCxn id="332" idx="1"/>
              <a:endCxn id="333" idx="5"/>
            </p:cNvCxnSpPr>
            <p:nvPr/>
          </p:nvCxnSpPr>
          <p:spPr>
            <a:xfrm flipH="1" flipV="1">
              <a:off x="6330240" y="5041440"/>
              <a:ext cx="15804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6" name=""/>
            <p:cNvSpPr/>
            <p:nvPr/>
          </p:nvSpPr>
          <p:spPr>
            <a:xfrm>
              <a:off x="6805440" y="443700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64360" y="508464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94560" y="537228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81840" y="5084640"/>
              <a:ext cx="28728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0" name=""/>
            <p:cNvCxnSpPr>
              <a:stCxn id="338" idx="7"/>
              <a:endCxn id="339" idx="3"/>
            </p:cNvCxnSpPr>
            <p:nvPr/>
          </p:nvCxnSpPr>
          <p:spPr>
            <a:xfrm flipV="1">
              <a:off x="7839000" y="5328360"/>
              <a:ext cx="86400" cy="8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1" name=""/>
            <p:cNvCxnSpPr>
              <a:stCxn id="342" idx="1"/>
              <a:endCxn id="339" idx="5"/>
            </p:cNvCxnSpPr>
            <p:nvPr/>
          </p:nvCxnSpPr>
          <p:spPr>
            <a:xfrm flipH="1" flipV="1">
              <a:off x="8125920" y="5328360"/>
              <a:ext cx="87840" cy="8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43" name=""/>
            <p:cNvSpPr/>
            <p:nvPr/>
          </p:nvSpPr>
          <p:spPr>
            <a:xfrm>
              <a:off x="7524720" y="4797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4" name=""/>
            <p:cNvCxnSpPr>
              <a:stCxn id="337" idx="7"/>
              <a:endCxn id="343" idx="3"/>
            </p:cNvCxnSpPr>
            <p:nvPr/>
          </p:nvCxnSpPr>
          <p:spPr>
            <a:xfrm flipV="1">
              <a:off x="7408440" y="5041440"/>
              <a:ext cx="15948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39" idx="1"/>
              <a:endCxn id="343" idx="5"/>
            </p:cNvCxnSpPr>
            <p:nvPr/>
          </p:nvCxnSpPr>
          <p:spPr>
            <a:xfrm flipH="1" flipV="1">
              <a:off x="7769160" y="5041440"/>
              <a:ext cx="155880" cy="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>
              <a:stCxn id="333" idx="7"/>
              <a:endCxn id="336" idx="3"/>
            </p:cNvCxnSpPr>
            <p:nvPr/>
          </p:nvCxnSpPr>
          <p:spPr>
            <a:xfrm flipV="1">
              <a:off x="6330960" y="4680720"/>
              <a:ext cx="51840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7" name=""/>
            <p:cNvCxnSpPr>
              <a:stCxn id="343" idx="1"/>
              <a:endCxn id="336" idx="5"/>
            </p:cNvCxnSpPr>
            <p:nvPr/>
          </p:nvCxnSpPr>
          <p:spPr>
            <a:xfrm flipH="1" flipV="1">
              <a:off x="7049520" y="4680720"/>
              <a:ext cx="51804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48" name=""/>
            <p:cNvSpPr/>
            <p:nvPr/>
          </p:nvSpPr>
          <p:spPr>
            <a:xfrm>
              <a:off x="6013440" y="537228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9" name=""/>
            <p:cNvCxnSpPr>
              <a:stCxn id="348" idx="1"/>
              <a:endCxn id="330" idx="5"/>
            </p:cNvCxnSpPr>
            <p:nvPr/>
          </p:nvCxnSpPr>
          <p:spPr>
            <a:xfrm flipH="1" flipV="1">
              <a:off x="5973120" y="5328360"/>
              <a:ext cx="83160" cy="8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42" name=""/>
            <p:cNvSpPr/>
            <p:nvPr/>
          </p:nvSpPr>
          <p:spPr>
            <a:xfrm>
              <a:off x="8170920" y="537228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97400" y="5516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67200" y="5229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92880" y="5300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00680" y="5611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cc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78480" y="562284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1,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7440" y="5622840"/>
              <a:ext cx="51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3,1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FC7-E242-4CA9-B5CB-3AB396FA19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empio di calcolo d’espr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63680" y="232092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26920" y="2347920"/>
            <a:ext cx="287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4560" y="2060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"/>
          <p:cNvCxnSpPr>
            <a:stCxn id="358" idx="7"/>
            <a:endCxn id="359" idx="3"/>
          </p:cNvCxnSpPr>
          <p:nvPr/>
        </p:nvCxnSpPr>
        <p:spPr>
          <a:xfrm flipV="1">
            <a:off x="1071720" y="2304720"/>
            <a:ext cx="8640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1" name=""/>
          <p:cNvSpPr/>
          <p:nvPr/>
        </p:nvSpPr>
        <p:spPr>
          <a:xfrm>
            <a:off x="1830240" y="2060640"/>
            <a:ext cx="287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71680" y="177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"/>
          <p:cNvCxnSpPr>
            <a:stCxn id="359" idx="7"/>
            <a:endCxn id="362" idx="3"/>
          </p:cNvCxnSpPr>
          <p:nvPr/>
        </p:nvCxnSpPr>
        <p:spPr>
          <a:xfrm flipV="1">
            <a:off x="1359000" y="2017440"/>
            <a:ext cx="15588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61" idx="1"/>
            <a:endCxn id="362" idx="5"/>
          </p:cNvCxnSpPr>
          <p:nvPr/>
        </p:nvCxnSpPr>
        <p:spPr>
          <a:xfrm flipH="1" flipV="1">
            <a:off x="1715760" y="2017440"/>
            <a:ext cx="15768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2190600" y="1413000"/>
            <a:ext cx="287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49520" y="2060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9720" y="23479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67000" y="2060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67" idx="7"/>
            <a:endCxn id="368" idx="3"/>
          </p:cNvCxnSpPr>
          <p:nvPr/>
        </p:nvCxnSpPr>
        <p:spPr>
          <a:xfrm flipV="1">
            <a:off x="3224160" y="2304720"/>
            <a:ext cx="8640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71" idx="1"/>
            <a:endCxn id="368" idx="5"/>
          </p:cNvCxnSpPr>
          <p:nvPr/>
        </p:nvCxnSpPr>
        <p:spPr>
          <a:xfrm flipH="1" flipV="1">
            <a:off x="3511080" y="2304720"/>
            <a:ext cx="8784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2909880" y="177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"/>
          <p:cNvCxnSpPr>
            <a:stCxn id="366" idx="7"/>
            <a:endCxn id="372" idx="3"/>
          </p:cNvCxnSpPr>
          <p:nvPr/>
        </p:nvCxnSpPr>
        <p:spPr>
          <a:xfrm flipV="1">
            <a:off x="2793600" y="2017440"/>
            <a:ext cx="15948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68" idx="1"/>
            <a:endCxn id="372" idx="5"/>
          </p:cNvCxnSpPr>
          <p:nvPr/>
        </p:nvCxnSpPr>
        <p:spPr>
          <a:xfrm flipH="1" flipV="1">
            <a:off x="3154320" y="2017440"/>
            <a:ext cx="15588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2" idx="7"/>
            <a:endCxn id="365" idx="3"/>
          </p:cNvCxnSpPr>
          <p:nvPr/>
        </p:nvCxnSpPr>
        <p:spPr>
          <a:xfrm flipV="1">
            <a:off x="1715760" y="1656720"/>
            <a:ext cx="51804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72" idx="1"/>
            <a:endCxn id="365" idx="5"/>
          </p:cNvCxnSpPr>
          <p:nvPr/>
        </p:nvCxnSpPr>
        <p:spPr>
          <a:xfrm flipH="1" flipV="1">
            <a:off x="2434680" y="1656720"/>
            <a:ext cx="51804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398600" y="23479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1"/>
            <a:endCxn id="359" idx="5"/>
          </p:cNvCxnSpPr>
          <p:nvPr/>
        </p:nvCxnSpPr>
        <p:spPr>
          <a:xfrm flipH="1" flipV="1">
            <a:off x="1358280" y="2304720"/>
            <a:ext cx="8316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556080" y="23479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82560" y="2492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52360" y="220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678040" y="22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85840" y="2587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63640" y="259884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82600" y="259884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,1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9431000">
            <a:off x="2430360" y="1824120"/>
            <a:ext cx="892440" cy="4554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76720" y="23479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64000" y="2060640"/>
            <a:ext cx="287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"/>
          <p:cNvCxnSpPr>
            <a:stCxn id="386" idx="7"/>
            <a:endCxn id="387" idx="3"/>
          </p:cNvCxnSpPr>
          <p:nvPr/>
        </p:nvCxnSpPr>
        <p:spPr>
          <a:xfrm flipV="1">
            <a:off x="5320800" y="2304720"/>
            <a:ext cx="8676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9" name=""/>
          <p:cNvSpPr/>
          <p:nvPr/>
        </p:nvSpPr>
        <p:spPr>
          <a:xfrm>
            <a:off x="6080040" y="2060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21480" y="177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87" idx="7"/>
            <a:endCxn id="390" idx="3"/>
          </p:cNvCxnSpPr>
          <p:nvPr/>
        </p:nvCxnSpPr>
        <p:spPr>
          <a:xfrm flipV="1">
            <a:off x="5608800" y="2017440"/>
            <a:ext cx="15588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"/>
          <p:cNvCxnSpPr>
            <a:stCxn id="389" idx="1"/>
            <a:endCxn id="390" idx="5"/>
          </p:cNvCxnSpPr>
          <p:nvPr/>
        </p:nvCxnSpPr>
        <p:spPr>
          <a:xfrm flipH="1" flipV="1">
            <a:off x="5965560" y="2017440"/>
            <a:ext cx="15768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3" name=""/>
          <p:cNvSpPr/>
          <p:nvPr/>
        </p:nvSpPr>
        <p:spPr>
          <a:xfrm>
            <a:off x="6440400" y="14130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060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45280" y="177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"/>
          <p:cNvCxnSpPr>
            <a:stCxn id="394" idx="7"/>
            <a:endCxn id="395" idx="3"/>
          </p:cNvCxnSpPr>
          <p:nvPr/>
        </p:nvCxnSpPr>
        <p:spPr>
          <a:xfrm flipV="1">
            <a:off x="7102440" y="2017440"/>
            <a:ext cx="8640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8" idx="1"/>
            <a:endCxn id="395" idx="5"/>
          </p:cNvCxnSpPr>
          <p:nvPr/>
        </p:nvCxnSpPr>
        <p:spPr>
          <a:xfrm flipH="1" flipV="1">
            <a:off x="7389360" y="2017440"/>
            <a:ext cx="8784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90" idx="7"/>
            <a:endCxn id="393" idx="3"/>
          </p:cNvCxnSpPr>
          <p:nvPr/>
        </p:nvCxnSpPr>
        <p:spPr>
          <a:xfrm flipV="1">
            <a:off x="5965560" y="1656720"/>
            <a:ext cx="51804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395" idx="1"/>
            <a:endCxn id="393" idx="5"/>
          </p:cNvCxnSpPr>
          <p:nvPr/>
        </p:nvCxnSpPr>
        <p:spPr>
          <a:xfrm flipH="1" flipV="1">
            <a:off x="6684480" y="1656720"/>
            <a:ext cx="50400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648400" y="23479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"/>
          <p:cNvCxnSpPr>
            <a:stCxn id="401" idx="1"/>
            <a:endCxn id="387" idx="5"/>
          </p:cNvCxnSpPr>
          <p:nvPr/>
        </p:nvCxnSpPr>
        <p:spPr>
          <a:xfrm flipH="1" flipV="1">
            <a:off x="5608080" y="2304720"/>
            <a:ext cx="8316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7434360" y="2060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32360" y="2492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02160" y="220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64120" y="23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441920" y="231156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432040" y="259884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,1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2700000">
            <a:off x="5254200" y="2120760"/>
            <a:ext cx="792000" cy="4554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381800" y="162864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,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8360" y="3141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16000" y="4005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92360" y="4005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05080" y="371808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"/>
          <p:cNvCxnSpPr>
            <a:stCxn id="411" idx="7"/>
            <a:endCxn id="413" idx="3"/>
          </p:cNvCxnSpPr>
          <p:nvPr/>
        </p:nvCxnSpPr>
        <p:spPr>
          <a:xfrm flipV="1">
            <a:off x="1360080" y="3962160"/>
            <a:ext cx="8784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412" idx="1"/>
            <a:endCxn id="413" idx="5"/>
          </p:cNvCxnSpPr>
          <p:nvPr/>
        </p:nvCxnSpPr>
        <p:spPr>
          <a:xfrm flipH="1" flipV="1">
            <a:off x="1649160" y="3962160"/>
            <a:ext cx="8640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124000" y="33577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41600" y="4005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28880" y="371808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417" idx="7"/>
            <a:endCxn id="418" idx="3"/>
          </p:cNvCxnSpPr>
          <p:nvPr/>
        </p:nvCxnSpPr>
        <p:spPr>
          <a:xfrm flipV="1">
            <a:off x="2786040" y="3962160"/>
            <a:ext cx="8640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21" idx="1"/>
            <a:endCxn id="418" idx="5"/>
          </p:cNvCxnSpPr>
          <p:nvPr/>
        </p:nvCxnSpPr>
        <p:spPr>
          <a:xfrm flipH="1" flipV="1">
            <a:off x="3072960" y="3962160"/>
            <a:ext cx="8784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13" idx="7"/>
            <a:endCxn id="416" idx="3"/>
          </p:cNvCxnSpPr>
          <p:nvPr/>
        </p:nvCxnSpPr>
        <p:spPr>
          <a:xfrm flipV="1">
            <a:off x="1649160" y="3601440"/>
            <a:ext cx="51804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418" idx="1"/>
            <a:endCxn id="416" idx="5"/>
          </p:cNvCxnSpPr>
          <p:nvPr/>
        </p:nvCxnSpPr>
        <p:spPr>
          <a:xfrm flipH="1" flipV="1">
            <a:off x="2368080" y="3601440"/>
            <a:ext cx="50400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3117960" y="4005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09440" y="414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341440" y="414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125520" y="425592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65400" y="357336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,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5440" y="386064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,2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2700000">
            <a:off x="1285920" y="3774960"/>
            <a:ext cx="792000" cy="45576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9080" y="3789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300720" y="34290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43640" y="4076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730920" y="3789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>
            <a:stCxn id="432" idx="7"/>
            <a:endCxn id="433" idx="3"/>
          </p:cNvCxnSpPr>
          <p:nvPr/>
        </p:nvCxnSpPr>
        <p:spPr>
          <a:xfrm flipV="1">
            <a:off x="6688080" y="4033440"/>
            <a:ext cx="8640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5" name=""/>
          <p:cNvCxnSpPr>
            <a:stCxn id="436" idx="1"/>
            <a:endCxn id="433" idx="5"/>
          </p:cNvCxnSpPr>
          <p:nvPr/>
        </p:nvCxnSpPr>
        <p:spPr>
          <a:xfrm flipH="1" flipV="1">
            <a:off x="6975000" y="4033440"/>
            <a:ext cx="8784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7" name=""/>
          <p:cNvCxnSpPr>
            <a:stCxn id="430" idx="7"/>
            <a:endCxn id="431" idx="3"/>
          </p:cNvCxnSpPr>
          <p:nvPr/>
        </p:nvCxnSpPr>
        <p:spPr>
          <a:xfrm flipV="1">
            <a:off x="6113160" y="3672720"/>
            <a:ext cx="23076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8" name=""/>
          <p:cNvCxnSpPr>
            <a:stCxn id="433" idx="1"/>
            <a:endCxn id="431" idx="5"/>
          </p:cNvCxnSpPr>
          <p:nvPr/>
        </p:nvCxnSpPr>
        <p:spPr>
          <a:xfrm flipH="1" flipV="1">
            <a:off x="6544440" y="3672720"/>
            <a:ext cx="22932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7020000" y="4076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29080" y="4221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27560" y="432756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67440" y="364500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,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37080" y="364500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,8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" y="472428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677960" y="537228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109960" y="501156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30560" y="56595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17840" y="537228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"/>
          <p:cNvCxnSpPr>
            <a:stCxn id="446" idx="7"/>
            <a:endCxn id="447" idx="3"/>
          </p:cNvCxnSpPr>
          <p:nvPr/>
        </p:nvCxnSpPr>
        <p:spPr>
          <a:xfrm flipV="1">
            <a:off x="2475000" y="5616360"/>
            <a:ext cx="8640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50" idx="1"/>
            <a:endCxn id="447" idx="5"/>
          </p:cNvCxnSpPr>
          <p:nvPr/>
        </p:nvCxnSpPr>
        <p:spPr>
          <a:xfrm flipH="1" flipV="1">
            <a:off x="2761920" y="5616360"/>
            <a:ext cx="87840" cy="8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stCxn id="444" idx="7"/>
            <a:endCxn id="445" idx="3"/>
          </p:cNvCxnSpPr>
          <p:nvPr/>
        </p:nvCxnSpPr>
        <p:spPr>
          <a:xfrm flipV="1">
            <a:off x="1922400" y="5255640"/>
            <a:ext cx="23112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2" name=""/>
          <p:cNvCxnSpPr>
            <a:stCxn id="447" idx="1"/>
            <a:endCxn id="445" idx="5"/>
          </p:cNvCxnSpPr>
          <p:nvPr/>
        </p:nvCxnSpPr>
        <p:spPr>
          <a:xfrm flipH="1" flipV="1">
            <a:off x="2353680" y="5255640"/>
            <a:ext cx="20700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0" name=""/>
          <p:cNvSpPr/>
          <p:nvPr/>
        </p:nvSpPr>
        <p:spPr>
          <a:xfrm>
            <a:off x="2806560" y="5659560"/>
            <a:ext cx="287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2360" y="5877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14480" y="591012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54000" y="522756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,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245960" y="522756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,8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8900000">
            <a:off x="2123640" y="5430600"/>
            <a:ext cx="792360" cy="4554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940360" y="530208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372360" y="494172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780240" y="530208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"/>
          <p:cNvCxnSpPr>
            <a:stCxn id="458" idx="7"/>
            <a:endCxn id="459" idx="3"/>
          </p:cNvCxnSpPr>
          <p:nvPr/>
        </p:nvCxnSpPr>
        <p:spPr>
          <a:xfrm flipV="1">
            <a:off x="6184800" y="5185800"/>
            <a:ext cx="23112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60" idx="1"/>
            <a:endCxn id="459" idx="5"/>
          </p:cNvCxnSpPr>
          <p:nvPr/>
        </p:nvCxnSpPr>
        <p:spPr>
          <a:xfrm flipH="1" flipV="1">
            <a:off x="6616080" y="5185800"/>
            <a:ext cx="20700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7016400" y="515772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,2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08360" y="515772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,8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31840" y="5805360"/>
            <a:ext cx="35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 + 81) + (7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+ 21) = 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89D-E221-43DF-9E80-B39879DD93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23:06Z</dcterms:created>
  <dc:creator>Utente della copia di valutazione di Office 2004</dc:creator>
  <dc:description/>
  <dc:language>en-US</dc:language>
  <cp:lastModifiedBy>Saverio Caminiti</cp:lastModifiedBy>
  <cp:lastPrinted>2008-02-15T15:49:41Z</cp:lastPrinted>
  <dcterms:modified xsi:type="dcterms:W3CDTF">2008-05-15T13:23:20Z</dcterms:modified>
  <cp:revision>649</cp:revision>
  <dc:subject/>
  <dc:title>Algoritmi Paralleli e Distribuiti</dc:title>
</cp:coreProperties>
</file>