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4F33-84FA-4D7D-A185-6B15698DA2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599-DD07-4A0E-A30D-0BFAD571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477-00EE-4FAE-AE8E-95DAF2DC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B26-27D4-41D4-88C8-3D0C52FE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B22-03B3-42F8-B83C-F9B8E162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B7EC-CA51-4F6D-AD7E-CB9B6F7B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3029-9DE7-4D45-8D6A-9B5BA84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DD3C-A646-46CF-94F4-BC3A0D4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0898-9128-4958-9A65-16C9D4B7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7FE-8D64-45B6-8BAB-541F2151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A0D1-F9CE-44CD-8125-8CB9A34B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AB59-6A2C-408B-98C8-A982129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1FB-8471-4520-9675-9F3DAE3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C060-F4F5-4397-AF2F-2BF53C4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26B-0BCC-47BE-B76A-CCB4BEF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8978-101B-4C73-9950-C010ED0B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86D1-29C6-4A8E-8AEE-5339A92E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4EE3-503C-48DE-ABBB-55EA87A6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520-969D-4188-A9D9-D71866DF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719-594B-4CE7-A8BB-22943FE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768-BF33-4FB5-B199-542FD55D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C0F-00E9-408A-961A-E18D485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6DB-8584-4151-8D70-1E91FD7A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C15-2B6A-442B-89B1-FE48B1B7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80B-33B9-4FF8-865F-6DFE3B73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152E-973D-4628-B6B9-AD51C5C71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E26B-BAF8-47DD-8138-C5CB69E1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29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mma su m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i adoperano RxC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00"/>
                </a:solidFill>
                <a:latin typeface="Arial"/>
              </a:rPr>
              <a:t>Ciascun processore ha un proprio valore nella variabil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mma_Mesh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-1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R-1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R-1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R-1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R-1,j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R-1, C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R+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796000" y="2494080"/>
            <a:ext cx="2232000" cy="3166560"/>
            <a:chOff x="5796000" y="2494080"/>
            <a:chExt cx="2232000" cy="3166560"/>
          </a:xfrm>
        </p:grpSpPr>
        <p:grpSp>
          <p:nvGrpSpPr>
            <p:cNvPr id="421" name=""/>
            <p:cNvGrpSpPr/>
            <p:nvPr/>
          </p:nvGrpSpPr>
          <p:grpSpPr>
            <a:xfrm>
              <a:off x="5796000" y="5012280"/>
              <a:ext cx="2087640" cy="648360"/>
              <a:chOff x="5796000" y="5012280"/>
              <a:chExt cx="2087640" cy="648360"/>
            </a:xfrm>
          </p:grpSpPr>
          <p:cxnSp>
            <p:nvCxnSpPr>
              <p:cNvPr id="422" name=""/>
              <p:cNvCxnSpPr>
                <a:stCxn id="423" idx="3"/>
                <a:endCxn id="424" idx="1"/>
              </p:cNvCxnSpPr>
              <p:nvPr/>
            </p:nvCxnSpPr>
            <p:spPr>
              <a:xfrm>
                <a:off x="6083280" y="5372640"/>
                <a:ext cx="7214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3" name=""/>
              <p:cNvSpPr/>
              <p:nvPr/>
            </p:nvSpPr>
            <p:spPr>
              <a:xfrm>
                <a:off x="5796000" y="522864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00720" y="522864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804000" y="522864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96360" y="522864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7" name=""/>
              <p:cNvCxnSpPr>
                <a:stCxn id="424" idx="3"/>
                <a:endCxn id="426" idx="1"/>
              </p:cNvCxnSpPr>
              <p:nvPr/>
            </p:nvCxnSpPr>
            <p:spPr>
              <a:xfrm>
                <a:off x="7090920" y="5372640"/>
                <a:ext cx="505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428" name=""/>
              <p:cNvCxnSpPr/>
              <p:nvPr/>
            </p:nvCxnSpPr>
            <p:spPr>
              <a:xfrm flipV="1">
                <a:off x="7740360" y="50122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29" name=""/>
              <p:cNvCxnSpPr/>
              <p:nvPr/>
            </p:nvCxnSpPr>
            <p:spPr>
              <a:xfrm flipV="1">
                <a:off x="6948000" y="50122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30" name=""/>
              <p:cNvCxnSpPr/>
              <p:nvPr/>
            </p:nvCxnSpPr>
            <p:spPr>
              <a:xfrm flipV="1">
                <a:off x="6444720" y="50122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31" name=""/>
              <p:cNvCxnSpPr/>
              <p:nvPr/>
            </p:nvCxnSpPr>
            <p:spPr>
              <a:xfrm flipV="1">
                <a:off x="5940000" y="50122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sp>
            <p:nvSpPr>
              <p:cNvPr id="432" name=""/>
              <p:cNvSpPr/>
              <p:nvPr/>
            </p:nvSpPr>
            <p:spPr>
              <a:xfrm>
                <a:off x="5940360" y="5660640"/>
                <a:ext cx="180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796000" y="2494080"/>
              <a:ext cx="2232000" cy="2013840"/>
              <a:chOff x="5796000" y="2494080"/>
              <a:chExt cx="2232000" cy="2013840"/>
            </a:xfrm>
          </p:grpSpPr>
          <p:cxnSp>
            <p:nvCxnSpPr>
              <p:cNvPr id="434" name=""/>
              <p:cNvCxnSpPr>
                <a:stCxn id="435" idx="2"/>
                <a:endCxn id="436" idx="0"/>
              </p:cNvCxnSpPr>
              <p:nvPr/>
            </p:nvCxnSpPr>
            <p:spPr>
              <a:xfrm>
                <a:off x="5940000" y="2780640"/>
                <a:ext cx="1080" cy="72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7" name=""/>
              <p:cNvCxnSpPr>
                <a:stCxn id="438" idx="2"/>
                <a:endCxn id="439" idx="0"/>
              </p:cNvCxnSpPr>
              <p:nvPr/>
            </p:nvCxnSpPr>
            <p:spPr>
              <a:xfrm>
                <a:off x="6444720" y="2780640"/>
                <a:ext cx="1080" cy="72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0" name=""/>
              <p:cNvCxnSpPr>
                <a:stCxn id="441" idx="2"/>
                <a:endCxn id="442" idx="0"/>
              </p:cNvCxnSpPr>
              <p:nvPr/>
            </p:nvCxnSpPr>
            <p:spPr>
              <a:xfrm>
                <a:off x="6948000" y="2780640"/>
                <a:ext cx="1080" cy="72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3" name=""/>
              <p:cNvCxnSpPr>
                <a:stCxn id="435" idx="3"/>
                <a:endCxn id="441" idx="1"/>
              </p:cNvCxnSpPr>
              <p:nvPr/>
            </p:nvCxnSpPr>
            <p:spPr>
              <a:xfrm>
                <a:off x="6083280" y="263772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444" name=""/>
              <p:cNvCxnSpPr>
                <a:stCxn id="445" idx="1"/>
                <a:endCxn id="446" idx="3"/>
              </p:cNvCxnSpPr>
              <p:nvPr/>
            </p:nvCxnSpPr>
            <p:spPr>
              <a:xfrm flipH="1">
                <a:off x="6082920" y="314100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447" name=""/>
              <p:cNvCxnSpPr>
                <a:stCxn id="442" idx="1"/>
                <a:endCxn id="436" idx="3"/>
              </p:cNvCxnSpPr>
              <p:nvPr/>
            </p:nvCxnSpPr>
            <p:spPr>
              <a:xfrm flipH="1">
                <a:off x="6082920" y="364608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448" name=""/>
              <p:cNvCxnSpPr>
                <a:stCxn id="449" idx="2"/>
                <a:endCxn id="450" idx="0"/>
              </p:cNvCxnSpPr>
              <p:nvPr/>
            </p:nvCxnSpPr>
            <p:spPr>
              <a:xfrm>
                <a:off x="7740360" y="2780640"/>
                <a:ext cx="1080" cy="72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1" name=""/>
              <p:cNvCxnSpPr>
                <a:stCxn id="452" idx="3"/>
                <a:endCxn id="453" idx="1"/>
              </p:cNvCxnSpPr>
              <p:nvPr/>
            </p:nvCxnSpPr>
            <p:spPr>
              <a:xfrm>
                <a:off x="6083280" y="436500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sp>
            <p:nvSpPr>
              <p:cNvPr id="435" name=""/>
              <p:cNvSpPr/>
              <p:nvPr/>
            </p:nvSpPr>
            <p:spPr>
              <a:xfrm>
                <a:off x="5796000" y="249408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00720" y="249408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96000" y="2997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00720" y="2997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04000" y="249408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04000" y="2997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96000" y="350172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00720" y="350172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04000" y="350172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96360" y="249408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96360" y="2997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96360" y="350172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6000" y="4221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00720" y="4221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04000" y="4221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96360" y="4221000"/>
                <a:ext cx="287280" cy="28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8" name=""/>
              <p:cNvCxnSpPr>
                <a:stCxn id="441" idx="3"/>
                <a:endCxn id="449" idx="1"/>
              </p:cNvCxnSpPr>
              <p:nvPr/>
            </p:nvCxnSpPr>
            <p:spPr>
              <a:xfrm>
                <a:off x="7090920" y="263772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59" name=""/>
              <p:cNvCxnSpPr>
                <a:stCxn id="455" idx="1"/>
                <a:endCxn id="445" idx="3"/>
              </p:cNvCxnSpPr>
              <p:nvPr/>
            </p:nvCxnSpPr>
            <p:spPr>
              <a:xfrm flipH="1">
                <a:off x="7090560" y="314100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60" name=""/>
              <p:cNvCxnSpPr>
                <a:stCxn id="450" idx="1"/>
                <a:endCxn id="442" idx="3"/>
              </p:cNvCxnSpPr>
              <p:nvPr/>
            </p:nvCxnSpPr>
            <p:spPr>
              <a:xfrm flipH="1">
                <a:off x="7090560" y="364608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61" name=""/>
              <p:cNvCxnSpPr>
                <a:stCxn id="450" idx="2"/>
                <a:endCxn id="457" idx="0"/>
              </p:cNvCxnSpPr>
              <p:nvPr/>
            </p:nvCxnSpPr>
            <p:spPr>
              <a:xfrm>
                <a:off x="7740360" y="3788640"/>
                <a:ext cx="1080" cy="43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462" name=""/>
              <p:cNvCxnSpPr>
                <a:stCxn id="457" idx="1"/>
                <a:endCxn id="453" idx="3"/>
              </p:cNvCxnSpPr>
              <p:nvPr/>
            </p:nvCxnSpPr>
            <p:spPr>
              <a:xfrm flipH="1">
                <a:off x="7090560" y="436500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463" name=""/>
              <p:cNvCxnSpPr>
                <a:stCxn id="442" idx="2"/>
                <a:endCxn id="453" idx="0"/>
              </p:cNvCxnSpPr>
              <p:nvPr/>
            </p:nvCxnSpPr>
            <p:spPr>
              <a:xfrm>
                <a:off x="6948000" y="3788640"/>
                <a:ext cx="1080" cy="43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464" name=""/>
              <p:cNvCxnSpPr>
                <a:stCxn id="439" idx="2"/>
                <a:endCxn id="456" idx="0"/>
              </p:cNvCxnSpPr>
              <p:nvPr/>
            </p:nvCxnSpPr>
            <p:spPr>
              <a:xfrm>
                <a:off x="6444720" y="3788640"/>
                <a:ext cx="1080" cy="43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465" name=""/>
              <p:cNvCxnSpPr>
                <a:stCxn id="436" idx="2"/>
                <a:endCxn id="452" idx="0"/>
              </p:cNvCxnSpPr>
              <p:nvPr/>
            </p:nvCxnSpPr>
            <p:spPr>
              <a:xfrm>
                <a:off x="5940000" y="3788640"/>
                <a:ext cx="1080" cy="43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sp>
            <p:nvSpPr>
              <p:cNvPr id="466" name=""/>
              <p:cNvSpPr/>
              <p:nvPr/>
            </p:nvSpPr>
            <p:spPr>
              <a:xfrm>
                <a:off x="8028000" y="2638080"/>
                <a:ext cx="0" cy="172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7885080" y="5373720"/>
            <a:ext cx="28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0A1-7C17-4B4B-A5D6-D32F17F46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i adoperano n=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00"/>
                </a:solidFill>
                <a:latin typeface="Arial"/>
              </a:rPr>
              <a:t>Ciascun processore ha un proprio valore nella variabil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mma_Ipercub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d-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+2</a:t>
            </a:r>
            <a:r>
              <a:rPr b="0" lang="it-IT" sz="1800" spc="-1" strike="noStrike" baseline="-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d = log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a su ipercu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949640" y="2311920"/>
            <a:ext cx="3583080" cy="3687120"/>
            <a:chOff x="4949640" y="2311920"/>
            <a:chExt cx="3583080" cy="3687120"/>
          </a:xfrm>
        </p:grpSpPr>
        <p:grpSp>
          <p:nvGrpSpPr>
            <p:cNvPr id="471" name=""/>
            <p:cNvGrpSpPr/>
            <p:nvPr/>
          </p:nvGrpSpPr>
          <p:grpSpPr>
            <a:xfrm>
              <a:off x="6804000" y="2349360"/>
              <a:ext cx="1717560" cy="1511280"/>
              <a:chOff x="6804000" y="2349360"/>
              <a:chExt cx="1717560" cy="1511280"/>
            </a:xfrm>
          </p:grpSpPr>
          <p:sp>
            <p:nvSpPr>
              <p:cNvPr id="472" name=""/>
              <p:cNvSpPr/>
              <p:nvPr/>
            </p:nvSpPr>
            <p:spPr>
              <a:xfrm>
                <a:off x="7008840" y="270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73920" y="270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08840" y="3573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873920" y="3573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6" name=""/>
              <p:cNvCxnSpPr>
                <a:stCxn id="472" idx="2"/>
                <a:endCxn id="474" idx="0"/>
              </p:cNvCxnSpPr>
              <p:nvPr/>
            </p:nvCxnSpPr>
            <p:spPr>
              <a:xfrm>
                <a:off x="7152840" y="299664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7" name=""/>
              <p:cNvCxnSpPr>
                <a:stCxn id="474" idx="3"/>
                <a:endCxn id="475" idx="1"/>
              </p:cNvCxnSpPr>
              <p:nvPr/>
            </p:nvCxnSpPr>
            <p:spPr>
              <a:xfrm>
                <a:off x="7295760" y="371736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8" name=""/>
              <p:cNvCxnSpPr>
                <a:stCxn id="475" idx="0"/>
                <a:endCxn id="473" idx="2"/>
              </p:cNvCxnSpPr>
              <p:nvPr/>
            </p:nvCxnSpPr>
            <p:spPr>
              <a:xfrm flipV="1">
                <a:off x="8017920" y="299628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9" name=""/>
              <p:cNvCxnSpPr>
                <a:stCxn id="473" idx="1"/>
                <a:endCxn id="472" idx="3"/>
              </p:cNvCxnSpPr>
              <p:nvPr/>
            </p:nvCxnSpPr>
            <p:spPr>
              <a:xfrm flipH="1">
                <a:off x="7295400" y="285372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0" name=""/>
              <p:cNvSpPr/>
              <p:nvPr/>
            </p:nvSpPr>
            <p:spPr>
              <a:xfrm>
                <a:off x="7369200" y="2349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34280" y="2349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69200" y="3213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34280" y="3213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4" name=""/>
              <p:cNvCxnSpPr>
                <a:stCxn id="480" idx="2"/>
                <a:endCxn id="482" idx="0"/>
              </p:cNvCxnSpPr>
              <p:nvPr/>
            </p:nvCxnSpPr>
            <p:spPr>
              <a:xfrm>
                <a:off x="7513200" y="263628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5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7656120" y="335700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6" name=""/>
              <p:cNvCxnSpPr>
                <a:stCxn id="483" idx="0"/>
                <a:endCxn id="481" idx="2"/>
              </p:cNvCxnSpPr>
              <p:nvPr/>
            </p:nvCxnSpPr>
            <p:spPr>
              <a:xfrm flipV="1">
                <a:off x="8378280" y="263592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7" name=""/>
              <p:cNvCxnSpPr>
                <a:stCxn id="481" idx="1"/>
                <a:endCxn id="480" idx="3"/>
              </p:cNvCxnSpPr>
              <p:nvPr/>
            </p:nvCxnSpPr>
            <p:spPr>
              <a:xfrm flipH="1">
                <a:off x="7655760" y="249336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8" name=""/>
              <p:cNvSpPr/>
              <p:nvPr/>
            </p:nvSpPr>
            <p:spPr>
              <a:xfrm flipV="1">
                <a:off x="7297560" y="263628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8161200" y="2636280"/>
                <a:ext cx="7128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8161200" y="3501360"/>
                <a:ext cx="7128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297560" y="350136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rot="5400000">
                <a:off x="6428520" y="3213720"/>
                <a:ext cx="882720" cy="13176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6200000">
                <a:off x="7857000" y="3227400"/>
                <a:ext cx="882360" cy="13176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949640" y="2311920"/>
              <a:ext cx="1630800" cy="1599840"/>
              <a:chOff x="4949640" y="2311920"/>
              <a:chExt cx="1630800" cy="1599840"/>
            </a:xfrm>
          </p:grpSpPr>
          <p:sp>
            <p:nvSpPr>
              <p:cNvPr id="495" name=""/>
              <p:cNvSpPr/>
              <p:nvPr/>
            </p:nvSpPr>
            <p:spPr>
              <a:xfrm>
                <a:off x="5004000" y="270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9080" y="270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004000" y="3573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9080" y="3573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9" name=""/>
              <p:cNvCxnSpPr>
                <a:stCxn id="495" idx="2"/>
                <a:endCxn id="497" idx="0"/>
              </p:cNvCxnSpPr>
              <p:nvPr/>
            </p:nvCxnSpPr>
            <p:spPr>
              <a:xfrm>
                <a:off x="5148000" y="299664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0" name=""/>
              <p:cNvCxnSpPr>
                <a:stCxn id="497" idx="3"/>
                <a:endCxn id="498" idx="1"/>
              </p:cNvCxnSpPr>
              <p:nvPr/>
            </p:nvCxnSpPr>
            <p:spPr>
              <a:xfrm>
                <a:off x="5290920" y="371736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1" name=""/>
              <p:cNvCxnSpPr>
                <a:stCxn id="498" idx="0"/>
                <a:endCxn id="496" idx="2"/>
              </p:cNvCxnSpPr>
              <p:nvPr/>
            </p:nvCxnSpPr>
            <p:spPr>
              <a:xfrm flipV="1">
                <a:off x="6013440" y="299628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2" name=""/>
              <p:cNvCxnSpPr>
                <a:stCxn id="496" idx="1"/>
                <a:endCxn id="495" idx="3"/>
              </p:cNvCxnSpPr>
              <p:nvPr/>
            </p:nvCxnSpPr>
            <p:spPr>
              <a:xfrm flipH="1">
                <a:off x="5290560" y="285372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03" name=""/>
              <p:cNvSpPr/>
              <p:nvPr/>
            </p:nvSpPr>
            <p:spPr>
              <a:xfrm>
                <a:off x="5364360" y="2349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29440" y="2349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64360" y="3213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29440" y="3213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7" name=""/>
              <p:cNvCxnSpPr>
                <a:stCxn id="503" idx="2"/>
                <a:endCxn id="505" idx="0"/>
              </p:cNvCxnSpPr>
              <p:nvPr/>
            </p:nvCxnSpPr>
            <p:spPr>
              <a:xfrm>
                <a:off x="5508360" y="263628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8" name=""/>
              <p:cNvCxnSpPr>
                <a:stCxn id="505" idx="3"/>
                <a:endCxn id="506" idx="1"/>
              </p:cNvCxnSpPr>
              <p:nvPr/>
            </p:nvCxnSpPr>
            <p:spPr>
              <a:xfrm>
                <a:off x="5651280" y="335700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9" name=""/>
              <p:cNvCxnSpPr>
                <a:stCxn id="506" idx="0"/>
                <a:endCxn id="504" idx="2"/>
              </p:cNvCxnSpPr>
              <p:nvPr/>
            </p:nvCxnSpPr>
            <p:spPr>
              <a:xfrm flipV="1">
                <a:off x="6373800" y="263592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0" name=""/>
              <p:cNvCxnSpPr>
                <a:stCxn id="504" idx="1"/>
                <a:endCxn id="503" idx="3"/>
              </p:cNvCxnSpPr>
              <p:nvPr/>
            </p:nvCxnSpPr>
            <p:spPr>
              <a:xfrm flipH="1">
                <a:off x="5650920" y="249336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1" name=""/>
              <p:cNvSpPr/>
              <p:nvPr/>
            </p:nvSpPr>
            <p:spPr>
              <a:xfrm flipV="1">
                <a:off x="5292720" y="263628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156360" y="263628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156360" y="350136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292720" y="350136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8407800">
                <a:off x="4932360" y="2438280"/>
                <a:ext cx="432000" cy="10440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rot="8407800">
                <a:off x="4932360" y="3290760"/>
                <a:ext cx="432000" cy="10440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 rot="7997400">
                <a:off x="6187320" y="2812320"/>
                <a:ext cx="431640" cy="7956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 rot="7997400">
                <a:off x="6184080" y="3687120"/>
                <a:ext cx="431640" cy="7956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020000" y="4294080"/>
              <a:ext cx="1512720" cy="1511280"/>
              <a:chOff x="7020000" y="4294080"/>
              <a:chExt cx="1512720" cy="1511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02000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8508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020000" y="5518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885080" y="5518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4" name=""/>
              <p:cNvCxnSpPr>
                <a:stCxn id="520" idx="2"/>
                <a:endCxn id="522" idx="0"/>
              </p:cNvCxnSpPr>
              <p:nvPr/>
            </p:nvCxnSpPr>
            <p:spPr>
              <a:xfrm>
                <a:off x="7164000" y="494136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5" name=""/>
              <p:cNvCxnSpPr>
                <a:stCxn id="522" idx="3"/>
                <a:endCxn id="523" idx="1"/>
              </p:cNvCxnSpPr>
              <p:nvPr/>
            </p:nvCxnSpPr>
            <p:spPr>
              <a:xfrm>
                <a:off x="7306920" y="56620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6" name=""/>
              <p:cNvCxnSpPr>
                <a:stCxn id="523" idx="0"/>
                <a:endCxn id="521" idx="2"/>
              </p:cNvCxnSpPr>
              <p:nvPr/>
            </p:nvCxnSpPr>
            <p:spPr>
              <a:xfrm flipV="1">
                <a:off x="8029080" y="49410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7" name=""/>
              <p:cNvCxnSpPr>
                <a:stCxn id="521" idx="1"/>
                <a:endCxn id="520" idx="3"/>
              </p:cNvCxnSpPr>
              <p:nvPr/>
            </p:nvCxnSpPr>
            <p:spPr>
              <a:xfrm flipH="1">
                <a:off x="7306560" y="479844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8" name=""/>
              <p:cNvSpPr/>
              <p:nvPr/>
            </p:nvSpPr>
            <p:spPr>
              <a:xfrm>
                <a:off x="7380360" y="4294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245440" y="4294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80360" y="5157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245440" y="5157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2" name=""/>
              <p:cNvCxnSpPr>
                <a:stCxn id="528" idx="2"/>
                <a:endCxn id="530" idx="0"/>
              </p:cNvCxnSpPr>
              <p:nvPr/>
            </p:nvCxnSpPr>
            <p:spPr>
              <a:xfrm>
                <a:off x="7524360" y="45810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3" name=""/>
              <p:cNvCxnSpPr>
                <a:stCxn id="530" idx="3"/>
                <a:endCxn id="531" idx="1"/>
              </p:cNvCxnSpPr>
              <p:nvPr/>
            </p:nvCxnSpPr>
            <p:spPr>
              <a:xfrm>
                <a:off x="7667280" y="530172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4" name=""/>
              <p:cNvCxnSpPr>
                <a:stCxn id="531" idx="0"/>
                <a:endCxn id="529" idx="2"/>
              </p:cNvCxnSpPr>
              <p:nvPr/>
            </p:nvCxnSpPr>
            <p:spPr>
              <a:xfrm flipV="1">
                <a:off x="8389440" y="458064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"/>
              <p:cNvCxnSpPr>
                <a:stCxn id="529" idx="1"/>
                <a:endCxn id="528" idx="3"/>
              </p:cNvCxnSpPr>
              <p:nvPr/>
            </p:nvCxnSpPr>
            <p:spPr>
              <a:xfrm flipH="1">
                <a:off x="7666920" y="44380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6" name=""/>
              <p:cNvSpPr/>
              <p:nvPr/>
            </p:nvSpPr>
            <p:spPr>
              <a:xfrm flipV="1">
                <a:off x="7308720" y="45810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8172360" y="45810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8172360" y="544680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308720" y="544680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5003640" y="4294080"/>
              <a:ext cx="1512720" cy="1704960"/>
              <a:chOff x="5003640" y="4294080"/>
              <a:chExt cx="1512720" cy="1704960"/>
            </a:xfrm>
          </p:grpSpPr>
          <p:sp>
            <p:nvSpPr>
              <p:cNvPr id="541" name=""/>
              <p:cNvSpPr/>
              <p:nvPr/>
            </p:nvSpPr>
            <p:spPr>
              <a:xfrm>
                <a:off x="500364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72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003640" y="5518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720" y="5518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5" name=""/>
              <p:cNvCxnSpPr>
                <a:stCxn id="541" idx="2"/>
                <a:endCxn id="543" idx="0"/>
              </p:cNvCxnSpPr>
              <p:nvPr/>
            </p:nvCxnSpPr>
            <p:spPr>
              <a:xfrm>
                <a:off x="5147640" y="494136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6" name=""/>
              <p:cNvCxnSpPr>
                <a:stCxn id="543" idx="3"/>
                <a:endCxn id="544" idx="1"/>
              </p:cNvCxnSpPr>
              <p:nvPr/>
            </p:nvCxnSpPr>
            <p:spPr>
              <a:xfrm>
                <a:off x="5290560" y="56620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7" name=""/>
              <p:cNvCxnSpPr>
                <a:stCxn id="544" idx="0"/>
                <a:endCxn id="542" idx="2"/>
              </p:cNvCxnSpPr>
              <p:nvPr/>
            </p:nvCxnSpPr>
            <p:spPr>
              <a:xfrm flipV="1">
                <a:off x="6013080" y="49410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8" name=""/>
              <p:cNvCxnSpPr>
                <a:stCxn id="542" idx="1"/>
                <a:endCxn id="541" idx="3"/>
              </p:cNvCxnSpPr>
              <p:nvPr/>
            </p:nvCxnSpPr>
            <p:spPr>
              <a:xfrm flipH="1">
                <a:off x="5290200" y="479844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9" name=""/>
              <p:cNvSpPr/>
              <p:nvPr/>
            </p:nvSpPr>
            <p:spPr>
              <a:xfrm>
                <a:off x="5364000" y="4294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29080" y="42940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64000" y="5157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229080" y="5157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3" name=""/>
              <p:cNvCxnSpPr>
                <a:stCxn id="549" idx="2"/>
                <a:endCxn id="551" idx="0"/>
              </p:cNvCxnSpPr>
              <p:nvPr/>
            </p:nvCxnSpPr>
            <p:spPr>
              <a:xfrm>
                <a:off x="5508000" y="45810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4" name=""/>
              <p:cNvCxnSpPr>
                <a:stCxn id="551" idx="3"/>
                <a:endCxn id="552" idx="1"/>
              </p:cNvCxnSpPr>
              <p:nvPr/>
            </p:nvCxnSpPr>
            <p:spPr>
              <a:xfrm>
                <a:off x="5650920" y="530172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5" name=""/>
              <p:cNvCxnSpPr>
                <a:stCxn id="552" idx="0"/>
                <a:endCxn id="550" idx="2"/>
              </p:cNvCxnSpPr>
              <p:nvPr/>
            </p:nvCxnSpPr>
            <p:spPr>
              <a:xfrm flipV="1">
                <a:off x="6373440" y="458064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6" name=""/>
              <p:cNvCxnSpPr>
                <a:stCxn id="550" idx="1"/>
                <a:endCxn id="549" idx="3"/>
              </p:cNvCxnSpPr>
              <p:nvPr/>
            </p:nvCxnSpPr>
            <p:spPr>
              <a:xfrm flipH="1">
                <a:off x="5650560" y="44380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7" name=""/>
              <p:cNvSpPr/>
              <p:nvPr/>
            </p:nvSpPr>
            <p:spPr>
              <a:xfrm flipV="1">
                <a:off x="5292360" y="45810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156000" y="45810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156000" y="544608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292360" y="544608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59160" y="5867280"/>
                <a:ext cx="882720" cy="131760"/>
              </a:xfrm>
              <a:custGeom>
                <a:avLst/>
                <a:gdLst/>
                <a:ahLst/>
                <a:rect l="l" t="t" r="r" b="b"/>
                <a:pathLst>
                  <a:path w="556" h="83">
                    <a:moveTo>
                      <a:pt x="0" y="0"/>
                    </a:moveTo>
                    <a:cubicBezTo>
                      <a:pt x="47" y="14"/>
                      <a:pt x="192" y="83"/>
                      <a:pt x="285" y="83"/>
                    </a:cubicBezTo>
                    <a:cubicBezTo>
                      <a:pt x="378" y="83"/>
                      <a:pt x="500" y="17"/>
                      <a:pt x="5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7164360" y="580536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252-0468-4071-B779-C881F4F0EC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 per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crivere l’algoritmo per la somma su albero binario assumendo che i processori siano numerati a partire dalle foglie (vedi esempio in fig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506120" y="3214440"/>
            <a:ext cx="3890880" cy="2735280"/>
            <a:chOff x="4506120" y="3214440"/>
            <a:chExt cx="3890880" cy="2735280"/>
          </a:xfrm>
        </p:grpSpPr>
        <p:sp>
          <p:nvSpPr>
            <p:cNvPr id="566" name=""/>
            <p:cNvSpPr/>
            <p:nvPr/>
          </p:nvSpPr>
          <p:spPr>
            <a:xfrm>
              <a:off x="5221440" y="4223160"/>
              <a:ext cx="7174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32360" y="472608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96000" y="472608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50160" y="4221360"/>
              <a:ext cx="7174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62880" y="4724640"/>
              <a:ext cx="4287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24720" y="472464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12000" y="3573720"/>
              <a:ext cx="86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3" name=""/>
            <p:cNvCxnSpPr>
              <a:stCxn id="572" idx="2"/>
              <a:endCxn id="566" idx="0"/>
            </p:cNvCxnSpPr>
            <p:nvPr/>
          </p:nvCxnSpPr>
          <p:spPr>
            <a:xfrm flipH="1">
              <a:off x="5579280" y="3862440"/>
              <a:ext cx="864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74" name=""/>
            <p:cNvCxnSpPr>
              <a:stCxn id="572" idx="2"/>
              <a:endCxn id="569" idx="0"/>
            </p:cNvCxnSpPr>
            <p:nvPr/>
          </p:nvCxnSpPr>
          <p:spPr>
            <a:xfrm>
              <a:off x="6443640" y="3862800"/>
              <a:ext cx="86616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75" name=""/>
            <p:cNvCxnSpPr>
              <a:stCxn id="566" idx="2"/>
              <a:endCxn id="567" idx="0"/>
            </p:cNvCxnSpPr>
            <p:nvPr/>
          </p:nvCxnSpPr>
          <p:spPr>
            <a:xfrm flipH="1">
              <a:off x="5147640" y="451152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76" name=""/>
            <p:cNvCxnSpPr>
              <a:stCxn id="566" idx="2"/>
              <a:endCxn id="568" idx="0"/>
            </p:cNvCxnSpPr>
            <p:nvPr/>
          </p:nvCxnSpPr>
          <p:spPr>
            <a:xfrm>
              <a:off x="5580000" y="451152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77" name=""/>
            <p:cNvCxnSpPr>
              <a:stCxn id="569" idx="2"/>
              <a:endCxn id="570" idx="0"/>
            </p:cNvCxnSpPr>
            <p:nvPr/>
          </p:nvCxnSpPr>
          <p:spPr>
            <a:xfrm flipH="1">
              <a:off x="6876720" y="451008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78" name=""/>
            <p:cNvCxnSpPr>
              <a:stCxn id="569" idx="2"/>
              <a:endCxn id="571" idx="0"/>
            </p:cNvCxnSpPr>
            <p:nvPr/>
          </p:nvCxnSpPr>
          <p:spPr>
            <a:xfrm>
              <a:off x="7308720" y="451008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79" name=""/>
            <p:cNvCxnSpPr>
              <a:stCxn id="567" idx="2"/>
              <a:endCxn id="580" idx="0"/>
            </p:cNvCxnSpPr>
            <p:nvPr/>
          </p:nvCxnSpPr>
          <p:spPr>
            <a:xfrm flipH="1">
              <a:off x="4932000" y="50151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81" name=""/>
            <p:cNvCxnSpPr>
              <a:stCxn id="567" idx="2"/>
              <a:endCxn id="582" idx="0"/>
            </p:cNvCxnSpPr>
            <p:nvPr/>
          </p:nvCxnSpPr>
          <p:spPr>
            <a:xfrm>
              <a:off x="5148360" y="50151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83" name=""/>
            <p:cNvCxnSpPr>
              <a:stCxn id="568" idx="2"/>
              <a:endCxn id="584" idx="0"/>
            </p:cNvCxnSpPr>
            <p:nvPr/>
          </p:nvCxnSpPr>
          <p:spPr>
            <a:xfrm flipH="1">
              <a:off x="5795640" y="50151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85" name=""/>
            <p:cNvCxnSpPr>
              <a:stCxn id="568" idx="2"/>
              <a:endCxn id="586" idx="0"/>
            </p:cNvCxnSpPr>
            <p:nvPr/>
          </p:nvCxnSpPr>
          <p:spPr>
            <a:xfrm>
              <a:off x="6012000" y="501516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87" name=""/>
            <p:cNvCxnSpPr>
              <a:stCxn id="570" idx="2"/>
              <a:endCxn id="588" idx="0"/>
            </p:cNvCxnSpPr>
            <p:nvPr/>
          </p:nvCxnSpPr>
          <p:spPr>
            <a:xfrm flipH="1">
              <a:off x="6659280" y="501372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89" name=""/>
            <p:cNvCxnSpPr>
              <a:stCxn id="570" idx="2"/>
              <a:endCxn id="590" idx="0"/>
            </p:cNvCxnSpPr>
            <p:nvPr/>
          </p:nvCxnSpPr>
          <p:spPr>
            <a:xfrm>
              <a:off x="6877080" y="5013720"/>
              <a:ext cx="2152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91" name=""/>
            <p:cNvCxnSpPr>
              <a:stCxn id="571" idx="2"/>
              <a:endCxn id="592" idx="0"/>
            </p:cNvCxnSpPr>
            <p:nvPr/>
          </p:nvCxnSpPr>
          <p:spPr>
            <a:xfrm flipH="1">
              <a:off x="7522920" y="501372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593" name=""/>
            <p:cNvCxnSpPr>
              <a:stCxn id="571" idx="2"/>
              <a:endCxn id="594" idx="0"/>
            </p:cNvCxnSpPr>
            <p:nvPr/>
          </p:nvCxnSpPr>
          <p:spPr>
            <a:xfrm>
              <a:off x="7740360" y="501372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sp>
          <p:nvSpPr>
            <p:cNvPr id="580" name=""/>
            <p:cNvSpPr/>
            <p:nvPr/>
          </p:nvSpPr>
          <p:spPr>
            <a:xfrm>
              <a:off x="4788000" y="53024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19640" y="53024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51640" y="53024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83280" y="53024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15280" y="53024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46920" y="53024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78920" y="53024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10560" y="530244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93092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36436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79600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2800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65964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09308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2472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956720" y="558936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85200" y="42231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77200" y="357372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50840" y="47260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06120" y="53024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61200" y="47260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61400" y="47260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25040" y="47260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36320" y="422316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65440" y="53024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6443640" y="32144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330-3AF2-4C0D-8B9B-EBBF9D827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 per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rivere un algoritmo per caricare RxC valori in una mesh RxC con input su 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 esempio su una mesh 3x3 un input (a, b, c, d, … ) dovrebbe  distribuirsi tra i processori come in fi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053080" y="4292640"/>
            <a:ext cx="4679280" cy="1295280"/>
            <a:chOff x="2053080" y="4292640"/>
            <a:chExt cx="4679280" cy="1295280"/>
          </a:xfrm>
        </p:grpSpPr>
        <p:grpSp>
          <p:nvGrpSpPr>
            <p:cNvPr id="616" name=""/>
            <p:cNvGrpSpPr/>
            <p:nvPr/>
          </p:nvGrpSpPr>
          <p:grpSpPr>
            <a:xfrm>
              <a:off x="5437080" y="4292640"/>
              <a:ext cx="1295280" cy="1295280"/>
              <a:chOff x="5437080" y="4292640"/>
              <a:chExt cx="1295280" cy="1295280"/>
            </a:xfrm>
          </p:grpSpPr>
          <p:cxnSp>
            <p:nvCxnSpPr>
              <p:cNvPr id="617" name=""/>
              <p:cNvCxnSpPr>
                <a:stCxn id="618" idx="2"/>
                <a:endCxn id="619" idx="0"/>
              </p:cNvCxnSpPr>
              <p:nvPr/>
            </p:nvCxnSpPr>
            <p:spPr>
              <a:xfrm>
                <a:off x="5581080" y="45799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0" name=""/>
              <p:cNvCxnSpPr>
                <a:stCxn id="621" idx="2"/>
                <a:endCxn id="622" idx="0"/>
              </p:cNvCxnSpPr>
              <p:nvPr/>
            </p:nvCxnSpPr>
            <p:spPr>
              <a:xfrm>
                <a:off x="6085800" y="45799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3" name=""/>
              <p:cNvCxnSpPr>
                <a:stCxn id="624" idx="2"/>
                <a:endCxn id="625" idx="0"/>
              </p:cNvCxnSpPr>
              <p:nvPr/>
            </p:nvCxnSpPr>
            <p:spPr>
              <a:xfrm>
                <a:off x="6589080" y="45799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6" name=""/>
              <p:cNvCxnSpPr>
                <a:stCxn id="618" idx="3"/>
                <a:endCxn id="624" idx="1"/>
              </p:cNvCxnSpPr>
              <p:nvPr/>
            </p:nvCxnSpPr>
            <p:spPr>
              <a:xfrm>
                <a:off x="5724360" y="443664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627" name=""/>
              <p:cNvCxnSpPr>
                <a:stCxn id="628" idx="1"/>
                <a:endCxn id="629" idx="3"/>
              </p:cNvCxnSpPr>
              <p:nvPr/>
            </p:nvCxnSpPr>
            <p:spPr>
              <a:xfrm flipH="1">
                <a:off x="5724000" y="493992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630" name=""/>
              <p:cNvCxnSpPr>
                <a:stCxn id="625" idx="1"/>
                <a:endCxn id="619" idx="3"/>
              </p:cNvCxnSpPr>
              <p:nvPr/>
            </p:nvCxnSpPr>
            <p:spPr>
              <a:xfrm flipH="1">
                <a:off x="5724000" y="544464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sp>
            <p:nvSpPr>
              <p:cNvPr id="618" name=""/>
              <p:cNvSpPr/>
              <p:nvPr/>
            </p:nvSpPr>
            <p:spPr>
              <a:xfrm>
                <a:off x="5437080" y="4292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941800" y="4292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37080" y="4795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41800" y="4795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445080" y="4292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45080" y="4795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37080" y="5300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41800" y="5300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45080" y="5300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053080" y="4292640"/>
              <a:ext cx="2807640" cy="1295280"/>
              <a:chOff x="2053080" y="4292640"/>
              <a:chExt cx="2807640" cy="1295280"/>
            </a:xfrm>
          </p:grpSpPr>
          <p:cxnSp>
            <p:nvCxnSpPr>
              <p:cNvPr id="633" name=""/>
              <p:cNvCxnSpPr>
                <a:stCxn id="634" idx="2"/>
                <a:endCxn id="635" idx="0"/>
              </p:cNvCxnSpPr>
              <p:nvPr/>
            </p:nvCxnSpPr>
            <p:spPr>
              <a:xfrm>
                <a:off x="3709440" y="45799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6" name=""/>
              <p:cNvCxnSpPr>
                <a:stCxn id="637" idx="2"/>
                <a:endCxn id="638" idx="0"/>
              </p:cNvCxnSpPr>
              <p:nvPr/>
            </p:nvCxnSpPr>
            <p:spPr>
              <a:xfrm>
                <a:off x="4214160" y="45799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9" name=""/>
              <p:cNvCxnSpPr>
                <a:stCxn id="640" idx="2"/>
                <a:endCxn id="641" idx="0"/>
              </p:cNvCxnSpPr>
              <p:nvPr/>
            </p:nvCxnSpPr>
            <p:spPr>
              <a:xfrm>
                <a:off x="4717440" y="45799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2" name=""/>
              <p:cNvCxnSpPr>
                <a:stCxn id="634" idx="3"/>
                <a:endCxn id="640" idx="1"/>
              </p:cNvCxnSpPr>
              <p:nvPr/>
            </p:nvCxnSpPr>
            <p:spPr>
              <a:xfrm>
                <a:off x="3852720" y="443664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643" name=""/>
              <p:cNvCxnSpPr>
                <a:stCxn id="644" idx="1"/>
                <a:endCxn id="645" idx="3"/>
              </p:cNvCxnSpPr>
              <p:nvPr/>
            </p:nvCxnSpPr>
            <p:spPr>
              <a:xfrm flipH="1">
                <a:off x="3852360" y="493992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646" name=""/>
              <p:cNvCxnSpPr>
                <a:stCxn id="641" idx="1"/>
                <a:endCxn id="635" idx="3"/>
              </p:cNvCxnSpPr>
              <p:nvPr/>
            </p:nvCxnSpPr>
            <p:spPr>
              <a:xfrm flipH="1">
                <a:off x="3852360" y="544464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sp>
            <p:nvSpPr>
              <p:cNvPr id="634" name=""/>
              <p:cNvSpPr/>
              <p:nvPr/>
            </p:nvSpPr>
            <p:spPr>
              <a:xfrm>
                <a:off x="3565440" y="4292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70160" y="4292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565440" y="4795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70160" y="4795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573440" y="4292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3440" y="4795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565440" y="5300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070160" y="5300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73440" y="5300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78160" y="4435560"/>
                <a:ext cx="288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053080" y="4292640"/>
                <a:ext cx="1186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 h g f e d c b 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8F3-73CA-43EC-8605-7C18086872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 per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 un algoritmo per caricar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ori in un ipercubo di dimensione d con input su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5EF-80DC-4430-9D3D-E2948FCE0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roadcast su P-RAM E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i adoperano n process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oadcast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[ 0 ]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[ j ] = A[ j-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81840" y="2276640"/>
            <a:ext cx="2306520" cy="2520720"/>
            <a:chOff x="6081840" y="2276640"/>
            <a:chExt cx="2306520" cy="2520720"/>
          </a:xfrm>
        </p:grpSpPr>
        <p:sp>
          <p:nvSpPr>
            <p:cNvPr id="96" name=""/>
            <p:cNvSpPr/>
            <p:nvPr/>
          </p:nvSpPr>
          <p:spPr>
            <a:xfrm>
              <a:off x="6083280" y="2276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72360" y="2276640"/>
              <a:ext cx="288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59640" y="2276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46920" y="2276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2276640"/>
              <a:ext cx="288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4720" y="2276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12000" y="2276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99640" y="2276640"/>
              <a:ext cx="288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1840" y="299556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70560" y="299556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58200" y="299556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5480" y="299556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34200" y="299556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23280" y="299556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10560" y="299556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97840" y="299556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83280" y="37162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2360" y="37162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9640" y="37162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6920" y="37162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36000" y="37162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24720" y="37162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12000" y="37162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99640" y="37162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3280" y="4508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2360" y="4508640"/>
              <a:ext cx="288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59640" y="4508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6920" y="4508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6000" y="4508640"/>
              <a:ext cx="288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4508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12000" y="450864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99640" y="4508640"/>
              <a:ext cx="288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>
              <a:stCxn id="115" idx="2"/>
              <a:endCxn id="127" idx="0"/>
            </p:cNvCxnSpPr>
            <p:nvPr/>
          </p:nvCxnSpPr>
          <p:spPr>
            <a:xfrm>
              <a:off x="7091280" y="4005360"/>
              <a:ext cx="115344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29" name=""/>
            <p:cNvCxnSpPr>
              <a:stCxn id="114" idx="2"/>
              <a:endCxn id="126" idx="0"/>
            </p:cNvCxnSpPr>
            <p:nvPr/>
          </p:nvCxnSpPr>
          <p:spPr>
            <a:xfrm>
              <a:off x="6804000" y="4005360"/>
              <a:ext cx="115344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30" name=""/>
            <p:cNvCxnSpPr>
              <a:stCxn id="113" idx="2"/>
              <a:endCxn id="125" idx="0"/>
            </p:cNvCxnSpPr>
            <p:nvPr/>
          </p:nvCxnSpPr>
          <p:spPr>
            <a:xfrm>
              <a:off x="6516720" y="4005360"/>
              <a:ext cx="115344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31" name=""/>
            <p:cNvCxnSpPr>
              <a:stCxn id="112" idx="2"/>
              <a:endCxn id="124" idx="0"/>
            </p:cNvCxnSpPr>
            <p:nvPr/>
          </p:nvCxnSpPr>
          <p:spPr>
            <a:xfrm>
              <a:off x="6227640" y="4005360"/>
              <a:ext cx="115272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32" name=""/>
            <p:cNvCxnSpPr>
              <a:stCxn id="105" idx="2"/>
              <a:endCxn id="115" idx="0"/>
            </p:cNvCxnSpPr>
            <p:nvPr/>
          </p:nvCxnSpPr>
          <p:spPr>
            <a:xfrm>
              <a:off x="6515280" y="3284280"/>
              <a:ext cx="57636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33" name=""/>
            <p:cNvCxnSpPr>
              <a:stCxn id="104" idx="2"/>
              <a:endCxn id="114" idx="0"/>
            </p:cNvCxnSpPr>
            <p:nvPr/>
          </p:nvCxnSpPr>
          <p:spPr>
            <a:xfrm>
              <a:off x="6225840" y="3284280"/>
              <a:ext cx="57852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34" name=""/>
            <p:cNvCxnSpPr>
              <a:stCxn id="96" idx="2"/>
              <a:endCxn id="105" idx="0"/>
            </p:cNvCxnSpPr>
            <p:nvPr/>
          </p:nvCxnSpPr>
          <p:spPr>
            <a:xfrm>
              <a:off x="6228000" y="2565000"/>
              <a:ext cx="28800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BD9-99B9-49F7-B726-C72DA2055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Uso di Broadcast su P-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i adoperano n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rca(A, n,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oadcas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e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[ i ] = x [ i ]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nd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gli A[ i ] sono tutti distinti il modello è P-RAM E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imenti è ERCW per la scrittura dell’indice (scrittura concorrente basata su priorità dei process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640-8CCC-4996-8068-C88E3CAC37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connessione tramite R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omunicazione tra processori avviene passando attraverso opportuni canali direttamente da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emoria loc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i un processore a quella di uno o più processori adiac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 di reti di interconness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bero binario 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trice (me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per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B54-568C-40D2-A59D-8D6E09026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 n foglie e 2n-1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nput alla ra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oadcas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og n 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j+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roadcast su albero bi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08360" y="2347920"/>
            <a:ext cx="2594160" cy="2089440"/>
            <a:chOff x="5508360" y="2347920"/>
            <a:chExt cx="2594160" cy="2089440"/>
          </a:xfrm>
        </p:grpSpPr>
        <p:sp>
          <p:nvSpPr>
            <p:cNvPr id="142" name=""/>
            <p:cNvSpPr/>
            <p:nvPr/>
          </p:nvSpPr>
          <p:spPr>
            <a:xfrm>
              <a:off x="5940360" y="335772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8720" y="3860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72360" y="3860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81800" y="3357720"/>
              <a:ext cx="289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50160" y="3860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3800" y="386064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1080" y="27082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2"/>
              <a:endCxn id="142" idx="0"/>
            </p:cNvCxnSpPr>
            <p:nvPr/>
          </p:nvCxnSpPr>
          <p:spPr>
            <a:xfrm flipH="1">
              <a:off x="6084360" y="2997000"/>
              <a:ext cx="72144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8" idx="2"/>
              <a:endCxn id="145" idx="0"/>
            </p:cNvCxnSpPr>
            <p:nvPr/>
          </p:nvCxnSpPr>
          <p:spPr>
            <a:xfrm>
              <a:off x="6805440" y="2997000"/>
              <a:ext cx="72144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2"/>
              <a:endCxn id="143" idx="0"/>
            </p:cNvCxnSpPr>
            <p:nvPr/>
          </p:nvCxnSpPr>
          <p:spPr>
            <a:xfrm flipH="1">
              <a:off x="5652360" y="364608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2" idx="2"/>
              <a:endCxn id="144" idx="0"/>
            </p:cNvCxnSpPr>
            <p:nvPr/>
          </p:nvCxnSpPr>
          <p:spPr>
            <a:xfrm>
              <a:off x="6084720" y="364608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5" idx="2"/>
              <a:endCxn id="146" idx="0"/>
            </p:cNvCxnSpPr>
            <p:nvPr/>
          </p:nvCxnSpPr>
          <p:spPr>
            <a:xfrm flipH="1">
              <a:off x="7093800" y="364608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5" idx="2"/>
              <a:endCxn id="147" idx="0"/>
            </p:cNvCxnSpPr>
            <p:nvPr/>
          </p:nvCxnSpPr>
          <p:spPr>
            <a:xfrm>
              <a:off x="7526160" y="364608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3" idx="2"/>
            </p:cNvCxnSpPr>
            <p:nvPr/>
          </p:nvCxnSpPr>
          <p:spPr>
            <a:xfrm flipH="1">
              <a:off x="5508360" y="4149720"/>
              <a:ext cx="144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3" idx="2"/>
            </p:cNvCxnSpPr>
            <p:nvPr/>
          </p:nvCxnSpPr>
          <p:spPr>
            <a:xfrm>
              <a:off x="5652720" y="4149720"/>
              <a:ext cx="144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4" idx="2"/>
            </p:cNvCxnSpPr>
            <p:nvPr/>
          </p:nvCxnSpPr>
          <p:spPr>
            <a:xfrm flipH="1">
              <a:off x="6372000" y="4149720"/>
              <a:ext cx="144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4" idx="2"/>
            </p:cNvCxnSpPr>
            <p:nvPr/>
          </p:nvCxnSpPr>
          <p:spPr>
            <a:xfrm>
              <a:off x="6516360" y="4149720"/>
              <a:ext cx="144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46" idx="2"/>
            </p:cNvCxnSpPr>
            <p:nvPr/>
          </p:nvCxnSpPr>
          <p:spPr>
            <a:xfrm flipH="1">
              <a:off x="6948000" y="4149720"/>
              <a:ext cx="1468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6" idx="2"/>
            </p:cNvCxnSpPr>
            <p:nvPr/>
          </p:nvCxnSpPr>
          <p:spPr>
            <a:xfrm>
              <a:off x="7094160" y="4149720"/>
              <a:ext cx="14364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47" idx="2"/>
            </p:cNvCxnSpPr>
            <p:nvPr/>
          </p:nvCxnSpPr>
          <p:spPr>
            <a:xfrm flipH="1">
              <a:off x="7811640" y="4149720"/>
              <a:ext cx="1468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47" idx="2"/>
            </p:cNvCxnSpPr>
            <p:nvPr/>
          </p:nvCxnSpPr>
          <p:spPr>
            <a:xfrm>
              <a:off x="7957800" y="4149720"/>
              <a:ext cx="14364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6804000" y="234792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6FB-3E7B-489F-AC42-38BC55614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roadcast su m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i adoperano RxC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nput su P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Arial"/>
              </a:rPr>
              <a:t>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oadcas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0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0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0,j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-1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C+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796000" y="2422440"/>
            <a:ext cx="2232000" cy="3238560"/>
            <a:chOff x="5796000" y="2422440"/>
            <a:chExt cx="2232000" cy="3238560"/>
          </a:xfrm>
        </p:grpSpPr>
        <p:grpSp>
          <p:nvGrpSpPr>
            <p:cNvPr id="167" name=""/>
            <p:cNvGrpSpPr/>
            <p:nvPr/>
          </p:nvGrpSpPr>
          <p:grpSpPr>
            <a:xfrm>
              <a:off x="5796000" y="2422440"/>
              <a:ext cx="2087640" cy="647640"/>
              <a:chOff x="5796000" y="2422440"/>
              <a:chExt cx="2087640" cy="647640"/>
            </a:xfrm>
          </p:grpSpPr>
          <p:cxnSp>
            <p:nvCxnSpPr>
              <p:cNvPr id="168" name=""/>
              <p:cNvCxnSpPr>
                <a:stCxn id="169" idx="3"/>
                <a:endCxn id="170" idx="1"/>
              </p:cNvCxnSpPr>
              <p:nvPr/>
            </p:nvCxnSpPr>
            <p:spPr>
              <a:xfrm>
                <a:off x="6083280" y="2711160"/>
                <a:ext cx="7214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5796000" y="25671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00720" y="25671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04000" y="25671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96360" y="25671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"/>
              <p:cNvCxnSpPr>
                <a:stCxn id="170" idx="3"/>
                <a:endCxn id="172" idx="1"/>
              </p:cNvCxnSpPr>
              <p:nvPr/>
            </p:nvCxnSpPr>
            <p:spPr>
              <a:xfrm>
                <a:off x="7090920" y="2711160"/>
                <a:ext cx="505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174" name=""/>
              <p:cNvCxnSpPr>
                <a:stCxn id="172" idx="2"/>
              </p:cNvCxnSpPr>
              <p:nvPr/>
            </p:nvCxnSpPr>
            <p:spPr>
              <a:xfrm>
                <a:off x="7740360" y="28540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175" name=""/>
              <p:cNvCxnSpPr>
                <a:stCxn id="170" idx="2"/>
              </p:cNvCxnSpPr>
              <p:nvPr/>
            </p:nvCxnSpPr>
            <p:spPr>
              <a:xfrm>
                <a:off x="6948000" y="28540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176" name=""/>
              <p:cNvCxnSpPr>
                <a:stCxn id="171" idx="2"/>
              </p:cNvCxnSpPr>
              <p:nvPr/>
            </p:nvCxnSpPr>
            <p:spPr>
              <a:xfrm>
                <a:off x="6444720" y="28540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177" name=""/>
              <p:cNvCxnSpPr>
                <a:stCxn id="169" idx="2"/>
              </p:cNvCxnSpPr>
              <p:nvPr/>
            </p:nvCxnSpPr>
            <p:spPr>
              <a:xfrm>
                <a:off x="5940000" y="2854080"/>
                <a:ext cx="1080" cy="216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sp>
            <p:nvSpPr>
              <p:cNvPr id="178" name=""/>
              <p:cNvSpPr/>
              <p:nvPr/>
            </p:nvSpPr>
            <p:spPr>
              <a:xfrm>
                <a:off x="5940360" y="2422440"/>
                <a:ext cx="180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796000" y="3646440"/>
              <a:ext cx="2232000" cy="2014560"/>
              <a:chOff x="5796000" y="3646440"/>
              <a:chExt cx="2232000" cy="2014560"/>
            </a:xfrm>
          </p:grpSpPr>
          <p:cxnSp>
            <p:nvCxnSpPr>
              <p:cNvPr id="180" name=""/>
              <p:cNvCxnSpPr>
                <a:stCxn id="181" idx="2"/>
                <a:endCxn id="182" idx="0"/>
              </p:cNvCxnSpPr>
              <p:nvPr/>
            </p:nvCxnSpPr>
            <p:spPr>
              <a:xfrm>
                <a:off x="5940000" y="39337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3" name=""/>
              <p:cNvCxnSpPr>
                <a:stCxn id="184" idx="2"/>
                <a:endCxn id="185" idx="0"/>
              </p:cNvCxnSpPr>
              <p:nvPr/>
            </p:nvCxnSpPr>
            <p:spPr>
              <a:xfrm>
                <a:off x="6444720" y="39337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6" name=""/>
              <p:cNvCxnSpPr>
                <a:stCxn id="187" idx="2"/>
                <a:endCxn id="188" idx="0"/>
              </p:cNvCxnSpPr>
              <p:nvPr/>
            </p:nvCxnSpPr>
            <p:spPr>
              <a:xfrm>
                <a:off x="6948000" y="39337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9" name=""/>
              <p:cNvCxnSpPr>
                <a:stCxn id="181" idx="3"/>
                <a:endCxn id="187" idx="1"/>
              </p:cNvCxnSpPr>
              <p:nvPr/>
            </p:nvCxnSpPr>
            <p:spPr>
              <a:xfrm>
                <a:off x="6083280" y="379044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190" name=""/>
              <p:cNvCxnSpPr>
                <a:stCxn id="191" idx="1"/>
                <a:endCxn id="192" idx="3"/>
              </p:cNvCxnSpPr>
              <p:nvPr/>
            </p:nvCxnSpPr>
            <p:spPr>
              <a:xfrm flipH="1">
                <a:off x="6082920" y="429372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193" name=""/>
              <p:cNvCxnSpPr>
                <a:stCxn id="188" idx="1"/>
                <a:endCxn id="182" idx="3"/>
              </p:cNvCxnSpPr>
              <p:nvPr/>
            </p:nvCxnSpPr>
            <p:spPr>
              <a:xfrm flipH="1">
                <a:off x="6082920" y="479880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cxnSp>
            <p:nvCxnSpPr>
              <p:cNvPr id="194" name=""/>
              <p:cNvCxnSpPr>
                <a:stCxn id="195" idx="2"/>
                <a:endCxn id="196" idx="0"/>
              </p:cNvCxnSpPr>
              <p:nvPr/>
            </p:nvCxnSpPr>
            <p:spPr>
              <a:xfrm>
                <a:off x="7740360" y="3933720"/>
                <a:ext cx="1080" cy="72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7" name=""/>
              <p:cNvCxnSpPr>
                <a:stCxn id="198" idx="3"/>
                <a:endCxn id="199" idx="1"/>
              </p:cNvCxnSpPr>
              <p:nvPr/>
            </p:nvCxnSpPr>
            <p:spPr>
              <a:xfrm>
                <a:off x="6083280" y="5517720"/>
                <a:ext cx="721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miter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5796000" y="3646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00720" y="3646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96000" y="414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00720" y="414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000" y="3646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04000" y="414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9600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0072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400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596360" y="3646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96360" y="4149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96360" y="46544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96000" y="5373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00720" y="5373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04000" y="5373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96360" y="53737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4" name=""/>
              <p:cNvCxnSpPr>
                <a:stCxn id="187" idx="3"/>
                <a:endCxn id="195" idx="1"/>
              </p:cNvCxnSpPr>
              <p:nvPr/>
            </p:nvCxnSpPr>
            <p:spPr>
              <a:xfrm>
                <a:off x="7090920" y="379044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205" name=""/>
              <p:cNvCxnSpPr>
                <a:stCxn id="201" idx="1"/>
                <a:endCxn id="191" idx="3"/>
              </p:cNvCxnSpPr>
              <p:nvPr/>
            </p:nvCxnSpPr>
            <p:spPr>
              <a:xfrm flipH="1">
                <a:off x="7090560" y="429372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206" name=""/>
              <p:cNvCxnSpPr>
                <a:stCxn id="196" idx="1"/>
                <a:endCxn id="188" idx="3"/>
              </p:cNvCxnSpPr>
              <p:nvPr/>
            </p:nvCxnSpPr>
            <p:spPr>
              <a:xfrm flipH="1">
                <a:off x="7090560" y="479880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207" name=""/>
              <p:cNvCxnSpPr>
                <a:stCxn id="196" idx="2"/>
                <a:endCxn id="203" idx="0"/>
              </p:cNvCxnSpPr>
              <p:nvPr/>
            </p:nvCxnSpPr>
            <p:spPr>
              <a:xfrm>
                <a:off x="7740360" y="494172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08" name=""/>
              <p:cNvCxnSpPr>
                <a:stCxn id="203" idx="1"/>
                <a:endCxn id="199" idx="3"/>
              </p:cNvCxnSpPr>
              <p:nvPr/>
            </p:nvCxnSpPr>
            <p:spPr>
              <a:xfrm flipH="1">
                <a:off x="7090560" y="5517720"/>
                <a:ext cx="5058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  <p:cxnSp>
            <p:nvCxnSpPr>
              <p:cNvPr id="209" name=""/>
              <p:cNvCxnSpPr>
                <a:stCxn id="188" idx="2"/>
                <a:endCxn id="199" idx="0"/>
              </p:cNvCxnSpPr>
              <p:nvPr/>
            </p:nvCxnSpPr>
            <p:spPr>
              <a:xfrm>
                <a:off x="6948000" y="494172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10" name=""/>
              <p:cNvCxnSpPr>
                <a:stCxn id="185" idx="2"/>
                <a:endCxn id="202" idx="0"/>
              </p:cNvCxnSpPr>
              <p:nvPr/>
            </p:nvCxnSpPr>
            <p:spPr>
              <a:xfrm>
                <a:off x="6444720" y="494172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11" name=""/>
              <p:cNvCxnSpPr>
                <a:stCxn id="182" idx="2"/>
                <a:endCxn id="198" idx="0"/>
              </p:cNvCxnSpPr>
              <p:nvPr/>
            </p:nvCxnSpPr>
            <p:spPr>
              <a:xfrm>
                <a:off x="5940000" y="494172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sp>
            <p:nvSpPr>
              <p:cNvPr id="212" name=""/>
              <p:cNvSpPr/>
              <p:nvPr/>
            </p:nvSpPr>
            <p:spPr>
              <a:xfrm>
                <a:off x="8028000" y="3790800"/>
                <a:ext cx="0" cy="172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508720" y="270828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0F1-B920-49F5-8492-05D8FE95A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i adoperano n=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nput su P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oadcas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+2</a:t>
            </a:r>
            <a:r>
              <a:rPr b="0" lang="it-IT" sz="1800" spc="-1" strike="noStrike" baseline="-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d = log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roadcast su ipercu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841280" y="2247840"/>
            <a:ext cx="3826440" cy="3670560"/>
            <a:chOff x="4841280" y="2247840"/>
            <a:chExt cx="3826440" cy="3670560"/>
          </a:xfrm>
        </p:grpSpPr>
        <p:sp>
          <p:nvSpPr>
            <p:cNvPr id="217" name=""/>
            <p:cNvSpPr/>
            <p:nvPr/>
          </p:nvSpPr>
          <p:spPr>
            <a:xfrm>
              <a:off x="7246800" y="3984480"/>
              <a:ext cx="882720" cy="13176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5400000">
              <a:off x="4494960" y="5220360"/>
              <a:ext cx="882720" cy="13176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rot="8407800">
              <a:off x="7019640" y="4444920"/>
              <a:ext cx="432000" cy="10440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5923440" y="5234040"/>
              <a:ext cx="882360" cy="13176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8407800">
              <a:off x="7019640" y="5297400"/>
              <a:ext cx="432000" cy="10440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 rot="7997400">
              <a:off x="8274600" y="4818960"/>
              <a:ext cx="431640" cy="7956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 rot="7997400">
              <a:off x="8271360" y="5693760"/>
              <a:ext cx="431640" cy="79560"/>
            </a:xfrm>
            <a:custGeom>
              <a:avLst/>
              <a:gdLst/>
              <a:ahLst/>
              <a:rect l="l" t="t" r="r" b="b"/>
              <a:pathLst>
                <a:path w="556" h="83">
                  <a:moveTo>
                    <a:pt x="0" y="0"/>
                  </a:moveTo>
                  <a:cubicBezTo>
                    <a:pt x="47" y="14"/>
                    <a:pt x="192" y="83"/>
                    <a:pt x="285" y="83"/>
                  </a:cubicBezTo>
                  <a:cubicBezTo>
                    <a:pt x="378" y="83"/>
                    <a:pt x="500" y="17"/>
                    <a:pt x="5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091280" y="2411280"/>
              <a:ext cx="1512720" cy="1511280"/>
              <a:chOff x="7091280" y="2411280"/>
              <a:chExt cx="1512720" cy="1511280"/>
            </a:xfrm>
          </p:grpSpPr>
          <p:sp>
            <p:nvSpPr>
              <p:cNvPr id="225" name=""/>
              <p:cNvSpPr/>
              <p:nvPr/>
            </p:nvSpPr>
            <p:spPr>
              <a:xfrm>
                <a:off x="7091280" y="2771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56360" y="2771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91280" y="3635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56360" y="3635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9" name=""/>
              <p:cNvCxnSpPr>
                <a:stCxn id="225" idx="2"/>
                <a:endCxn id="227" idx="0"/>
              </p:cNvCxnSpPr>
              <p:nvPr/>
            </p:nvCxnSpPr>
            <p:spPr>
              <a:xfrm>
                <a:off x="7235280" y="305856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0" name=""/>
              <p:cNvCxnSpPr>
                <a:stCxn id="227" idx="3"/>
                <a:endCxn id="228" idx="1"/>
              </p:cNvCxnSpPr>
              <p:nvPr/>
            </p:nvCxnSpPr>
            <p:spPr>
              <a:xfrm>
                <a:off x="7378200" y="37792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"/>
              <p:cNvCxnSpPr>
                <a:stCxn id="228" idx="0"/>
                <a:endCxn id="226" idx="2"/>
              </p:cNvCxnSpPr>
              <p:nvPr/>
            </p:nvCxnSpPr>
            <p:spPr>
              <a:xfrm flipV="1">
                <a:off x="8100360" y="30582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2" name=""/>
              <p:cNvCxnSpPr>
                <a:stCxn id="226" idx="1"/>
                <a:endCxn id="225" idx="3"/>
              </p:cNvCxnSpPr>
              <p:nvPr/>
            </p:nvCxnSpPr>
            <p:spPr>
              <a:xfrm flipH="1">
                <a:off x="7377840" y="291564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3" name=""/>
              <p:cNvSpPr/>
              <p:nvPr/>
            </p:nvSpPr>
            <p:spPr>
              <a:xfrm>
                <a:off x="7451640" y="2411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316720" y="2411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51640" y="3274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16720" y="3274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7" name=""/>
              <p:cNvCxnSpPr>
                <a:stCxn id="233" idx="2"/>
                <a:endCxn id="235" idx="0"/>
              </p:cNvCxnSpPr>
              <p:nvPr/>
            </p:nvCxnSpPr>
            <p:spPr>
              <a:xfrm>
                <a:off x="7595640" y="26982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8" name=""/>
              <p:cNvCxnSpPr>
                <a:stCxn id="235" idx="3"/>
                <a:endCxn id="236" idx="1"/>
              </p:cNvCxnSpPr>
              <p:nvPr/>
            </p:nvCxnSpPr>
            <p:spPr>
              <a:xfrm>
                <a:off x="7738560" y="341892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9" name=""/>
              <p:cNvCxnSpPr>
                <a:stCxn id="236" idx="0"/>
                <a:endCxn id="234" idx="2"/>
              </p:cNvCxnSpPr>
              <p:nvPr/>
            </p:nvCxnSpPr>
            <p:spPr>
              <a:xfrm flipV="1">
                <a:off x="8460720" y="269784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0" name=""/>
              <p:cNvCxnSpPr>
                <a:stCxn id="234" idx="1"/>
                <a:endCxn id="233" idx="3"/>
              </p:cNvCxnSpPr>
              <p:nvPr/>
            </p:nvCxnSpPr>
            <p:spPr>
              <a:xfrm flipH="1">
                <a:off x="7738200" y="25552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41" name=""/>
              <p:cNvSpPr/>
              <p:nvPr/>
            </p:nvSpPr>
            <p:spPr>
              <a:xfrm flipV="1">
                <a:off x="7380000" y="26982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243640" y="26982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8243640" y="356400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80000" y="356400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075280" y="4356000"/>
              <a:ext cx="1512720" cy="1511280"/>
              <a:chOff x="5075280" y="4356000"/>
              <a:chExt cx="1512720" cy="1511280"/>
            </a:xfrm>
          </p:grpSpPr>
          <p:sp>
            <p:nvSpPr>
              <p:cNvPr id="246" name=""/>
              <p:cNvSpPr/>
              <p:nvPr/>
            </p:nvSpPr>
            <p:spPr>
              <a:xfrm>
                <a:off x="5075280" y="4716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40360" y="4716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075280" y="5580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40360" y="5580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0" name=""/>
              <p:cNvCxnSpPr>
                <a:stCxn id="246" idx="2"/>
                <a:endCxn id="248" idx="0"/>
              </p:cNvCxnSpPr>
              <p:nvPr/>
            </p:nvCxnSpPr>
            <p:spPr>
              <a:xfrm>
                <a:off x="5219280" y="500328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"/>
              <p:cNvCxnSpPr>
                <a:stCxn id="248" idx="3"/>
                <a:endCxn id="249" idx="1"/>
              </p:cNvCxnSpPr>
              <p:nvPr/>
            </p:nvCxnSpPr>
            <p:spPr>
              <a:xfrm>
                <a:off x="5362200" y="572400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"/>
              <p:cNvCxnSpPr>
                <a:stCxn id="249" idx="0"/>
                <a:endCxn id="247" idx="2"/>
              </p:cNvCxnSpPr>
              <p:nvPr/>
            </p:nvCxnSpPr>
            <p:spPr>
              <a:xfrm flipV="1">
                <a:off x="6084360" y="500292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"/>
              <p:cNvCxnSpPr>
                <a:stCxn id="247" idx="1"/>
                <a:endCxn id="246" idx="3"/>
              </p:cNvCxnSpPr>
              <p:nvPr/>
            </p:nvCxnSpPr>
            <p:spPr>
              <a:xfrm flipH="1">
                <a:off x="5361840" y="486036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4" name=""/>
              <p:cNvSpPr/>
              <p:nvPr/>
            </p:nvSpPr>
            <p:spPr>
              <a:xfrm>
                <a:off x="5435640" y="4356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00720" y="4356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35640" y="5219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00720" y="5219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4" idx="2"/>
                <a:endCxn id="256" idx="0"/>
              </p:cNvCxnSpPr>
              <p:nvPr/>
            </p:nvCxnSpPr>
            <p:spPr>
              <a:xfrm>
                <a:off x="5579640" y="464292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9" name=""/>
              <p:cNvCxnSpPr>
                <a:stCxn id="256" idx="3"/>
                <a:endCxn id="257" idx="1"/>
              </p:cNvCxnSpPr>
              <p:nvPr/>
            </p:nvCxnSpPr>
            <p:spPr>
              <a:xfrm>
                <a:off x="5722560" y="536364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0" name=""/>
              <p:cNvCxnSpPr>
                <a:stCxn id="257" idx="0"/>
                <a:endCxn id="255" idx="2"/>
              </p:cNvCxnSpPr>
              <p:nvPr/>
            </p:nvCxnSpPr>
            <p:spPr>
              <a:xfrm flipV="1">
                <a:off x="6444720" y="464256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1" name=""/>
              <p:cNvCxnSpPr>
                <a:stCxn id="255" idx="1"/>
                <a:endCxn id="254" idx="3"/>
              </p:cNvCxnSpPr>
              <p:nvPr/>
            </p:nvCxnSpPr>
            <p:spPr>
              <a:xfrm flipH="1">
                <a:off x="5722200" y="450000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2" name=""/>
              <p:cNvSpPr/>
              <p:nvPr/>
            </p:nvSpPr>
            <p:spPr>
              <a:xfrm flipV="1">
                <a:off x="5364000" y="464292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6227640" y="464292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227640" y="550872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364000" y="550872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091280" y="4356000"/>
              <a:ext cx="1512720" cy="1511280"/>
              <a:chOff x="7091280" y="4356000"/>
              <a:chExt cx="1512720" cy="1511280"/>
            </a:xfrm>
          </p:grpSpPr>
          <p:sp>
            <p:nvSpPr>
              <p:cNvPr id="267" name=""/>
              <p:cNvSpPr/>
              <p:nvPr/>
            </p:nvSpPr>
            <p:spPr>
              <a:xfrm>
                <a:off x="7091280" y="4716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56360" y="471636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91280" y="5580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56360" y="5580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1" name=""/>
              <p:cNvCxnSpPr>
                <a:stCxn id="267" idx="2"/>
                <a:endCxn id="269" idx="0"/>
              </p:cNvCxnSpPr>
              <p:nvPr/>
            </p:nvCxnSpPr>
            <p:spPr>
              <a:xfrm>
                <a:off x="7235280" y="500328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>
                <a:stCxn id="269" idx="3"/>
                <a:endCxn id="270" idx="1"/>
              </p:cNvCxnSpPr>
              <p:nvPr/>
            </p:nvCxnSpPr>
            <p:spPr>
              <a:xfrm>
                <a:off x="7378200" y="572400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3" name=""/>
              <p:cNvCxnSpPr>
                <a:stCxn id="270" idx="0"/>
                <a:endCxn id="268" idx="2"/>
              </p:cNvCxnSpPr>
              <p:nvPr/>
            </p:nvCxnSpPr>
            <p:spPr>
              <a:xfrm flipV="1">
                <a:off x="8100360" y="500292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4" name=""/>
              <p:cNvCxnSpPr>
                <a:stCxn id="268" idx="1"/>
                <a:endCxn id="267" idx="3"/>
              </p:cNvCxnSpPr>
              <p:nvPr/>
            </p:nvCxnSpPr>
            <p:spPr>
              <a:xfrm flipH="1">
                <a:off x="7377840" y="486036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75" name=""/>
              <p:cNvSpPr/>
              <p:nvPr/>
            </p:nvSpPr>
            <p:spPr>
              <a:xfrm>
                <a:off x="7451640" y="4356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6720" y="435600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1640" y="5219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16720" y="5219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9" name=""/>
              <p:cNvCxnSpPr>
                <a:stCxn id="275" idx="2"/>
                <a:endCxn id="277" idx="0"/>
              </p:cNvCxnSpPr>
              <p:nvPr/>
            </p:nvCxnSpPr>
            <p:spPr>
              <a:xfrm>
                <a:off x="7595640" y="464292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0" name=""/>
              <p:cNvCxnSpPr>
                <a:stCxn id="277" idx="3"/>
                <a:endCxn id="278" idx="1"/>
              </p:cNvCxnSpPr>
              <p:nvPr/>
            </p:nvCxnSpPr>
            <p:spPr>
              <a:xfrm>
                <a:off x="7738560" y="536364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1" name=""/>
              <p:cNvCxnSpPr>
                <a:stCxn id="278" idx="0"/>
                <a:endCxn id="276" idx="2"/>
              </p:cNvCxnSpPr>
              <p:nvPr/>
            </p:nvCxnSpPr>
            <p:spPr>
              <a:xfrm flipV="1">
                <a:off x="8460720" y="464256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2" name=""/>
              <p:cNvCxnSpPr>
                <a:stCxn id="276" idx="1"/>
                <a:endCxn id="275" idx="3"/>
              </p:cNvCxnSpPr>
              <p:nvPr/>
            </p:nvCxnSpPr>
            <p:spPr>
              <a:xfrm flipH="1">
                <a:off x="7738200" y="450000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3" name=""/>
              <p:cNvSpPr/>
              <p:nvPr/>
            </p:nvSpPr>
            <p:spPr>
              <a:xfrm flipV="1">
                <a:off x="7380000" y="464292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243640" y="464292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8243640" y="550872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7380000" y="5508720"/>
                <a:ext cx="7164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841280" y="2247840"/>
              <a:ext cx="2058480" cy="1821600"/>
              <a:chOff x="4841280" y="2247840"/>
              <a:chExt cx="2058480" cy="1821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075280" y="2771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40360" y="277164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75280" y="3635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40360" y="3635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2" name=""/>
              <p:cNvCxnSpPr>
                <a:stCxn id="288" idx="2"/>
                <a:endCxn id="290" idx="0"/>
              </p:cNvCxnSpPr>
              <p:nvPr/>
            </p:nvCxnSpPr>
            <p:spPr>
              <a:xfrm>
                <a:off x="5219280" y="305856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3" name=""/>
              <p:cNvCxnSpPr>
                <a:stCxn id="290" idx="3"/>
                <a:endCxn id="291" idx="1"/>
              </p:cNvCxnSpPr>
              <p:nvPr/>
            </p:nvCxnSpPr>
            <p:spPr>
              <a:xfrm>
                <a:off x="5362200" y="37792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4" name=""/>
              <p:cNvCxnSpPr>
                <a:stCxn id="291" idx="0"/>
                <a:endCxn id="289" idx="2"/>
              </p:cNvCxnSpPr>
              <p:nvPr/>
            </p:nvCxnSpPr>
            <p:spPr>
              <a:xfrm flipV="1">
                <a:off x="6084360" y="30582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89" idx="1"/>
                <a:endCxn id="288" idx="3"/>
              </p:cNvCxnSpPr>
              <p:nvPr/>
            </p:nvCxnSpPr>
            <p:spPr>
              <a:xfrm flipH="1">
                <a:off x="5361840" y="291564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5435640" y="2411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00720" y="241128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35640" y="3274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00720" y="3274920"/>
                <a:ext cx="2872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0" name=""/>
              <p:cNvCxnSpPr>
                <a:stCxn id="296" idx="2"/>
                <a:endCxn id="298" idx="0"/>
              </p:cNvCxnSpPr>
              <p:nvPr/>
            </p:nvCxnSpPr>
            <p:spPr>
              <a:xfrm>
                <a:off x="5579640" y="269820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"/>
              <p:cNvCxnSpPr>
                <a:stCxn id="298" idx="3"/>
                <a:endCxn id="299" idx="1"/>
              </p:cNvCxnSpPr>
              <p:nvPr/>
            </p:nvCxnSpPr>
            <p:spPr>
              <a:xfrm>
                <a:off x="5722560" y="341892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99" idx="0"/>
                <a:endCxn id="297" idx="2"/>
              </p:cNvCxnSpPr>
              <p:nvPr/>
            </p:nvCxnSpPr>
            <p:spPr>
              <a:xfrm flipV="1">
                <a:off x="6444720" y="2697840"/>
                <a:ext cx="1080" cy="57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97" idx="1"/>
                <a:endCxn id="296" idx="3"/>
              </p:cNvCxnSpPr>
              <p:nvPr/>
            </p:nvCxnSpPr>
            <p:spPr>
              <a:xfrm flipH="1">
                <a:off x="5722200" y="2555280"/>
                <a:ext cx="578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4" name=""/>
              <p:cNvSpPr/>
              <p:nvPr/>
            </p:nvSpPr>
            <p:spPr>
              <a:xfrm flipV="1">
                <a:off x="5364000" y="269820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227640" y="2698200"/>
                <a:ext cx="7128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6227640" y="3563280"/>
                <a:ext cx="7128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5364000" y="3563280"/>
                <a:ext cx="71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41280" y="346356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68240" y="383832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27160" y="313200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27160" y="226692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49120" y="224784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15880" y="259524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4720" y="312228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360" y="2595240"/>
                <a:ext cx="372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4799160" y="378000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7A3-AA48-4507-9A56-4506E89F2C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a su P-RAM E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i adoperano n process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99cc00"/>
                </a:solidFill>
                <a:latin typeface="Arial"/>
              </a:rPr>
              <a:t>Per semplicità assumiamo n potenza di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mma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g n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/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[ j ] = A[ j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 + A[ j+n/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[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a tecnica è detta della prima m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84720" y="270828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3800" y="270828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61080" y="270828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270828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37440" y="270828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6160" y="270828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13800" y="270828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01080" y="270828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26" idx="2"/>
            <a:endCxn id="328" idx="0"/>
          </p:cNvCxnSpPr>
          <p:nvPr/>
        </p:nvCxnSpPr>
        <p:spPr>
          <a:xfrm flipH="1">
            <a:off x="7093800" y="2997360"/>
            <a:ext cx="115164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29" name=""/>
          <p:cNvCxnSpPr>
            <a:stCxn id="325" idx="2"/>
            <a:endCxn id="330" idx="0"/>
          </p:cNvCxnSpPr>
          <p:nvPr/>
        </p:nvCxnSpPr>
        <p:spPr>
          <a:xfrm flipH="1">
            <a:off x="6806520" y="2997360"/>
            <a:ext cx="115164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31" name=""/>
          <p:cNvCxnSpPr>
            <a:stCxn id="324" idx="2"/>
            <a:endCxn id="332" idx="0"/>
          </p:cNvCxnSpPr>
          <p:nvPr/>
        </p:nvCxnSpPr>
        <p:spPr>
          <a:xfrm flipH="1">
            <a:off x="6519240" y="2997360"/>
            <a:ext cx="115164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33" name=""/>
          <p:cNvCxnSpPr>
            <a:stCxn id="323" idx="2"/>
            <a:endCxn id="334" idx="0"/>
          </p:cNvCxnSpPr>
          <p:nvPr/>
        </p:nvCxnSpPr>
        <p:spPr>
          <a:xfrm flipH="1">
            <a:off x="6230160" y="2997360"/>
            <a:ext cx="115164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sp>
        <p:nvSpPr>
          <p:cNvPr id="334" name=""/>
          <p:cNvSpPr/>
          <p:nvPr/>
        </p:nvSpPr>
        <p:spPr>
          <a:xfrm>
            <a:off x="6086520" y="335592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75240" y="335592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62880" y="335592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50160" y="335592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35592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7960" y="335592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15240" y="335592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02520" y="335592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28" idx="2"/>
            <a:endCxn id="340" idx="0"/>
          </p:cNvCxnSpPr>
          <p:nvPr/>
        </p:nvCxnSpPr>
        <p:spPr>
          <a:xfrm flipH="1">
            <a:off x="6519600" y="3644640"/>
            <a:ext cx="5752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41" name=""/>
          <p:cNvCxnSpPr>
            <a:stCxn id="330" idx="2"/>
            <a:endCxn id="342" idx="0"/>
          </p:cNvCxnSpPr>
          <p:nvPr/>
        </p:nvCxnSpPr>
        <p:spPr>
          <a:xfrm flipH="1">
            <a:off x="6230160" y="3644640"/>
            <a:ext cx="577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sp>
        <p:nvSpPr>
          <p:cNvPr id="342" name=""/>
          <p:cNvSpPr/>
          <p:nvPr/>
        </p:nvSpPr>
        <p:spPr>
          <a:xfrm>
            <a:off x="6086520" y="4005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75240" y="4005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62880" y="4005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50160" y="4005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4005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7960" y="4005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5240" y="4005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02520" y="4005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0" idx="2"/>
            <a:endCxn id="350" idx="0"/>
          </p:cNvCxnSpPr>
          <p:nvPr/>
        </p:nvCxnSpPr>
        <p:spPr>
          <a:xfrm flipH="1">
            <a:off x="6230520" y="4294080"/>
            <a:ext cx="289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sp>
        <p:nvSpPr>
          <p:cNvPr id="350" name=""/>
          <p:cNvSpPr/>
          <p:nvPr/>
        </p:nvSpPr>
        <p:spPr>
          <a:xfrm>
            <a:off x="6086520" y="458136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75240" y="4581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62880" y="458136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50160" y="458136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8880" y="4581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27960" y="458136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815240" y="4581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02520" y="4581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36000" y="2637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69000" y="3284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8172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19" idx="2"/>
            <a:endCxn id="334" idx="0"/>
          </p:cNvCxnSpPr>
          <p:nvPr/>
        </p:nvCxnSpPr>
        <p:spPr>
          <a:xfrm>
            <a:off x="6229440" y="299736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62" name=""/>
          <p:cNvCxnSpPr>
            <a:stCxn id="320" idx="2"/>
            <a:endCxn id="332" idx="0"/>
          </p:cNvCxnSpPr>
          <p:nvPr/>
        </p:nvCxnSpPr>
        <p:spPr>
          <a:xfrm>
            <a:off x="6517800" y="2997360"/>
            <a:ext cx="252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63" name=""/>
          <p:cNvCxnSpPr>
            <a:stCxn id="321" idx="2"/>
            <a:endCxn id="330" idx="0"/>
          </p:cNvCxnSpPr>
          <p:nvPr/>
        </p:nvCxnSpPr>
        <p:spPr>
          <a:xfrm>
            <a:off x="6805080" y="2997360"/>
            <a:ext cx="252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64" name=""/>
          <p:cNvCxnSpPr>
            <a:stCxn id="322" idx="2"/>
            <a:endCxn id="328" idx="0"/>
          </p:cNvCxnSpPr>
          <p:nvPr/>
        </p:nvCxnSpPr>
        <p:spPr>
          <a:xfrm>
            <a:off x="7093080" y="299736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65" name=""/>
          <p:cNvCxnSpPr>
            <a:stCxn id="334" idx="2"/>
            <a:endCxn id="342" idx="0"/>
          </p:cNvCxnSpPr>
          <p:nvPr/>
        </p:nvCxnSpPr>
        <p:spPr>
          <a:xfrm>
            <a:off x="623052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66" name=""/>
          <p:cNvCxnSpPr>
            <a:stCxn id="332" idx="2"/>
            <a:endCxn id="340" idx="0"/>
          </p:cNvCxnSpPr>
          <p:nvPr/>
        </p:nvCxnSpPr>
        <p:spPr>
          <a:xfrm>
            <a:off x="651960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cxnSp>
        <p:nvCxnSpPr>
          <p:cNvPr id="367" name=""/>
          <p:cNvCxnSpPr>
            <a:stCxn id="342" idx="2"/>
            <a:endCxn id="350" idx="0"/>
          </p:cNvCxnSpPr>
          <p:nvPr/>
        </p:nvCxnSpPr>
        <p:spPr>
          <a:xfrm>
            <a:off x="6230520" y="4294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3DE-216C-48AE-9D2B-04E514D0E2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a su albero bi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 n foglie e 2n-1 pro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nput alle foglie output alla ra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mma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n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* input alle fogli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log n -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j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3880"/>
                <a:tab algn="l" pos="719280"/>
                <a:tab algn="l" pos="1073160"/>
                <a:tab algn="l" pos="143676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794840" y="2638080"/>
            <a:ext cx="3943800" cy="2735280"/>
            <a:chOff x="4794840" y="2638080"/>
            <a:chExt cx="3943800" cy="2735280"/>
          </a:xfrm>
        </p:grpSpPr>
        <p:sp>
          <p:nvSpPr>
            <p:cNvPr id="371" name=""/>
            <p:cNvSpPr/>
            <p:nvPr/>
          </p:nvSpPr>
          <p:spPr>
            <a:xfrm>
              <a:off x="5510160" y="3646800"/>
              <a:ext cx="7174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21080" y="414972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84720" y="414972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38880" y="3645000"/>
              <a:ext cx="7174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1600" y="4148280"/>
              <a:ext cx="4287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13440" y="4148280"/>
              <a:ext cx="4320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00720" y="2997360"/>
              <a:ext cx="86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…+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8" name=""/>
            <p:cNvCxnSpPr>
              <a:stCxn id="377" idx="2"/>
              <a:endCxn id="371" idx="0"/>
            </p:cNvCxnSpPr>
            <p:nvPr/>
          </p:nvCxnSpPr>
          <p:spPr>
            <a:xfrm flipH="1">
              <a:off x="5868000" y="3286080"/>
              <a:ext cx="864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79" name=""/>
            <p:cNvCxnSpPr>
              <a:stCxn id="377" idx="2"/>
              <a:endCxn id="374" idx="0"/>
            </p:cNvCxnSpPr>
            <p:nvPr/>
          </p:nvCxnSpPr>
          <p:spPr>
            <a:xfrm>
              <a:off x="6732360" y="3286440"/>
              <a:ext cx="86616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80" name=""/>
            <p:cNvCxnSpPr>
              <a:stCxn id="371" idx="2"/>
              <a:endCxn id="372" idx="0"/>
            </p:cNvCxnSpPr>
            <p:nvPr/>
          </p:nvCxnSpPr>
          <p:spPr>
            <a:xfrm flipH="1">
              <a:off x="5436360" y="393516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81" name=""/>
            <p:cNvCxnSpPr>
              <a:stCxn id="371" idx="2"/>
              <a:endCxn id="373" idx="0"/>
            </p:cNvCxnSpPr>
            <p:nvPr/>
          </p:nvCxnSpPr>
          <p:spPr>
            <a:xfrm>
              <a:off x="5868720" y="393516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82" name=""/>
            <p:cNvCxnSpPr>
              <a:stCxn id="374" idx="2"/>
              <a:endCxn id="375" idx="0"/>
            </p:cNvCxnSpPr>
            <p:nvPr/>
          </p:nvCxnSpPr>
          <p:spPr>
            <a:xfrm flipH="1">
              <a:off x="7165440" y="3933720"/>
              <a:ext cx="4327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83" name=""/>
            <p:cNvCxnSpPr>
              <a:stCxn id="374" idx="2"/>
              <a:endCxn id="376" idx="0"/>
            </p:cNvCxnSpPr>
            <p:nvPr/>
          </p:nvCxnSpPr>
          <p:spPr>
            <a:xfrm>
              <a:off x="7597440" y="393372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84" name=""/>
            <p:cNvCxnSpPr>
              <a:stCxn id="372" idx="2"/>
              <a:endCxn id="385" idx="0"/>
            </p:cNvCxnSpPr>
            <p:nvPr/>
          </p:nvCxnSpPr>
          <p:spPr>
            <a:xfrm flipH="1">
              <a:off x="5220720" y="443880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86" name=""/>
            <p:cNvCxnSpPr>
              <a:stCxn id="372" idx="2"/>
              <a:endCxn id="387" idx="0"/>
            </p:cNvCxnSpPr>
            <p:nvPr/>
          </p:nvCxnSpPr>
          <p:spPr>
            <a:xfrm>
              <a:off x="5437080" y="443880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88" name=""/>
            <p:cNvCxnSpPr>
              <a:stCxn id="373" idx="2"/>
              <a:endCxn id="389" idx="0"/>
            </p:cNvCxnSpPr>
            <p:nvPr/>
          </p:nvCxnSpPr>
          <p:spPr>
            <a:xfrm flipH="1">
              <a:off x="6084360" y="443880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90" name=""/>
            <p:cNvCxnSpPr>
              <a:stCxn id="373" idx="2"/>
              <a:endCxn id="391" idx="0"/>
            </p:cNvCxnSpPr>
            <p:nvPr/>
          </p:nvCxnSpPr>
          <p:spPr>
            <a:xfrm>
              <a:off x="6300720" y="4438800"/>
              <a:ext cx="21672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92" name=""/>
            <p:cNvCxnSpPr>
              <a:stCxn id="375" idx="2"/>
              <a:endCxn id="393" idx="0"/>
            </p:cNvCxnSpPr>
            <p:nvPr/>
          </p:nvCxnSpPr>
          <p:spPr>
            <a:xfrm flipH="1">
              <a:off x="6948000" y="443736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94" name=""/>
            <p:cNvCxnSpPr>
              <a:stCxn id="375" idx="2"/>
              <a:endCxn id="395" idx="0"/>
            </p:cNvCxnSpPr>
            <p:nvPr/>
          </p:nvCxnSpPr>
          <p:spPr>
            <a:xfrm>
              <a:off x="7165800" y="4437360"/>
              <a:ext cx="2152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96" name=""/>
            <p:cNvCxnSpPr>
              <a:stCxn id="376" idx="2"/>
              <a:endCxn id="397" idx="0"/>
            </p:cNvCxnSpPr>
            <p:nvPr/>
          </p:nvCxnSpPr>
          <p:spPr>
            <a:xfrm flipH="1">
              <a:off x="7811640" y="443736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cxnSp>
          <p:nvCxnSpPr>
            <p:cNvPr id="398" name=""/>
            <p:cNvCxnSpPr>
              <a:stCxn id="376" idx="2"/>
              <a:endCxn id="399" idx="0"/>
            </p:cNvCxnSpPr>
            <p:nvPr/>
          </p:nvCxnSpPr>
          <p:spPr>
            <a:xfrm>
              <a:off x="8029080" y="443736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stealth" w="sm"/>
            </a:ln>
          </p:spPr>
        </p:cxnSp>
        <p:sp>
          <p:nvSpPr>
            <p:cNvPr id="385" name=""/>
            <p:cNvSpPr/>
            <p:nvPr/>
          </p:nvSpPr>
          <p:spPr>
            <a:xfrm>
              <a:off x="5076720" y="47260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08360" y="47260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0360" y="472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72000" y="47260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04000" y="472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5640" y="47260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67640" y="472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99280" y="4726080"/>
              <a:ext cx="289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21964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65308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08472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51672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4836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8180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81344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8245440" y="5013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26840" y="36468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8840" y="29973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39560" y="41497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4840" y="47260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03200" y="41497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46160" y="41497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09800" y="41497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20720" y="36468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58120" y="4726080"/>
              <a:ext cx="3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732360" y="263808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014-F0B9-4982-949F-8064CB6209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2-29T13:20:12Z</dcterms:modified>
  <cp:revision>224</cp:revision>
  <dc:subject/>
  <dc:title>Algoritmi Paralleli e Distribuiti</dc:title>
</cp:coreProperties>
</file>