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471C-5E3F-4046-9CAB-570E2A1F298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E1C-2996-4CEE-9EDE-B2909656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0D2-25EF-41B0-9948-8185A234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3DE-8E13-49F0-B5C8-CA74B941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CEC-3D63-4E2B-9C23-CE155F56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E419-74CB-4190-8F77-67615BA7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5DD4-68D1-447A-A7D1-B0B15C56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6F21-693A-4C6D-9DEF-57A1C721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81BD-E399-40D7-BF8D-3DEB118C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A0D7-FC98-441C-8E70-D8ED5DFD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6143-7766-4C3D-8EC9-19598708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C199-AAD0-4797-93BF-D81290C3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23E-5750-4D70-811B-7545E23F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07C1-7D08-46F4-972B-ABF870D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6A41-5966-46C3-B862-DD1B7453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07DC-99E6-4B45-BB63-BE3915AE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3465-BF53-43A6-9331-FCF1152C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77B9-F398-4EA6-925F-5EDEB5F2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DC9-55C3-42E6-999E-2B8BD704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CC3-AFDD-4CA1-A0FD-72F35565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164-0964-4A8C-AF72-83B8B129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C6A-00E6-4527-BD75-763B6967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B51-4A85-432B-AF44-ED08788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E81-707A-4D70-A4C8-AD100CAE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2B9-BEAC-4512-B98B-4241AFC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3E2A-6747-4475-9147-293AD9D6B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A196-C592-48A2-A8BD-B7D56C8A0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3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zione del 04/0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Visita in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visita inorder (FS,R,FD) è definita soltanto su alberi binari, ed è necessario poter distinguere tra figlio sinistro e figlio destro di ogni nodo. Nelle nostre strutture dati non abbiamo tale informazione quindi assumeremo che l’albero ha la proprietà 0/2 (ciascun nodo ha esattamente 0 o 2 fig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la numerazione inorder ciascuna foglia viene conteggiata in corrispondenza della sua unica occorrenza (left=right=1) nel CDE, mentre i nodi interni vengono conteggiati nell’occorrenza intermedia tra il primo ed il secondo figlio (left=right=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da quindi valore 1 a tutti gli archi tali che left=right e si eseguono le somme prefisse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order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= S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v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è l’arco in cu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stato conteggiato: left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right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A2D-4D7C-437B-AC49-74ED024B6E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2987640" y="5478480"/>
          <a:ext cx="3211560" cy="790560"/>
        </p:xfrm>
        <a:graphic>
          <a:graphicData uri="http://schemas.openxmlformats.org/drawingml/2006/table">
            <a:tbl>
              <a:tblPr/>
              <a:tblGrid>
                <a:gridCol w="1065240"/>
                <a:gridCol w="306360"/>
                <a:gridCol w="306360"/>
                <a:gridCol w="309600"/>
                <a:gridCol w="304560"/>
                <a:gridCol w="306360"/>
                <a:gridCol w="306360"/>
                <a:gridCol w="30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Esempio di visita in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514520" y="3340080"/>
          <a:ext cx="6180120" cy="1981080"/>
        </p:xfrm>
        <a:graphic>
          <a:graphicData uri="http://schemas.openxmlformats.org/drawingml/2006/table">
            <a:tbl>
              <a:tblPr/>
              <a:tblGrid>
                <a:gridCol w="776160"/>
                <a:gridCol w="449280"/>
                <a:gridCol w="449280"/>
                <a:gridCol w="453960"/>
                <a:gridCol w="449280"/>
                <a:gridCol w="450720"/>
                <a:gridCol w="449280"/>
                <a:gridCol w="449280"/>
                <a:gridCol w="453960"/>
                <a:gridCol w="451080"/>
                <a:gridCol w="449280"/>
                <a:gridCol w="449280"/>
                <a:gridCol w="44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,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,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3606840" y="1301760"/>
            <a:ext cx="1929960" cy="1871640"/>
            <a:chOff x="3606840" y="1301760"/>
            <a:chExt cx="1929960" cy="1871640"/>
          </a:xfrm>
        </p:grpSpPr>
        <p:sp>
          <p:nvSpPr>
            <p:cNvPr id="451" name=""/>
            <p:cNvSpPr/>
            <p:nvPr/>
          </p:nvSpPr>
          <p:spPr>
            <a:xfrm>
              <a:off x="4673520" y="1877760"/>
              <a:ext cx="35820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09760" y="130176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06840" y="180504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70240" y="2381040"/>
              <a:ext cx="35820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78240" y="238104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01880" y="281304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36800" y="281304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8" name=""/>
            <p:cNvCxnSpPr>
              <a:stCxn id="452" idx="5"/>
              <a:endCxn id="451" idx="1"/>
            </p:cNvCxnSpPr>
            <p:nvPr/>
          </p:nvCxnSpPr>
          <p:spPr>
            <a:xfrm>
              <a:off x="4415760" y="1609200"/>
              <a:ext cx="309960" cy="32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9" name=""/>
            <p:cNvCxnSpPr>
              <a:stCxn id="451" idx="3"/>
              <a:endCxn id="454" idx="7"/>
            </p:cNvCxnSpPr>
            <p:nvPr/>
          </p:nvCxnSpPr>
          <p:spPr>
            <a:xfrm flipH="1">
              <a:off x="4475880" y="2185920"/>
              <a:ext cx="249480" cy="24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0" name=""/>
            <p:cNvCxnSpPr>
              <a:stCxn id="451" idx="5"/>
              <a:endCxn id="455" idx="1"/>
            </p:cNvCxnSpPr>
            <p:nvPr/>
          </p:nvCxnSpPr>
          <p:spPr>
            <a:xfrm>
              <a:off x="4979520" y="2185920"/>
              <a:ext cx="250920" cy="24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1" name=""/>
            <p:cNvCxnSpPr>
              <a:stCxn id="453" idx="7"/>
              <a:endCxn id="452" idx="3"/>
            </p:cNvCxnSpPr>
            <p:nvPr/>
          </p:nvCxnSpPr>
          <p:spPr>
            <a:xfrm flipV="1">
              <a:off x="3912840" y="1609200"/>
              <a:ext cx="249840" cy="24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2" name=""/>
            <p:cNvCxnSpPr>
              <a:stCxn id="454" idx="3"/>
              <a:endCxn id="457" idx="7"/>
            </p:cNvCxnSpPr>
            <p:nvPr/>
          </p:nvCxnSpPr>
          <p:spPr>
            <a:xfrm flipH="1">
              <a:off x="4042440" y="2688840"/>
              <a:ext cx="179640" cy="17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3" name=""/>
            <p:cNvCxnSpPr>
              <a:stCxn id="454" idx="5"/>
              <a:endCxn id="456" idx="1"/>
            </p:cNvCxnSpPr>
            <p:nvPr/>
          </p:nvCxnSpPr>
          <p:spPr>
            <a:xfrm>
              <a:off x="4476240" y="2688840"/>
              <a:ext cx="178200" cy="17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1C9-FDAE-44CD-A2DB-1ED03FFB94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ctr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computazione del minimo antecedente comune (lca) di ogni nodo si basa sulle seguenti osservazioni*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355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ctr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antecedente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se lef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&lt; lef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&lt; righ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355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ctr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v sono confrontabili (nessuno è antecedente dell’altro) ss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gh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&lt; lef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 oppure  righ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&lt; lef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355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ctr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ono confrontabili, lca(u,v) è il vertice di livello più basso compreso tra righ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e lef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ctr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ctr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611280" y="4341960"/>
          <a:ext cx="7983360" cy="1581120"/>
        </p:xfrm>
        <a:graphic>
          <a:graphicData uri="http://schemas.openxmlformats.org/drawingml/2006/table">
            <a:tbl>
              <a:tblPr/>
              <a:tblGrid>
                <a:gridCol w="776160"/>
                <a:gridCol w="449280"/>
                <a:gridCol w="449280"/>
                <a:gridCol w="453960"/>
                <a:gridCol w="449280"/>
                <a:gridCol w="450720"/>
                <a:gridCol w="449280"/>
                <a:gridCol w="449280"/>
                <a:gridCol w="454320"/>
                <a:gridCol w="450720"/>
                <a:gridCol w="449280"/>
                <a:gridCol w="449280"/>
                <a:gridCol w="449280"/>
                <a:gridCol w="449280"/>
                <a:gridCol w="455400"/>
                <a:gridCol w="449280"/>
                <a:gridCol w="44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,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,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,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7" name=""/>
          <p:cNvGrpSpPr/>
          <p:nvPr/>
        </p:nvGrpSpPr>
        <p:grpSpPr>
          <a:xfrm>
            <a:off x="468360" y="3867120"/>
            <a:ext cx="8289720" cy="2198880"/>
            <a:chOff x="468360" y="3867120"/>
            <a:chExt cx="8289720" cy="2198880"/>
          </a:xfrm>
        </p:grpSpPr>
        <p:sp>
          <p:nvSpPr>
            <p:cNvPr id="468" name=""/>
            <p:cNvSpPr/>
            <p:nvPr/>
          </p:nvSpPr>
          <p:spPr>
            <a:xfrm>
              <a:off x="4140360" y="4338720"/>
              <a:ext cx="360360" cy="358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97560" y="4349880"/>
              <a:ext cx="360720" cy="358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0" name=""/>
            <p:cNvCxnSpPr>
              <a:stCxn id="468" idx="0"/>
              <a:endCxn id="469" idx="0"/>
            </p:cNvCxnSpPr>
            <p:nvPr/>
          </p:nvCxnSpPr>
          <p:spPr>
            <a:xfrm flipH="1" rot="16200000">
              <a:off x="5893920" y="2750040"/>
              <a:ext cx="11880" cy="3158280"/>
            </a:xfrm>
            <a:prstGeom prst="bentConnector3">
              <a:avLst>
                <a:gd name="adj1" fmla="val -1212500"/>
              </a:avLst>
            </a:prstGeom>
            <a:ln w="28440">
              <a:solidFill>
                <a:srgbClr val="ff0000"/>
              </a:solidFill>
              <a:miter/>
            </a:ln>
          </p:spPr>
        </p:cxnSp>
        <p:sp>
          <p:nvSpPr>
            <p:cNvPr id="471" name=""/>
            <p:cNvSpPr/>
            <p:nvPr/>
          </p:nvSpPr>
          <p:spPr>
            <a:xfrm>
              <a:off x="468360" y="4194360"/>
              <a:ext cx="3610080" cy="187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05800" y="4194360"/>
              <a:ext cx="1052280" cy="187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70080" y="3870360"/>
              <a:ext cx="116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Times New Roman"/>
                </a:rPr>
                <a:t>lca(</a:t>
              </a:r>
              <a:r>
                <a:rPr b="0" i="1" lang="it-IT" sz="2000" spc="-1" strike="noStrike">
                  <a:solidFill>
                    <a:srgbClr val="ff0000"/>
                  </a:solidFill>
                  <a:latin typeface="Times New Roman"/>
                </a:rPr>
                <a:t>a,f</a:t>
              </a:r>
              <a:r>
                <a:rPr b="0" lang="it-IT" sz="2000" spc="-1" strike="noStrike">
                  <a:solidFill>
                    <a:srgbClr val="ff0000"/>
                  </a:solidFill>
                  <a:latin typeface="Times New Roman"/>
                </a:rPr>
                <a:t>)=</a:t>
              </a:r>
              <a:r>
                <a:rPr b="0" i="1" lang="it-IT" sz="2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37480" y="4388040"/>
              <a:ext cx="360360" cy="696960"/>
            </a:xfrm>
            <a:custGeom>
              <a:avLst/>
              <a:gdLst>
                <a:gd name="textAreaLeft" fmla="*/ 33840 w 360360"/>
                <a:gd name="textAreaRight" fmla="*/ 326520 w 360360"/>
                <a:gd name="textAreaTop" fmla="*/ 33840 h 696960"/>
                <a:gd name="textAreaBottom" fmla="*/ 663120 h 696960"/>
              </a:gdLst>
              <a:ahLst/>
              <a:rect l="textAreaLeft" t="textAreaTop" r="textAreaRight" b="textAreaBottom"/>
              <a:pathLst>
                <a:path w="21600" h="41756">
                  <a:moveTo>
                    <a:pt x="6946" y="0"/>
                  </a:moveTo>
                  <a:arcTo wR="6946" hR="6946" stAng="16200000" swAng="-5400000"/>
                  <a:lnTo>
                    <a:pt x="0" y="34810"/>
                  </a:lnTo>
                  <a:arcTo wR="6946" hR="6946" stAng="10800000" swAng="-5400000"/>
                  <a:lnTo>
                    <a:pt x="14654" y="41756"/>
                  </a:lnTo>
                  <a:arcTo wR="6946" hR="6946" stAng="5400000" swAng="-5400000"/>
                  <a:lnTo>
                    <a:pt x="21600" y="6946"/>
                  </a:lnTo>
                  <a:arcTo wR="6946" hR="6946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29200" y="5153040"/>
              <a:ext cx="360360" cy="358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86760" y="5540400"/>
              <a:ext cx="360360" cy="358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31800" y="3873600"/>
              <a:ext cx="6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Times New Roman"/>
                </a:rPr>
                <a:t>left(</a:t>
              </a:r>
              <a:r>
                <a:rPr b="0" i="1" lang="it-IT" sz="1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it-IT" sz="1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25600" y="386712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Times New Roman"/>
                </a:rPr>
                <a:t>right(</a:t>
              </a:r>
              <a:r>
                <a:rPr b="0" i="1" lang="it-IT" sz="1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it-IT" sz="1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520-5E4D-49A2-AAAB-1D7E45CCD4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Esercizi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vere il codice per PRAM EREW per radicare un albero, come visto nella lezione precedente, utilizzando il TDE come definito in questa le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515-DED9-4A5A-B706-96302B69AA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rcizi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vere un algoritmo per PRAM EREW per trasformare un albero rappresentato tramite liste di adiacenza in un albero rappresentato tramite elenco di arc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636-0DFD-4107-A9A5-95AF15C10A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costruire il T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bbiamo definito un TDE come una funzione che, per ogni arco identifica il successore nel to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DE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nex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ve nex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identifica il nodo che segu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ra gli adiacenti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ogliamo ora calcolare su una PRAM-EREW il TDE: a partire da un albero (rappresentato come elenco di archi), si vuole una struttura che permetta di identificare efficientemente il successore di ogni arco nel 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tilizziamo delle liste di adiacenza cicliche con un informazione addizionale: per ogni arco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manteniamo un puntatore all’arco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,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questo modo, dato l’arco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(nella lista di adiacenza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, si potrà facilmente accedere all’arco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,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e quindi al suo successore nella lista di adiacenza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333-D546-49B7-83AB-1235B2CB5E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ttura dati per il T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1280" y="1557360"/>
            <a:ext cx="7692480" cy="4644360"/>
            <a:chOff x="611280" y="1557360"/>
            <a:chExt cx="7692480" cy="4644360"/>
          </a:xfrm>
        </p:grpSpPr>
        <p:sp>
          <p:nvSpPr>
            <p:cNvPr id="97" name=""/>
            <p:cNvSpPr/>
            <p:nvPr/>
          </p:nvSpPr>
          <p:spPr>
            <a:xfrm>
              <a:off x="2376360" y="387972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3887640" y="2061360"/>
              <a:ext cx="4416120" cy="3602160"/>
              <a:chOff x="3887640" y="2061360"/>
              <a:chExt cx="4416120" cy="360216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3887640" y="2061360"/>
                <a:ext cx="4416120" cy="3602160"/>
                <a:chOff x="3887640" y="2061360"/>
                <a:chExt cx="4416120" cy="360216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4535280" y="2190600"/>
                  <a:ext cx="650880" cy="216000"/>
                  <a:chOff x="4535280" y="2190600"/>
                  <a:chExt cx="650880" cy="21600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4535280" y="2190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752720" y="2190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968720" y="2190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4535280" y="2585880"/>
                  <a:ext cx="650880" cy="216000"/>
                  <a:chOff x="4535280" y="2585880"/>
                  <a:chExt cx="650880" cy="216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4535280" y="258588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4752720" y="258588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968720" y="258588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4535280" y="2982600"/>
                  <a:ext cx="650880" cy="216000"/>
                  <a:chOff x="4535280" y="2982600"/>
                  <a:chExt cx="650880" cy="2160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453528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475272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496872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4535280" y="3377880"/>
                  <a:ext cx="650880" cy="216000"/>
                  <a:chOff x="4535280" y="3377880"/>
                  <a:chExt cx="650880" cy="21600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4535280" y="337788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752720" y="337788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968720" y="337788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4535280" y="3774960"/>
                  <a:ext cx="650880" cy="216000"/>
                  <a:chOff x="4535280" y="3774960"/>
                  <a:chExt cx="650880" cy="2160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4535280" y="377496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752720" y="377496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968720" y="377496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4535280" y="4170240"/>
                  <a:ext cx="650880" cy="216000"/>
                  <a:chOff x="4535280" y="4170240"/>
                  <a:chExt cx="650880" cy="2160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4535280" y="417024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752720" y="417024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968720" y="417024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4535280" y="4566960"/>
                  <a:ext cx="650880" cy="216000"/>
                  <a:chOff x="4535280" y="4566960"/>
                  <a:chExt cx="650880" cy="2160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4535280" y="456696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752720" y="456696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968720" y="456696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4535280" y="4962240"/>
                  <a:ext cx="650880" cy="216000"/>
                  <a:chOff x="4535280" y="4962240"/>
                  <a:chExt cx="650880" cy="2160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4535280" y="496224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752720" y="496224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968720" y="496224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4535280" y="5359320"/>
                  <a:ext cx="650880" cy="216000"/>
                  <a:chOff x="4535280" y="5359320"/>
                  <a:chExt cx="650880" cy="21600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535280" y="535932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752720" y="535932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968720" y="535932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3887640" y="2097000"/>
                  <a:ext cx="288720" cy="3566520"/>
                  <a:chOff x="3887640" y="2097000"/>
                  <a:chExt cx="288720" cy="35665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3887640" y="2097000"/>
                    <a:ext cx="288720" cy="3974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887640" y="2494440"/>
                    <a:ext cx="288720" cy="3967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887640" y="2889360"/>
                    <a:ext cx="288720" cy="3967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887640" y="3286080"/>
                    <a:ext cx="288720" cy="3974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3887640" y="3681720"/>
                    <a:ext cx="288720" cy="3967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3887640" y="4078800"/>
                    <a:ext cx="288720" cy="3974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3887640" y="4473720"/>
                    <a:ext cx="288720" cy="3974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887640" y="4871160"/>
                    <a:ext cx="288720" cy="3967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3887640" y="5266080"/>
                    <a:ext cx="288720" cy="3974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541840" y="2190600"/>
                  <a:ext cx="650880" cy="216000"/>
                  <a:chOff x="5541840" y="2190600"/>
                  <a:chExt cx="650880" cy="2160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5541840" y="2190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759280" y="2190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975280" y="2190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50" name=""/>
                <p:cNvCxnSpPr>
                  <a:stCxn id="137" idx="3"/>
                  <a:endCxn id="101" idx="1"/>
                </p:cNvCxnSpPr>
                <p:nvPr/>
              </p:nvCxnSpPr>
              <p:spPr>
                <a:xfrm>
                  <a:off x="4176720" y="2295000"/>
                  <a:ext cx="358920" cy="3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" name=""/>
                <p:cNvCxnSpPr>
                  <a:stCxn id="103" idx="3"/>
                  <a:endCxn id="147" idx="1"/>
                </p:cNvCxnSpPr>
                <p:nvPr/>
              </p:nvCxnSpPr>
              <p:spPr>
                <a:xfrm>
                  <a:off x="5186160" y="2298240"/>
                  <a:ext cx="3564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"/>
                <p:cNvCxnSpPr>
                  <a:stCxn id="149" idx="3"/>
                  <a:endCxn id="101" idx="0"/>
                </p:cNvCxnSpPr>
                <p:nvPr/>
              </p:nvCxnSpPr>
              <p:spPr>
                <a:xfrm flipH="1" flipV="1">
                  <a:off x="4644360" y="2190240"/>
                  <a:ext cx="1548720" cy="108720"/>
                </a:xfrm>
                <a:prstGeom prst="bentConnector4">
                  <a:avLst>
                    <a:gd name="adj1" fmla="val -8300"/>
                    <a:gd name="adj2" fmla="val 218936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3" name=""/>
                <p:cNvCxnSpPr>
                  <a:stCxn id="107" idx="3"/>
                  <a:endCxn id="105" idx="0"/>
                </p:cNvCxnSpPr>
                <p:nvPr/>
              </p:nvCxnSpPr>
              <p:spPr>
                <a:xfrm flipH="1" flipV="1">
                  <a:off x="4644360" y="2585520"/>
                  <a:ext cx="542160" cy="108720"/>
                </a:xfrm>
                <a:prstGeom prst="bentConnector4">
                  <a:avLst>
                    <a:gd name="adj1" fmla="val -21063"/>
                    <a:gd name="adj2" fmla="val 208637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4" name=""/>
                <p:cNvCxnSpPr>
                  <a:stCxn id="138" idx="3"/>
                  <a:endCxn id="105" idx="1"/>
                </p:cNvCxnSpPr>
                <p:nvPr/>
              </p:nvCxnSpPr>
              <p:spPr>
                <a:xfrm>
                  <a:off x="4176720" y="2693520"/>
                  <a:ext cx="358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5" name=""/>
                <p:cNvCxnSpPr>
                  <a:stCxn id="139" idx="3"/>
                  <a:endCxn id="109" idx="1"/>
                </p:cNvCxnSpPr>
                <p:nvPr/>
              </p:nvCxnSpPr>
              <p:spPr>
                <a:xfrm>
                  <a:off x="4176720" y="3087720"/>
                  <a:ext cx="358920" cy="3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6" name=""/>
                <p:cNvCxnSpPr>
                  <a:stCxn id="140" idx="3"/>
                  <a:endCxn id="113" idx="1"/>
                </p:cNvCxnSpPr>
                <p:nvPr/>
              </p:nvCxnSpPr>
              <p:spPr>
                <a:xfrm>
                  <a:off x="4176720" y="3485520"/>
                  <a:ext cx="358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7" name=""/>
                <p:cNvCxnSpPr>
                  <a:stCxn id="141" idx="3"/>
                  <a:endCxn id="117" idx="1"/>
                </p:cNvCxnSpPr>
                <p:nvPr/>
              </p:nvCxnSpPr>
              <p:spPr>
                <a:xfrm>
                  <a:off x="4176720" y="3880800"/>
                  <a:ext cx="358920" cy="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8" name=""/>
                <p:cNvCxnSpPr>
                  <a:stCxn id="142" idx="3"/>
                  <a:endCxn id="121" idx="1"/>
                </p:cNvCxnSpPr>
                <p:nvPr/>
              </p:nvCxnSpPr>
              <p:spPr>
                <a:xfrm>
                  <a:off x="4176720" y="4277880"/>
                  <a:ext cx="358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9" name=""/>
                <p:cNvCxnSpPr>
                  <a:stCxn id="143" idx="3"/>
                  <a:endCxn id="125" idx="1"/>
                </p:cNvCxnSpPr>
                <p:nvPr/>
              </p:nvCxnSpPr>
              <p:spPr>
                <a:xfrm>
                  <a:off x="4176720" y="4673520"/>
                  <a:ext cx="358920" cy="2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0" name=""/>
                <p:cNvCxnSpPr>
                  <a:stCxn id="144" idx="3"/>
                  <a:endCxn id="129" idx="1"/>
                </p:cNvCxnSpPr>
                <p:nvPr/>
              </p:nvCxnSpPr>
              <p:spPr>
                <a:xfrm>
                  <a:off x="4176720" y="5069880"/>
                  <a:ext cx="358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1" name=""/>
                <p:cNvCxnSpPr>
                  <a:stCxn id="145" idx="3"/>
                  <a:endCxn id="133" idx="1"/>
                </p:cNvCxnSpPr>
                <p:nvPr/>
              </p:nvCxnSpPr>
              <p:spPr>
                <a:xfrm>
                  <a:off x="4176720" y="5465160"/>
                  <a:ext cx="358920" cy="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62" name=""/>
                <p:cNvGrpSpPr/>
                <p:nvPr/>
              </p:nvGrpSpPr>
              <p:grpSpPr>
                <a:xfrm>
                  <a:off x="5541840" y="2982600"/>
                  <a:ext cx="650880" cy="216000"/>
                  <a:chOff x="5541840" y="2982600"/>
                  <a:chExt cx="650880" cy="216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554184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75928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97528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553080" y="2982600"/>
                  <a:ext cx="650880" cy="216000"/>
                  <a:chOff x="6553080" y="2982600"/>
                  <a:chExt cx="650880" cy="2160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655308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77052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698652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7557840" y="2982600"/>
                  <a:ext cx="650880" cy="216000"/>
                  <a:chOff x="7557840" y="2982600"/>
                  <a:chExt cx="650880" cy="21600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755784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77528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7991280" y="298260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5541840" y="4965480"/>
                  <a:ext cx="650880" cy="216000"/>
                  <a:chOff x="5541840" y="4965480"/>
                  <a:chExt cx="650880" cy="2160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5541840" y="496548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5759280" y="496548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975280" y="496548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541840" y="5352840"/>
                  <a:ext cx="650880" cy="216000"/>
                  <a:chOff x="5541840" y="5352840"/>
                  <a:chExt cx="650880" cy="2160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541840" y="535284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759280" y="535284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75280" y="535284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553080" y="5348160"/>
                  <a:ext cx="650880" cy="216000"/>
                  <a:chOff x="6553080" y="5348160"/>
                  <a:chExt cx="650880" cy="2160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6553080" y="534816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770520" y="534816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986520" y="5348160"/>
                    <a:ext cx="217440" cy="216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86" name=""/>
                <p:cNvCxnSpPr>
                  <a:stCxn id="135" idx="3"/>
                  <a:endCxn id="179" idx="1"/>
                </p:cNvCxnSpPr>
                <p:nvPr/>
              </p:nvCxnSpPr>
              <p:spPr>
                <a:xfrm flipV="1">
                  <a:off x="5186160" y="5460480"/>
                  <a:ext cx="356400" cy="7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87" name=""/>
                <p:cNvCxnSpPr>
                  <a:stCxn id="181" idx="3"/>
                  <a:endCxn id="183" idx="1"/>
                </p:cNvCxnSpPr>
                <p:nvPr/>
              </p:nvCxnSpPr>
              <p:spPr>
                <a:xfrm flipV="1">
                  <a:off x="6192360" y="5455440"/>
                  <a:ext cx="361080" cy="5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88" name=""/>
                <p:cNvCxnSpPr>
                  <a:stCxn id="111" idx="3"/>
                  <a:endCxn id="163" idx="1"/>
                </p:cNvCxnSpPr>
                <p:nvPr/>
              </p:nvCxnSpPr>
              <p:spPr>
                <a:xfrm>
                  <a:off x="5186160" y="3090240"/>
                  <a:ext cx="3564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89" name=""/>
                <p:cNvCxnSpPr>
                  <a:stCxn id="165" idx="3"/>
                  <a:endCxn id="167" idx="1"/>
                </p:cNvCxnSpPr>
                <p:nvPr/>
              </p:nvCxnSpPr>
              <p:spPr>
                <a:xfrm>
                  <a:off x="6192360" y="3090240"/>
                  <a:ext cx="361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0" name=""/>
                <p:cNvCxnSpPr>
                  <a:stCxn id="169" idx="3"/>
                  <a:endCxn id="171" idx="1"/>
                </p:cNvCxnSpPr>
                <p:nvPr/>
              </p:nvCxnSpPr>
              <p:spPr>
                <a:xfrm>
                  <a:off x="7203600" y="3090240"/>
                  <a:ext cx="354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1" name=""/>
                <p:cNvCxnSpPr>
                  <a:stCxn id="173" idx="3"/>
                  <a:endCxn id="109" idx="0"/>
                </p:cNvCxnSpPr>
                <p:nvPr/>
              </p:nvCxnSpPr>
              <p:spPr>
                <a:xfrm flipH="1" flipV="1">
                  <a:off x="4644360" y="2982240"/>
                  <a:ext cx="3564720" cy="108720"/>
                </a:xfrm>
                <a:prstGeom prst="bentConnector4">
                  <a:avLst>
                    <a:gd name="adj1" fmla="val -2666"/>
                    <a:gd name="adj2" fmla="val 229235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2" name=""/>
                <p:cNvCxnSpPr>
                  <a:stCxn id="115" idx="3"/>
                  <a:endCxn id="113" idx="0"/>
                </p:cNvCxnSpPr>
                <p:nvPr/>
              </p:nvCxnSpPr>
              <p:spPr>
                <a:xfrm flipH="1" flipV="1">
                  <a:off x="4644360" y="3377520"/>
                  <a:ext cx="542160" cy="108720"/>
                </a:xfrm>
                <a:prstGeom prst="bentConnector4">
                  <a:avLst>
                    <a:gd name="adj1" fmla="val -21063"/>
                    <a:gd name="adj2" fmla="val 20730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3" name=""/>
                <p:cNvCxnSpPr>
                  <a:stCxn id="119" idx="3"/>
                  <a:endCxn id="117" idx="0"/>
                </p:cNvCxnSpPr>
                <p:nvPr/>
              </p:nvCxnSpPr>
              <p:spPr>
                <a:xfrm flipH="1" flipV="1">
                  <a:off x="4644360" y="3774600"/>
                  <a:ext cx="542160" cy="108720"/>
                </a:xfrm>
                <a:prstGeom prst="bentConnector4">
                  <a:avLst>
                    <a:gd name="adj1" fmla="val -21063"/>
                    <a:gd name="adj2" fmla="val 218936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4" name=""/>
                <p:cNvCxnSpPr>
                  <a:stCxn id="123" idx="3"/>
                  <a:endCxn id="121" idx="0"/>
                </p:cNvCxnSpPr>
                <p:nvPr/>
              </p:nvCxnSpPr>
              <p:spPr>
                <a:xfrm flipH="1" flipV="1">
                  <a:off x="4644360" y="4169880"/>
                  <a:ext cx="542160" cy="108720"/>
                </a:xfrm>
                <a:prstGeom prst="bentConnector4">
                  <a:avLst>
                    <a:gd name="adj1" fmla="val -19003"/>
                    <a:gd name="adj2" fmla="val 229235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5" name=""/>
                <p:cNvCxnSpPr>
                  <a:stCxn id="127" idx="3"/>
                  <a:endCxn id="125" idx="0"/>
                </p:cNvCxnSpPr>
                <p:nvPr/>
              </p:nvCxnSpPr>
              <p:spPr>
                <a:xfrm flipH="1" flipV="1">
                  <a:off x="4644360" y="4566600"/>
                  <a:ext cx="542160" cy="108720"/>
                </a:xfrm>
                <a:prstGeom prst="bentConnector4">
                  <a:avLst>
                    <a:gd name="adj1" fmla="val -21063"/>
                    <a:gd name="adj2" fmla="val 229235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6" name=""/>
                <p:cNvCxnSpPr>
                  <a:stCxn id="177" idx="3"/>
                  <a:endCxn id="129" idx="0"/>
                </p:cNvCxnSpPr>
                <p:nvPr/>
              </p:nvCxnSpPr>
              <p:spPr>
                <a:xfrm flipH="1" flipV="1">
                  <a:off x="4644360" y="4961520"/>
                  <a:ext cx="1548720" cy="111960"/>
                </a:xfrm>
                <a:prstGeom prst="bentConnector4">
                  <a:avLst>
                    <a:gd name="adj1" fmla="val -6765"/>
                    <a:gd name="adj2" fmla="val 215483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7" name=""/>
                <p:cNvCxnSpPr>
                  <a:stCxn id="185" idx="3"/>
                  <a:endCxn id="133" idx="0"/>
                </p:cNvCxnSpPr>
                <p:nvPr/>
              </p:nvCxnSpPr>
              <p:spPr>
                <a:xfrm flipH="1" flipV="1">
                  <a:off x="4644000" y="5358600"/>
                  <a:ext cx="2559960" cy="97560"/>
                </a:xfrm>
                <a:prstGeom prst="bentConnector4">
                  <a:avLst>
                    <a:gd name="adj1" fmla="val -4458"/>
                    <a:gd name="adj2" fmla="val 24407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8" name=""/>
                <p:cNvCxnSpPr>
                  <a:stCxn id="131" idx="3"/>
                  <a:endCxn id="175" idx="1"/>
                </p:cNvCxnSpPr>
                <p:nvPr/>
              </p:nvCxnSpPr>
              <p:spPr>
                <a:xfrm>
                  <a:off x="5186160" y="5069880"/>
                  <a:ext cx="356400" cy="3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99" name=""/>
              <p:cNvSpPr/>
              <p:nvPr/>
            </p:nvSpPr>
            <p:spPr>
              <a:xfrm>
                <a:off x="4860720" y="4367160"/>
                <a:ext cx="2454480" cy="1085760"/>
              </a:xfrm>
              <a:custGeom>
                <a:avLst/>
                <a:gdLst/>
                <a:ahLst/>
                <a:rect l="l" t="t" r="r" b="b"/>
                <a:pathLst>
                  <a:path w="1546" h="684">
                    <a:moveTo>
                      <a:pt x="0" y="176"/>
                    </a:moveTo>
                    <a:cubicBezTo>
                      <a:pt x="1546" y="0"/>
                      <a:pt x="844" y="656"/>
                      <a:pt x="612" y="68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38400" y="2269800"/>
                <a:ext cx="777960" cy="1227240"/>
              </a:xfrm>
              <a:custGeom>
                <a:avLst/>
                <a:gdLst/>
                <a:ahLst/>
                <a:rect l="l" t="t" r="r" b="b"/>
                <a:pathLst>
                  <a:path w="490" h="773">
                    <a:moveTo>
                      <a:pt x="7" y="0"/>
                    </a:moveTo>
                    <a:cubicBezTo>
                      <a:pt x="320" y="0"/>
                      <a:pt x="490" y="745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49560" y="2313000"/>
                <a:ext cx="2230560" cy="3168360"/>
              </a:xfrm>
              <a:custGeom>
                <a:avLst/>
                <a:gdLst/>
                <a:ahLst/>
                <a:rect l="l" t="t" r="r" b="b"/>
                <a:pathLst>
                  <a:path w="1405" h="1996">
                    <a:moveTo>
                      <a:pt x="654" y="0"/>
                    </a:moveTo>
                    <a:cubicBezTo>
                      <a:pt x="1405" y="486"/>
                      <a:pt x="457" y="1807"/>
                      <a:pt x="0" y="199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38400" y="2692080"/>
                <a:ext cx="193680" cy="401760"/>
              </a:xfrm>
              <a:custGeom>
                <a:avLst/>
                <a:gdLst/>
                <a:ahLst/>
                <a:rect l="l" t="t" r="r" b="b"/>
                <a:pathLst>
                  <a:path w="122" h="253">
                    <a:moveTo>
                      <a:pt x="0" y="0"/>
                    </a:moveTo>
                    <a:cubicBezTo>
                      <a:pt x="122" y="77"/>
                      <a:pt x="99" y="211"/>
                      <a:pt x="0" y="25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71880" y="3897000"/>
                <a:ext cx="345960" cy="1173240"/>
              </a:xfrm>
              <a:custGeom>
                <a:avLst/>
                <a:gdLst/>
                <a:ahLst/>
                <a:rect l="l" t="t" r="r" b="b"/>
                <a:pathLst>
                  <a:path w="218" h="739">
                    <a:moveTo>
                      <a:pt x="5" y="0"/>
                    </a:moveTo>
                    <a:cubicBezTo>
                      <a:pt x="218" y="134"/>
                      <a:pt x="211" y="591"/>
                      <a:pt x="0" y="739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49560" y="3105000"/>
                <a:ext cx="2185920" cy="1173240"/>
              </a:xfrm>
              <a:custGeom>
                <a:avLst/>
                <a:gdLst/>
                <a:ahLst/>
                <a:rect l="l" t="t" r="r" b="b"/>
                <a:pathLst>
                  <a:path w="1377" h="739">
                    <a:moveTo>
                      <a:pt x="1289" y="0"/>
                    </a:moveTo>
                    <a:cubicBezTo>
                      <a:pt x="1377" y="212"/>
                      <a:pt x="330" y="430"/>
                      <a:pt x="0" y="739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87800" y="3105000"/>
                <a:ext cx="992160" cy="2354400"/>
              </a:xfrm>
              <a:custGeom>
                <a:avLst/>
                <a:gdLst/>
                <a:ahLst/>
                <a:rect l="l" t="t" r="r" b="b"/>
                <a:pathLst>
                  <a:path w="625" h="1483">
                    <a:moveTo>
                      <a:pt x="0" y="0"/>
                    </a:moveTo>
                    <a:cubicBezTo>
                      <a:pt x="28" y="156"/>
                      <a:pt x="442" y="1076"/>
                      <a:pt x="625" y="148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65840" y="3105000"/>
                <a:ext cx="2152440" cy="1965240"/>
              </a:xfrm>
              <a:custGeom>
                <a:avLst/>
                <a:gdLst/>
                <a:ahLst/>
                <a:rect l="l" t="t" r="r" b="b"/>
                <a:pathLst>
                  <a:path w="1356" h="1238">
                    <a:moveTo>
                      <a:pt x="1268" y="0"/>
                    </a:moveTo>
                    <a:cubicBezTo>
                      <a:pt x="1356" y="212"/>
                      <a:pt x="330" y="929"/>
                      <a:pt x="0" y="12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11280" y="1557360"/>
              <a:ext cx="1295280" cy="4644360"/>
              <a:chOff x="611280" y="1557360"/>
              <a:chExt cx="1295280" cy="464436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934920" y="3030120"/>
                <a:ext cx="647640" cy="3171600"/>
                <a:chOff x="934920" y="3030120"/>
                <a:chExt cx="647640" cy="31716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934920" y="3030120"/>
                  <a:ext cx="647640" cy="396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,h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934920" y="3426840"/>
                  <a:ext cx="647640" cy="3985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h,c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934920" y="3822120"/>
                  <a:ext cx="647640" cy="397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,f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34920" y="4219200"/>
                  <a:ext cx="647640" cy="3985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934920" y="4614480"/>
                  <a:ext cx="647640" cy="3985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,i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934920" y="5013000"/>
                  <a:ext cx="647640" cy="396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,g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934920" y="5408280"/>
                  <a:ext cx="647640" cy="396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,i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934920" y="5805000"/>
                  <a:ext cx="647640" cy="396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,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11280" y="1557360"/>
                <a:ext cx="1295280" cy="1036440"/>
                <a:chOff x="611280" y="1557360"/>
                <a:chExt cx="1295280" cy="10364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130040" y="1848960"/>
                  <a:ext cx="161280" cy="16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37720" y="1557360"/>
                  <a:ext cx="161280" cy="16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648080" y="1881000"/>
                  <a:ext cx="161280" cy="16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1280" y="1783800"/>
                  <a:ext cx="161280" cy="16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21280" y="1557360"/>
                  <a:ext cx="161280" cy="16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902520" y="2075040"/>
                  <a:ext cx="161280" cy="16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421280" y="2140200"/>
                  <a:ext cx="161280" cy="16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45280" y="2431800"/>
                  <a:ext cx="161280" cy="16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21280" y="2431800"/>
                  <a:ext cx="161280" cy="16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7" name=""/>
                <p:cNvCxnSpPr>
                  <a:stCxn id="219" idx="5"/>
                  <a:endCxn id="218" idx="1"/>
                </p:cNvCxnSpPr>
                <p:nvPr/>
              </p:nvCxnSpPr>
              <p:spPr>
                <a:xfrm>
                  <a:off x="975600" y="1695960"/>
                  <a:ext cx="178200" cy="177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8" name=""/>
                <p:cNvCxnSpPr>
                  <a:stCxn id="222" idx="3"/>
                  <a:endCxn id="218" idx="7"/>
                </p:cNvCxnSpPr>
                <p:nvPr/>
              </p:nvCxnSpPr>
              <p:spPr>
                <a:xfrm flipH="1">
                  <a:off x="1267200" y="1695960"/>
                  <a:ext cx="177480" cy="177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9" name=""/>
                <p:cNvCxnSpPr>
                  <a:stCxn id="218" idx="3"/>
                  <a:endCxn id="223" idx="7"/>
                </p:cNvCxnSpPr>
                <p:nvPr/>
              </p:nvCxnSpPr>
              <p:spPr>
                <a:xfrm flipH="1">
                  <a:off x="1040040" y="1986840"/>
                  <a:ext cx="113400" cy="111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0" name=""/>
                <p:cNvCxnSpPr>
                  <a:stCxn id="218" idx="5"/>
                  <a:endCxn id="224" idx="1"/>
                </p:cNvCxnSpPr>
                <p:nvPr/>
              </p:nvCxnSpPr>
              <p:spPr>
                <a:xfrm>
                  <a:off x="1267560" y="1987200"/>
                  <a:ext cx="177480" cy="177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1" name=""/>
                <p:cNvCxnSpPr>
                  <a:stCxn id="221" idx="7"/>
                  <a:endCxn id="219" idx="3"/>
                </p:cNvCxnSpPr>
                <p:nvPr/>
              </p:nvCxnSpPr>
              <p:spPr>
                <a:xfrm flipV="1">
                  <a:off x="748800" y="1695240"/>
                  <a:ext cx="112680" cy="111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2" name=""/>
                <p:cNvCxnSpPr>
                  <a:stCxn id="224" idx="7"/>
                  <a:endCxn id="220" idx="3"/>
                </p:cNvCxnSpPr>
                <p:nvPr/>
              </p:nvCxnSpPr>
              <p:spPr>
                <a:xfrm flipV="1">
                  <a:off x="1558800" y="2018880"/>
                  <a:ext cx="112680" cy="144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3" name=""/>
                <p:cNvCxnSpPr>
                  <a:stCxn id="224" idx="4"/>
                  <a:endCxn id="226" idx="0"/>
                </p:cNvCxnSpPr>
                <p:nvPr/>
              </p:nvCxnSpPr>
              <p:spPr>
                <a:xfrm>
                  <a:off x="1501920" y="2302200"/>
                  <a:ext cx="1080" cy="129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4" name=""/>
                <p:cNvCxnSpPr>
                  <a:stCxn id="226" idx="6"/>
                  <a:endCxn id="225" idx="2"/>
                </p:cNvCxnSpPr>
                <p:nvPr/>
              </p:nvCxnSpPr>
              <p:spPr>
                <a:xfrm>
                  <a:off x="1582920" y="2512800"/>
                  <a:ext cx="162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690-B059-4985-AFDB-F8F6673918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rocessore i-esimo costruisce il reciproco dell’arco i-esimo e imposta opportunamente i punta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4148280"/>
            <a:ext cx="863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751280" y="2562120"/>
            <a:ext cx="647640" cy="3171600"/>
            <a:chOff x="4751280" y="2562120"/>
            <a:chExt cx="647640" cy="3171600"/>
          </a:xfrm>
        </p:grpSpPr>
        <p:sp>
          <p:nvSpPr>
            <p:cNvPr id="239" name=""/>
            <p:cNvSpPr/>
            <p:nvPr/>
          </p:nvSpPr>
          <p:spPr>
            <a:xfrm>
              <a:off x="4751280" y="2562120"/>
              <a:ext cx="647640" cy="3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,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51280" y="2958840"/>
              <a:ext cx="647640" cy="39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,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51280" y="3354120"/>
              <a:ext cx="647640" cy="3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51280" y="3751200"/>
              <a:ext cx="647640" cy="39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51280" y="4146480"/>
              <a:ext cx="647640" cy="39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51280" y="4545000"/>
              <a:ext cx="647640" cy="3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,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51280" y="4940280"/>
              <a:ext cx="647640" cy="3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,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51280" y="5337000"/>
              <a:ext cx="647640" cy="3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,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308720" y="1916280"/>
            <a:ext cx="1079640" cy="4464000"/>
            <a:chOff x="7308720" y="1916280"/>
            <a:chExt cx="1079640" cy="4464000"/>
          </a:xfrm>
        </p:grpSpPr>
        <p:sp>
          <p:nvSpPr>
            <p:cNvPr id="248" name=""/>
            <p:cNvSpPr/>
            <p:nvPr/>
          </p:nvSpPr>
          <p:spPr>
            <a:xfrm>
              <a:off x="7308720" y="1916280"/>
              <a:ext cx="648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,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8720" y="2195640"/>
              <a:ext cx="64800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,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08720" y="2473200"/>
              <a:ext cx="648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,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08720" y="2752560"/>
              <a:ext cx="64800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08720" y="3030480"/>
              <a:ext cx="64800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08720" y="3311640"/>
              <a:ext cx="648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,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08720" y="3589200"/>
              <a:ext cx="648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08720" y="3868560"/>
              <a:ext cx="648000" cy="27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,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08720" y="4148280"/>
              <a:ext cx="648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08720" y="4427640"/>
              <a:ext cx="64800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,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08720" y="4705200"/>
              <a:ext cx="648000" cy="27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,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08720" y="4984920"/>
              <a:ext cx="64800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,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08720" y="5262480"/>
              <a:ext cx="64800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,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08720" y="5543640"/>
              <a:ext cx="648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,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08720" y="5821200"/>
              <a:ext cx="648000" cy="27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,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08720" y="6100920"/>
              <a:ext cx="648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,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56720" y="191628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56720" y="2195640"/>
              <a:ext cx="21564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56720" y="247320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56720" y="2752560"/>
              <a:ext cx="215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56720" y="3030480"/>
              <a:ext cx="215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56720" y="331164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6720" y="358920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56720" y="3868560"/>
              <a:ext cx="215640" cy="27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6720" y="414828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6720" y="4427640"/>
              <a:ext cx="21564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6720" y="4705200"/>
              <a:ext cx="215640" cy="27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56720" y="4984920"/>
              <a:ext cx="21564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56720" y="5262480"/>
              <a:ext cx="215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554364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56720" y="5821200"/>
              <a:ext cx="215640" cy="27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56720" y="610092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62920" y="1986120"/>
              <a:ext cx="4680" cy="414360"/>
            </a:xfrm>
            <a:custGeom>
              <a:avLst/>
              <a:gdLst/>
              <a:ahLst/>
              <a:rect l="l" t="t" r="r" b="b"/>
              <a:pathLst>
                <a:path w="3" h="261">
                  <a:moveTo>
                    <a:pt x="3" y="0"/>
                  </a:moveTo>
                  <a:cubicBezTo>
                    <a:pt x="3" y="43"/>
                    <a:pt x="1" y="207"/>
                    <a:pt x="0" y="26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67600" y="2546280"/>
              <a:ext cx="4680" cy="414360"/>
            </a:xfrm>
            <a:custGeom>
              <a:avLst/>
              <a:gdLst/>
              <a:ahLst/>
              <a:rect l="l" t="t" r="r" b="b"/>
              <a:pathLst>
                <a:path w="3" h="261">
                  <a:moveTo>
                    <a:pt x="3" y="0"/>
                  </a:moveTo>
                  <a:cubicBezTo>
                    <a:pt x="3" y="43"/>
                    <a:pt x="1" y="207"/>
                    <a:pt x="0" y="26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67600" y="3097080"/>
              <a:ext cx="4680" cy="414360"/>
            </a:xfrm>
            <a:custGeom>
              <a:avLst/>
              <a:gdLst/>
              <a:ahLst/>
              <a:rect l="l" t="t" r="r" b="b"/>
              <a:pathLst>
                <a:path w="3" h="261">
                  <a:moveTo>
                    <a:pt x="3" y="0"/>
                  </a:moveTo>
                  <a:cubicBezTo>
                    <a:pt x="3" y="43"/>
                    <a:pt x="1" y="207"/>
                    <a:pt x="0" y="26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67600" y="3659040"/>
              <a:ext cx="4680" cy="414360"/>
            </a:xfrm>
            <a:custGeom>
              <a:avLst/>
              <a:gdLst/>
              <a:ahLst/>
              <a:rect l="l" t="t" r="r" b="b"/>
              <a:pathLst>
                <a:path w="3" h="261">
                  <a:moveTo>
                    <a:pt x="3" y="0"/>
                  </a:moveTo>
                  <a:cubicBezTo>
                    <a:pt x="3" y="43"/>
                    <a:pt x="1" y="207"/>
                    <a:pt x="0" y="26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67600" y="4221000"/>
              <a:ext cx="4680" cy="414360"/>
            </a:xfrm>
            <a:custGeom>
              <a:avLst/>
              <a:gdLst/>
              <a:ahLst/>
              <a:rect l="l" t="t" r="r" b="b"/>
              <a:pathLst>
                <a:path w="3" h="261">
                  <a:moveTo>
                    <a:pt x="3" y="0"/>
                  </a:moveTo>
                  <a:cubicBezTo>
                    <a:pt x="3" y="43"/>
                    <a:pt x="1" y="207"/>
                    <a:pt x="0" y="26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67600" y="4782960"/>
              <a:ext cx="4680" cy="414360"/>
            </a:xfrm>
            <a:custGeom>
              <a:avLst/>
              <a:gdLst/>
              <a:ahLst/>
              <a:rect l="l" t="t" r="r" b="b"/>
              <a:pathLst>
                <a:path w="3" h="261">
                  <a:moveTo>
                    <a:pt x="3" y="0"/>
                  </a:moveTo>
                  <a:cubicBezTo>
                    <a:pt x="3" y="43"/>
                    <a:pt x="1" y="207"/>
                    <a:pt x="0" y="26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7600" y="5329080"/>
              <a:ext cx="4680" cy="414360"/>
            </a:xfrm>
            <a:custGeom>
              <a:avLst/>
              <a:gdLst/>
              <a:ahLst/>
              <a:rect l="l" t="t" r="r" b="b"/>
              <a:pathLst>
                <a:path w="3" h="261">
                  <a:moveTo>
                    <a:pt x="3" y="0"/>
                  </a:moveTo>
                  <a:cubicBezTo>
                    <a:pt x="3" y="43"/>
                    <a:pt x="1" y="207"/>
                    <a:pt x="0" y="26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67600" y="5896080"/>
              <a:ext cx="4680" cy="414360"/>
            </a:xfrm>
            <a:custGeom>
              <a:avLst/>
              <a:gdLst/>
              <a:ahLst/>
              <a:rect l="l" t="t" r="r" b="b"/>
              <a:pathLst>
                <a:path w="3" h="261">
                  <a:moveTo>
                    <a:pt x="3" y="0"/>
                  </a:moveTo>
                  <a:cubicBezTo>
                    <a:pt x="3" y="43"/>
                    <a:pt x="1" y="207"/>
                    <a:pt x="0" y="26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72360" y="191628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72360" y="2195640"/>
              <a:ext cx="21600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72360" y="247320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72360" y="2752560"/>
              <a:ext cx="21600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72360" y="3030480"/>
              <a:ext cx="21600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72360" y="331164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72360" y="358920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72360" y="3868560"/>
              <a:ext cx="216000" cy="27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72360" y="414828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72360" y="4427640"/>
              <a:ext cx="21600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72360" y="4705200"/>
              <a:ext cx="216000" cy="27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72360" y="4984920"/>
              <a:ext cx="21600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72360" y="5262480"/>
              <a:ext cx="21600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72360" y="554364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72360" y="5821200"/>
              <a:ext cx="216000" cy="27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72360" y="610092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4E8-C152-4690-A35D-DDD127A818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63342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ordina lessicograficamente il vettore degli arch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ota: se nell’eseguire l’ordinamento si spostassero realmente i dati in memoria tutti i puntatori agli archi reciproci verrebbero perduti. Per ovviare a questo problema la soluzione più semplice è quella di calcolare la sequenza ordinata degli indici che si userà poi per accedere al vettore come se fosse ordin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53440" y="1844640"/>
            <a:ext cx="647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,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3440" y="2124000"/>
            <a:ext cx="64764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,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53440" y="2401920"/>
            <a:ext cx="647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,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53440" y="2681280"/>
            <a:ext cx="64764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,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453440" y="2959200"/>
            <a:ext cx="647640" cy="28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,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453440" y="3240000"/>
            <a:ext cx="647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,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53440" y="3517920"/>
            <a:ext cx="647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,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53440" y="3797280"/>
            <a:ext cx="647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,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53440" y="4076640"/>
            <a:ext cx="647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,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3440" y="4356000"/>
            <a:ext cx="64764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,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53440" y="4633920"/>
            <a:ext cx="647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,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53440" y="4913280"/>
            <a:ext cx="64764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,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453440" y="5191200"/>
            <a:ext cx="647640" cy="28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,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53440" y="5472000"/>
            <a:ext cx="647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,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3440" y="5749920"/>
            <a:ext cx="647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,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53440" y="6029280"/>
            <a:ext cx="647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,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101080" y="1844640"/>
            <a:ext cx="21600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2124000"/>
            <a:ext cx="21600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101080" y="2401920"/>
            <a:ext cx="21600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1080" y="2681280"/>
            <a:ext cx="21600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01080" y="2959200"/>
            <a:ext cx="216000" cy="28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01080" y="3240000"/>
            <a:ext cx="21600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101080" y="3517920"/>
            <a:ext cx="21600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01080" y="3797280"/>
            <a:ext cx="21600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01080" y="4076640"/>
            <a:ext cx="21600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01080" y="4356000"/>
            <a:ext cx="21600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101080" y="4633920"/>
            <a:ext cx="21600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101080" y="4913280"/>
            <a:ext cx="21600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101080" y="5191200"/>
            <a:ext cx="216000" cy="28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01080" y="5472000"/>
            <a:ext cx="21600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101080" y="5749920"/>
            <a:ext cx="21600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01080" y="6029280"/>
            <a:ext cx="21600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17080" y="1844640"/>
            <a:ext cx="215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317080" y="2124000"/>
            <a:ext cx="21564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17080" y="2401920"/>
            <a:ext cx="215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17080" y="2681280"/>
            <a:ext cx="21564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17080" y="2959200"/>
            <a:ext cx="215640" cy="28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317080" y="3240000"/>
            <a:ext cx="215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17080" y="3517920"/>
            <a:ext cx="215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17080" y="3797280"/>
            <a:ext cx="215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17080" y="4076640"/>
            <a:ext cx="215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17080" y="4356000"/>
            <a:ext cx="21564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317080" y="4633920"/>
            <a:ext cx="215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17080" y="4913280"/>
            <a:ext cx="21564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317080" y="5191200"/>
            <a:ext cx="215640" cy="28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17080" y="5472000"/>
            <a:ext cx="215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17080" y="5749920"/>
            <a:ext cx="215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17080" y="6029280"/>
            <a:ext cx="2156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07280" y="1973160"/>
            <a:ext cx="568440" cy="1943280"/>
          </a:xfrm>
          <a:custGeom>
            <a:avLst/>
            <a:gdLst/>
            <a:ahLst/>
            <a:rect l="l" t="t" r="r" b="b"/>
            <a:pathLst>
              <a:path w="358" h="1224">
                <a:moveTo>
                  <a:pt x="7" y="0"/>
                </a:moveTo>
                <a:cubicBezTo>
                  <a:pt x="334" y="2"/>
                  <a:pt x="358" y="1224"/>
                  <a:pt x="0" y="1223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183520" y="2263680"/>
            <a:ext cx="804960" cy="3345120"/>
          </a:xfrm>
          <a:custGeom>
            <a:avLst/>
            <a:gdLst/>
            <a:ahLst/>
            <a:rect l="l" t="t" r="r" b="b"/>
            <a:pathLst>
              <a:path w="507" h="2107">
                <a:moveTo>
                  <a:pt x="0" y="8"/>
                </a:moveTo>
                <a:cubicBezTo>
                  <a:pt x="479" y="0"/>
                  <a:pt x="507" y="2093"/>
                  <a:pt x="22" y="2107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18440" y="2502000"/>
            <a:ext cx="4680" cy="414360"/>
          </a:xfrm>
          <a:custGeom>
            <a:avLst/>
            <a:gdLst/>
            <a:ahLst/>
            <a:rect l="l" t="t" r="r" b="b"/>
            <a:pathLst>
              <a:path w="3" h="261">
                <a:moveTo>
                  <a:pt x="3" y="0"/>
                </a:moveTo>
                <a:cubicBezTo>
                  <a:pt x="3" y="43"/>
                  <a:pt x="1" y="207"/>
                  <a:pt x="0" y="261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183520" y="3068640"/>
            <a:ext cx="569880" cy="1427040"/>
          </a:xfrm>
          <a:custGeom>
            <a:avLst/>
            <a:gdLst/>
            <a:ahLst/>
            <a:rect l="l" t="t" r="r" b="b"/>
            <a:pathLst>
              <a:path w="359" h="899">
                <a:moveTo>
                  <a:pt x="0" y="0"/>
                </a:moveTo>
                <a:cubicBezTo>
                  <a:pt x="327" y="2"/>
                  <a:pt x="359" y="899"/>
                  <a:pt x="1" y="898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218440" y="3379680"/>
            <a:ext cx="568440" cy="1684440"/>
          </a:xfrm>
          <a:custGeom>
            <a:avLst/>
            <a:gdLst/>
            <a:ahLst/>
            <a:rect l="l" t="t" r="r" b="b"/>
            <a:pathLst>
              <a:path w="358" h="1061">
                <a:moveTo>
                  <a:pt x="9" y="0"/>
                </a:moveTo>
                <a:cubicBezTo>
                  <a:pt x="336" y="2"/>
                  <a:pt x="358" y="1061"/>
                  <a:pt x="0" y="1060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63000" y="3645000"/>
            <a:ext cx="914400" cy="2254320"/>
          </a:xfrm>
          <a:custGeom>
            <a:avLst/>
            <a:gdLst/>
            <a:ahLst/>
            <a:rect l="l" t="t" r="r" b="b"/>
            <a:pathLst>
              <a:path w="576" h="1420">
                <a:moveTo>
                  <a:pt x="13" y="0"/>
                </a:moveTo>
                <a:cubicBezTo>
                  <a:pt x="340" y="2"/>
                  <a:pt x="576" y="1420"/>
                  <a:pt x="0" y="1420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72360" y="4149720"/>
            <a:ext cx="569880" cy="1171440"/>
          </a:xfrm>
          <a:custGeom>
            <a:avLst/>
            <a:gdLst/>
            <a:ahLst/>
            <a:rect l="l" t="t" r="r" b="b"/>
            <a:pathLst>
              <a:path w="359" h="738">
                <a:moveTo>
                  <a:pt x="0" y="0"/>
                </a:moveTo>
                <a:cubicBezTo>
                  <a:pt x="327" y="2"/>
                  <a:pt x="359" y="738"/>
                  <a:pt x="1" y="737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4735440"/>
            <a:ext cx="592200" cy="1420920"/>
          </a:xfrm>
          <a:custGeom>
            <a:avLst/>
            <a:gdLst/>
            <a:ahLst/>
            <a:rect l="l" t="t" r="r" b="b"/>
            <a:pathLst>
              <a:path w="373" h="895">
                <a:moveTo>
                  <a:pt x="0" y="0"/>
                </a:moveTo>
                <a:cubicBezTo>
                  <a:pt x="327" y="2"/>
                  <a:pt x="373" y="895"/>
                  <a:pt x="15" y="894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83F-8792-41A9-BEF9-4F751BC939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64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creano le liste di adiacenza circolari per ogni nodo nella seguente mani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divida la lista in blocchi dallo stesso primo nodo dell’ar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ogni arco si imposti il puntatore al successivo nel bloc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ultimo arco di ogni blocco punti al pr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 parallelo per la costruzione della struttura d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o 1: co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o 2: logaritmico (per l’ordin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o 3: co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019640" y="1700280"/>
            <a:ext cx="2089800" cy="4464000"/>
            <a:chOff x="7019640" y="1700280"/>
            <a:chExt cx="2089800" cy="4464000"/>
          </a:xfrm>
        </p:grpSpPr>
        <p:sp>
          <p:nvSpPr>
            <p:cNvPr id="365" name=""/>
            <p:cNvSpPr/>
            <p:nvPr/>
          </p:nvSpPr>
          <p:spPr>
            <a:xfrm>
              <a:off x="7309080" y="1700280"/>
              <a:ext cx="647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,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09080" y="1979640"/>
              <a:ext cx="647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,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09080" y="2257560"/>
              <a:ext cx="647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,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09080" y="2536920"/>
              <a:ext cx="647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09080" y="2814840"/>
              <a:ext cx="64764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09080" y="3095640"/>
              <a:ext cx="647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09080" y="3373560"/>
              <a:ext cx="647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,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09080" y="3652920"/>
              <a:ext cx="647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,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09080" y="3932280"/>
              <a:ext cx="647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,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09080" y="4211640"/>
              <a:ext cx="647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,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09080" y="4489560"/>
              <a:ext cx="647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,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09080" y="4768920"/>
              <a:ext cx="647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,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09080" y="5046840"/>
              <a:ext cx="64764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,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09080" y="5327640"/>
              <a:ext cx="647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,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09080" y="5605560"/>
              <a:ext cx="647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,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09080" y="5884920"/>
              <a:ext cx="647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,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56720" y="170028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56720" y="1979640"/>
              <a:ext cx="21600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56720" y="225756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56720" y="2536920"/>
              <a:ext cx="21600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56720" y="2814840"/>
              <a:ext cx="21600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56720" y="309564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56720" y="337356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56720" y="365292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56720" y="393228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6720" y="4211640"/>
              <a:ext cx="21600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56720" y="448956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56720" y="4768920"/>
              <a:ext cx="21600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6720" y="5046840"/>
              <a:ext cx="21600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56720" y="532764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56720" y="560556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56720" y="5884920"/>
              <a:ext cx="21600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2720" y="170028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72720" y="1979640"/>
              <a:ext cx="215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72720" y="225756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72720" y="2536920"/>
              <a:ext cx="215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172720" y="2814840"/>
              <a:ext cx="21564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72720" y="309564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172720" y="337356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72720" y="365292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72720" y="393228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72720" y="4211640"/>
              <a:ext cx="215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72720" y="448956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72720" y="4768920"/>
              <a:ext cx="215640" cy="281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72720" y="5046840"/>
              <a:ext cx="21564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72720" y="532764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172720" y="560556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72720" y="5884920"/>
              <a:ext cx="215640" cy="27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7019640" y="2254320"/>
              <a:ext cx="1584360" cy="3073320"/>
              <a:chOff x="7019640" y="2254320"/>
              <a:chExt cx="1584360" cy="307332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7019640" y="22543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7019640" y="254160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7019640" y="364500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7019640" y="39211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019640" y="421020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019640" y="44863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019640" y="47689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7019640" y="532764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22" name=""/>
            <p:cNvCxnSpPr/>
            <p:nvPr/>
          </p:nvCxnSpPr>
          <p:spPr>
            <a:xfrm flipH="1" rot="16200000">
              <a:off x="8318520" y="3784680"/>
              <a:ext cx="140400" cy="2520"/>
            </a:xfrm>
            <a:prstGeom prst="curvedConnector5">
              <a:avLst>
                <a:gd name="adj1" fmla="val 20308"/>
                <a:gd name="adj2" fmla="val 4050000"/>
                <a:gd name="adj3" fmla="val 203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3" name=""/>
            <p:cNvCxnSpPr/>
            <p:nvPr/>
          </p:nvCxnSpPr>
          <p:spPr>
            <a:xfrm flipH="1" rot="16200000">
              <a:off x="8318520" y="4066200"/>
              <a:ext cx="140400" cy="2520"/>
            </a:xfrm>
            <a:prstGeom prst="curvedConnector5">
              <a:avLst>
                <a:gd name="adj1" fmla="val 20308"/>
                <a:gd name="adj2" fmla="val 4050000"/>
                <a:gd name="adj3" fmla="val 203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4" name=""/>
            <p:cNvCxnSpPr/>
            <p:nvPr/>
          </p:nvCxnSpPr>
          <p:spPr>
            <a:xfrm flipH="1" rot="16200000">
              <a:off x="8318520" y="4344120"/>
              <a:ext cx="140400" cy="2520"/>
            </a:xfrm>
            <a:prstGeom prst="curvedConnector5">
              <a:avLst>
                <a:gd name="adj1" fmla="val 20308"/>
                <a:gd name="adj2" fmla="val 4050000"/>
                <a:gd name="adj3" fmla="val 203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5" name=""/>
            <p:cNvCxnSpPr/>
            <p:nvPr/>
          </p:nvCxnSpPr>
          <p:spPr>
            <a:xfrm flipH="1" rot="16200000">
              <a:off x="8318520" y="4631400"/>
              <a:ext cx="140400" cy="2520"/>
            </a:xfrm>
            <a:prstGeom prst="curvedConnector5">
              <a:avLst>
                <a:gd name="adj1" fmla="val 20308"/>
                <a:gd name="adj2" fmla="val 4050000"/>
                <a:gd name="adj3" fmla="val 203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6" name=""/>
            <p:cNvCxnSpPr>
              <a:endCxn id="402" idx="3"/>
            </p:cNvCxnSpPr>
            <p:nvPr/>
          </p:nvCxnSpPr>
          <p:spPr>
            <a:xfrm flipH="1" rot="16200000">
              <a:off x="8274960" y="3121560"/>
              <a:ext cx="226080" cy="2160"/>
            </a:xfrm>
            <a:prstGeom prst="curvedConnector5">
              <a:avLst>
                <a:gd name="adj1" fmla="val 18979"/>
                <a:gd name="adj2" fmla="val 5140000"/>
                <a:gd name="adj3" fmla="val 18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7" name=""/>
            <p:cNvCxnSpPr/>
            <p:nvPr/>
          </p:nvCxnSpPr>
          <p:spPr>
            <a:xfrm flipH="1" rot="16200000">
              <a:off x="8275680" y="2819880"/>
              <a:ext cx="226080" cy="2520"/>
            </a:xfrm>
            <a:prstGeom prst="curvedConnector5">
              <a:avLst>
                <a:gd name="adj1" fmla="val 18979"/>
                <a:gd name="adj2" fmla="val 5150000"/>
                <a:gd name="adj3" fmla="val 18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/>
            <p:nvPr/>
          </p:nvCxnSpPr>
          <p:spPr>
            <a:xfrm flipH="1" rot="16200000">
              <a:off x="8275680" y="3364560"/>
              <a:ext cx="226080" cy="2520"/>
            </a:xfrm>
            <a:prstGeom prst="curvedConnector5">
              <a:avLst>
                <a:gd name="adj1" fmla="val 18979"/>
                <a:gd name="adj2" fmla="val 5150000"/>
                <a:gd name="adj3" fmla="val 18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/>
            <p:nvPr/>
          </p:nvCxnSpPr>
          <p:spPr>
            <a:xfrm flipH="1" rot="16200000">
              <a:off x="8275320" y="1956240"/>
              <a:ext cx="226440" cy="2520"/>
            </a:xfrm>
            <a:prstGeom prst="curvedConnector5">
              <a:avLst>
                <a:gd name="adj1" fmla="val 18949"/>
                <a:gd name="adj2" fmla="val 5150000"/>
                <a:gd name="adj3" fmla="val 189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/>
            <p:nvPr/>
          </p:nvCxnSpPr>
          <p:spPr>
            <a:xfrm flipH="1" rot="16200000">
              <a:off x="8275680" y="5042520"/>
              <a:ext cx="226080" cy="2520"/>
            </a:xfrm>
            <a:prstGeom prst="curvedConnector5">
              <a:avLst>
                <a:gd name="adj1" fmla="val 18979"/>
                <a:gd name="adj2" fmla="val 5150000"/>
                <a:gd name="adj3" fmla="val 18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1" name=""/>
            <p:cNvCxnSpPr/>
            <p:nvPr/>
          </p:nvCxnSpPr>
          <p:spPr>
            <a:xfrm flipH="1" rot="16200000">
              <a:off x="8275680" y="5590080"/>
              <a:ext cx="226080" cy="2520"/>
            </a:xfrm>
            <a:prstGeom prst="curvedConnector5">
              <a:avLst>
                <a:gd name="adj1" fmla="val 18979"/>
                <a:gd name="adj2" fmla="val 5150000"/>
                <a:gd name="adj3" fmla="val 18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2" name=""/>
            <p:cNvCxnSpPr/>
            <p:nvPr/>
          </p:nvCxnSpPr>
          <p:spPr>
            <a:xfrm flipH="1" rot="16200000">
              <a:off x="8275320" y="5877360"/>
              <a:ext cx="226440" cy="2520"/>
            </a:xfrm>
            <a:prstGeom prst="curvedConnector5">
              <a:avLst>
                <a:gd name="adj1" fmla="val 18949"/>
                <a:gd name="adj2" fmla="val 5150000"/>
                <a:gd name="adj3" fmla="val 189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3" name=""/>
            <p:cNvCxnSpPr>
              <a:stCxn id="398" idx="3"/>
              <a:endCxn id="397" idx="3"/>
            </p:cNvCxnSpPr>
            <p:nvPr/>
          </p:nvCxnSpPr>
          <p:spPr>
            <a:xfrm flipV="1">
              <a:off x="8388000" y="1839240"/>
              <a:ext cx="2520" cy="281880"/>
            </a:xfrm>
            <a:prstGeom prst="curvedConnector5">
              <a:avLst>
                <a:gd name="adj1" fmla="val 26400000"/>
                <a:gd name="adj2" fmla="val 50000"/>
                <a:gd name="adj3" fmla="val 26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03" idx="3"/>
              <a:endCxn id="400" idx="3"/>
            </p:cNvCxnSpPr>
            <p:nvPr/>
          </p:nvCxnSpPr>
          <p:spPr>
            <a:xfrm flipV="1">
              <a:off x="8388000" y="2677680"/>
              <a:ext cx="2520" cy="835920"/>
            </a:xfrm>
            <a:prstGeom prst="curvedConnector5">
              <a:avLst>
                <a:gd name="adj1" fmla="val 33400000"/>
                <a:gd name="adj2" fmla="val 49978"/>
                <a:gd name="adj3" fmla="val 33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5" name=""/>
            <p:cNvCxnSpPr>
              <a:stCxn id="409" idx="3"/>
              <a:endCxn id="408" idx="3"/>
            </p:cNvCxnSpPr>
            <p:nvPr/>
          </p:nvCxnSpPr>
          <p:spPr>
            <a:xfrm flipV="1">
              <a:off x="8388000" y="4909680"/>
              <a:ext cx="2520" cy="278280"/>
            </a:xfrm>
            <a:prstGeom prst="curvedConnector5">
              <a:avLst>
                <a:gd name="adj1" fmla="val 27800000"/>
                <a:gd name="adj2" fmla="val 50000"/>
                <a:gd name="adj3" fmla="val 278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6" name=""/>
            <p:cNvCxnSpPr>
              <a:stCxn id="412" idx="3"/>
              <a:endCxn id="410" idx="3"/>
            </p:cNvCxnSpPr>
            <p:nvPr/>
          </p:nvCxnSpPr>
          <p:spPr>
            <a:xfrm flipV="1">
              <a:off x="8388000" y="5466960"/>
              <a:ext cx="2520" cy="558000"/>
            </a:xfrm>
            <a:prstGeom prst="curvedConnector5">
              <a:avLst>
                <a:gd name="adj1" fmla="val 29200000"/>
                <a:gd name="adj2" fmla="val 49967"/>
                <a:gd name="adj3" fmla="val 29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/>
            <p:nvPr/>
          </p:nvCxnSpPr>
          <p:spPr>
            <a:xfrm flipH="1" rot="16200000">
              <a:off x="8318520" y="2405520"/>
              <a:ext cx="140400" cy="2520"/>
            </a:xfrm>
            <a:prstGeom prst="curvedConnector5">
              <a:avLst>
                <a:gd name="adj1" fmla="val 20308"/>
                <a:gd name="adj2" fmla="val 4050000"/>
                <a:gd name="adj3" fmla="val 203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F4B-DC42-4D73-B7D5-14A1A2636C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ordiamo ch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er calcolare le funzioni elementari su alberi radicati (dati in input con il loro CDE) adoperiamo il seguente schema (esempi visiti nella lezione scorsa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ogni verti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a (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l’arco discendente 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quello ascend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assegni, a seconda del problema in considerazione, un valore agli archi ascendenti e un differente valore agli archi discende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eseguano le somme prefisse sulla sequenza di valori che si ottiene seguendo il Cammino di Eule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onda del problema, si dia una funzione di lettura della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5A6-947B-4C8E-A073-3F517AECDF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correnza sinistra e d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individuare la prima e l’ultima occorrenza di un nodo nel CDE di un albero radicato, sfruttiamo il vettore delle somme prefisse S che serve per calcolare il livello dei nodi. Per ogni arco 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nel CDE calcoleremo due valori booleani, left e right, che determineranno se, in corrispondenza di tale arco, si ha la prima e/o l’ultima apparizione del nodo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Se l’arco che precede e=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ha associato un livello minore di quello di e, allora siamo in corrispondenza della prima occorrenza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ft(e) = 1 sse S(e.pred) &lt; S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 l’arco che segue e ha livello minore di e allora sarà l’ultima occorrenza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ght(e) = 1 sse S(e.next) &lt; S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Nota: left(u,v) = right(u,v) = 1 sse v è una fog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possibile definire, per ogni nodo, lef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come l’indice nel CDE dell’unico arco 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con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left(u,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=1. Idem per righ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. Si assuma left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E54-C823-4147-81F9-EA3D7872C0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Esempio left e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prendiamo il CDE dell’albero radicato i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’esempio fatto nella lezione precedente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h e h c b c i a d a i g c f c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u tale albero otteniamo i seguenti vettor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ctr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badiamo che i valori left e right associati all’arco 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identificano rispettivamente la prima e l’ultima visita del nodo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nel Cammino di Eul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11280" y="2781360"/>
          <a:ext cx="7983360" cy="1977840"/>
        </p:xfrm>
        <a:graphic>
          <a:graphicData uri="http://schemas.openxmlformats.org/drawingml/2006/table">
            <a:tbl>
              <a:tblPr/>
              <a:tblGrid>
                <a:gridCol w="776160"/>
                <a:gridCol w="449280"/>
                <a:gridCol w="449280"/>
                <a:gridCol w="453960"/>
                <a:gridCol w="449280"/>
                <a:gridCol w="451080"/>
                <a:gridCol w="449280"/>
                <a:gridCol w="449280"/>
                <a:gridCol w="453960"/>
                <a:gridCol w="450720"/>
                <a:gridCol w="449280"/>
                <a:gridCol w="449280"/>
                <a:gridCol w="449280"/>
                <a:gridCol w="449280"/>
                <a:gridCol w="455400"/>
                <a:gridCol w="449280"/>
                <a:gridCol w="44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,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,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,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,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CC1-F887-40FA-AB42-4005CEB565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4-10T11:02:56Z</dcterms:modified>
  <cp:revision>491</cp:revision>
  <dc:subject/>
  <dc:title>Algoritmi Paralleli e Distribuiti</dc:title>
</cp:coreProperties>
</file>