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AE06-100B-40C0-8593-EEF85A99568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no Accademico 200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C0B-0D2E-4465-8ACF-C4CDD27B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C69-30F0-4A89-BB7A-8BA574FD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7BF-EE6C-4CB8-8CAD-033A4204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C6D-8828-4C9B-96C4-EE6E2767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E35E-9264-4935-97E2-700A1367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CC7F-37F8-4D19-9E9D-B30F5345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9BBD-3359-43C3-B4A1-A7D32414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3DA3-DE09-45D9-93C9-CE8036F8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564D-D829-4BCF-898B-39739BD5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59C9-406F-4DD7-9924-1149CE6B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BBE0-93CD-406A-B07A-E3843E00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D0F2-D9B1-41E2-9BED-A244D118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FCA6-1291-4ECB-99ED-F3BBEE03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CAB2-AF4F-43AE-94EE-E7488574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414C-5E0F-4D68-BAA5-4F1F10B9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82C9-8023-45F9-98EB-EE3B0D3A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1B33-51EA-4C75-B2FD-1BCB7CCD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7D3-B782-4B68-859D-3A17C811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AE4-9B69-4076-97BD-94A93C84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11A-4568-4FE0-91DC-38A1931B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340-2523-4765-B933-1D23D0C1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2D8-A18A-4D36-9230-6B61439D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8B1-CC86-4507-ADC8-9ED68312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656-1A0C-4BB9-8FF6-0816C4AA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1280" y="6453000"/>
            <a:ext cx="4392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F626-4730-409E-9BDA-25D06753B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6684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B95E-EAF5-440E-AE6D-D4436D130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332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95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 Paralleli e Distribuit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a. 2007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ercitazione del 14/03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f.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s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OSSELLA PETRES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ura del Dott. SAVERIO CAMIN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Con n foglie e 2n-1 process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Input alle foglie output alla ra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sinistra corrisponde a 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destra con j = 2n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zione dell’esercizio 1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gnato il 29/02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721760" y="2491920"/>
            <a:ext cx="3890880" cy="2735280"/>
            <a:chOff x="4721760" y="2491920"/>
            <a:chExt cx="3890880" cy="2735280"/>
          </a:xfrm>
        </p:grpSpPr>
        <p:sp>
          <p:nvSpPr>
            <p:cNvPr id="96" name=""/>
            <p:cNvSpPr/>
            <p:nvPr/>
          </p:nvSpPr>
          <p:spPr>
            <a:xfrm>
              <a:off x="5437080" y="3500640"/>
              <a:ext cx="7174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48000" y="4003560"/>
              <a:ext cx="43200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1640" y="4003560"/>
              <a:ext cx="43200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65800" y="3498840"/>
              <a:ext cx="7174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78520" y="4002120"/>
              <a:ext cx="4287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40360" y="4002120"/>
              <a:ext cx="43200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27640" y="2851200"/>
              <a:ext cx="86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"/>
            <p:cNvCxnSpPr>
              <a:stCxn id="102" idx="2"/>
              <a:endCxn id="96" idx="0"/>
            </p:cNvCxnSpPr>
            <p:nvPr/>
          </p:nvCxnSpPr>
          <p:spPr>
            <a:xfrm flipH="1">
              <a:off x="5794920" y="3139920"/>
              <a:ext cx="864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04" name=""/>
            <p:cNvCxnSpPr>
              <a:stCxn id="102" idx="2"/>
              <a:endCxn id="99" idx="0"/>
            </p:cNvCxnSpPr>
            <p:nvPr/>
          </p:nvCxnSpPr>
          <p:spPr>
            <a:xfrm>
              <a:off x="6659280" y="3140280"/>
              <a:ext cx="866160" cy="35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05" name=""/>
            <p:cNvCxnSpPr>
              <a:stCxn id="96" idx="2"/>
              <a:endCxn id="97" idx="0"/>
            </p:cNvCxnSpPr>
            <p:nvPr/>
          </p:nvCxnSpPr>
          <p:spPr>
            <a:xfrm flipH="1">
              <a:off x="5363280" y="3789000"/>
              <a:ext cx="4323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06" name=""/>
            <p:cNvCxnSpPr>
              <a:stCxn id="96" idx="2"/>
              <a:endCxn id="98" idx="0"/>
            </p:cNvCxnSpPr>
            <p:nvPr/>
          </p:nvCxnSpPr>
          <p:spPr>
            <a:xfrm>
              <a:off x="5795640" y="3789000"/>
              <a:ext cx="43272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07" name=""/>
            <p:cNvCxnSpPr>
              <a:stCxn id="99" idx="2"/>
              <a:endCxn id="100" idx="0"/>
            </p:cNvCxnSpPr>
            <p:nvPr/>
          </p:nvCxnSpPr>
          <p:spPr>
            <a:xfrm flipH="1">
              <a:off x="7092360" y="3787560"/>
              <a:ext cx="43272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08" name=""/>
            <p:cNvCxnSpPr>
              <a:stCxn id="99" idx="2"/>
              <a:endCxn id="101" idx="0"/>
            </p:cNvCxnSpPr>
            <p:nvPr/>
          </p:nvCxnSpPr>
          <p:spPr>
            <a:xfrm>
              <a:off x="7524360" y="3787560"/>
              <a:ext cx="4323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09" name=""/>
            <p:cNvCxnSpPr>
              <a:stCxn id="97" idx="2"/>
              <a:endCxn id="110" idx="0"/>
            </p:cNvCxnSpPr>
            <p:nvPr/>
          </p:nvCxnSpPr>
          <p:spPr>
            <a:xfrm flipH="1">
              <a:off x="5147640" y="429264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11" name=""/>
            <p:cNvCxnSpPr>
              <a:stCxn id="97" idx="2"/>
              <a:endCxn id="112" idx="0"/>
            </p:cNvCxnSpPr>
            <p:nvPr/>
          </p:nvCxnSpPr>
          <p:spPr>
            <a:xfrm>
              <a:off x="5364000" y="429264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13" name=""/>
            <p:cNvCxnSpPr>
              <a:stCxn id="98" idx="2"/>
              <a:endCxn id="114" idx="0"/>
            </p:cNvCxnSpPr>
            <p:nvPr/>
          </p:nvCxnSpPr>
          <p:spPr>
            <a:xfrm flipH="1">
              <a:off x="6011280" y="429264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15" name=""/>
            <p:cNvCxnSpPr>
              <a:stCxn id="98" idx="2"/>
              <a:endCxn id="116" idx="0"/>
            </p:cNvCxnSpPr>
            <p:nvPr/>
          </p:nvCxnSpPr>
          <p:spPr>
            <a:xfrm>
              <a:off x="6227640" y="429264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17" name=""/>
            <p:cNvCxnSpPr>
              <a:stCxn id="100" idx="2"/>
              <a:endCxn id="118" idx="0"/>
            </p:cNvCxnSpPr>
            <p:nvPr/>
          </p:nvCxnSpPr>
          <p:spPr>
            <a:xfrm flipH="1">
              <a:off x="6874920" y="4291200"/>
              <a:ext cx="2181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19" name=""/>
            <p:cNvCxnSpPr>
              <a:stCxn id="100" idx="2"/>
              <a:endCxn id="120" idx="0"/>
            </p:cNvCxnSpPr>
            <p:nvPr/>
          </p:nvCxnSpPr>
          <p:spPr>
            <a:xfrm>
              <a:off x="7092720" y="4291200"/>
              <a:ext cx="2152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21" name=""/>
            <p:cNvCxnSpPr>
              <a:stCxn id="101" idx="2"/>
              <a:endCxn id="122" idx="0"/>
            </p:cNvCxnSpPr>
            <p:nvPr/>
          </p:nvCxnSpPr>
          <p:spPr>
            <a:xfrm flipH="1">
              <a:off x="7738560" y="4291200"/>
              <a:ext cx="2181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23" name=""/>
            <p:cNvCxnSpPr>
              <a:stCxn id="101" idx="2"/>
              <a:endCxn id="124" idx="0"/>
            </p:cNvCxnSpPr>
            <p:nvPr/>
          </p:nvCxnSpPr>
          <p:spPr>
            <a:xfrm>
              <a:off x="7956000" y="4291200"/>
              <a:ext cx="21492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sp>
          <p:nvSpPr>
            <p:cNvPr id="110" name=""/>
            <p:cNvSpPr/>
            <p:nvPr/>
          </p:nvSpPr>
          <p:spPr>
            <a:xfrm>
              <a:off x="5003640" y="457992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35280" y="457992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67280" y="457992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98920" y="457992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30920" y="457992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62560" y="457992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94560" y="457992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26200" y="457992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146560" y="48668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580000" y="48668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011640" y="48668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443640" y="48668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875280" y="48668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7308720" y="48668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740360" y="48668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172360" y="48668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00840" y="350064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2840" y="285120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66480" y="40035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1760" y="457992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76840" y="400356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77040" y="400356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140680" y="400356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51960" y="350064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81080" y="457992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659280" y="249192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73760" y="2491920"/>
            <a:ext cx="3943800" cy="2735280"/>
            <a:chOff x="473760" y="2491920"/>
            <a:chExt cx="3943800" cy="2735280"/>
          </a:xfrm>
        </p:grpSpPr>
        <p:sp>
          <p:nvSpPr>
            <p:cNvPr id="144" name=""/>
            <p:cNvSpPr/>
            <p:nvPr/>
          </p:nvSpPr>
          <p:spPr>
            <a:xfrm>
              <a:off x="1189080" y="3500640"/>
              <a:ext cx="7174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0000" y="4003560"/>
              <a:ext cx="43200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3640" y="4003560"/>
              <a:ext cx="43200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17800" y="3498840"/>
              <a:ext cx="7174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30520" y="4002120"/>
              <a:ext cx="4287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92360" y="4002120"/>
              <a:ext cx="43200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79640" y="2851200"/>
              <a:ext cx="86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"/>
            <p:cNvCxnSpPr>
              <a:stCxn id="150" idx="2"/>
              <a:endCxn id="144" idx="0"/>
            </p:cNvCxnSpPr>
            <p:nvPr/>
          </p:nvCxnSpPr>
          <p:spPr>
            <a:xfrm flipH="1">
              <a:off x="1546920" y="3139920"/>
              <a:ext cx="864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52" name=""/>
            <p:cNvCxnSpPr>
              <a:stCxn id="150" idx="2"/>
              <a:endCxn id="147" idx="0"/>
            </p:cNvCxnSpPr>
            <p:nvPr/>
          </p:nvCxnSpPr>
          <p:spPr>
            <a:xfrm>
              <a:off x="2411280" y="3140280"/>
              <a:ext cx="866160" cy="35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53" name=""/>
            <p:cNvCxnSpPr>
              <a:stCxn id="144" idx="2"/>
              <a:endCxn id="145" idx="0"/>
            </p:cNvCxnSpPr>
            <p:nvPr/>
          </p:nvCxnSpPr>
          <p:spPr>
            <a:xfrm flipH="1">
              <a:off x="1115280" y="3789000"/>
              <a:ext cx="4323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54" name=""/>
            <p:cNvCxnSpPr>
              <a:stCxn id="144" idx="2"/>
              <a:endCxn id="146" idx="0"/>
            </p:cNvCxnSpPr>
            <p:nvPr/>
          </p:nvCxnSpPr>
          <p:spPr>
            <a:xfrm>
              <a:off x="1547640" y="3789000"/>
              <a:ext cx="43272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55" name=""/>
            <p:cNvCxnSpPr>
              <a:stCxn id="147" idx="2"/>
              <a:endCxn id="148" idx="0"/>
            </p:cNvCxnSpPr>
            <p:nvPr/>
          </p:nvCxnSpPr>
          <p:spPr>
            <a:xfrm flipH="1">
              <a:off x="2844360" y="3787560"/>
              <a:ext cx="43272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56" name=""/>
            <p:cNvCxnSpPr>
              <a:stCxn id="147" idx="2"/>
              <a:endCxn id="149" idx="0"/>
            </p:cNvCxnSpPr>
            <p:nvPr/>
          </p:nvCxnSpPr>
          <p:spPr>
            <a:xfrm>
              <a:off x="3276360" y="3787560"/>
              <a:ext cx="4323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57" name=""/>
            <p:cNvCxnSpPr>
              <a:stCxn id="145" idx="2"/>
              <a:endCxn id="158" idx="0"/>
            </p:cNvCxnSpPr>
            <p:nvPr/>
          </p:nvCxnSpPr>
          <p:spPr>
            <a:xfrm flipH="1">
              <a:off x="899640" y="429264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59" name=""/>
            <p:cNvCxnSpPr>
              <a:stCxn id="145" idx="2"/>
              <a:endCxn id="160" idx="0"/>
            </p:cNvCxnSpPr>
            <p:nvPr/>
          </p:nvCxnSpPr>
          <p:spPr>
            <a:xfrm>
              <a:off x="1116000" y="429264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61" name=""/>
            <p:cNvCxnSpPr>
              <a:stCxn id="146" idx="2"/>
              <a:endCxn id="162" idx="0"/>
            </p:cNvCxnSpPr>
            <p:nvPr/>
          </p:nvCxnSpPr>
          <p:spPr>
            <a:xfrm flipH="1">
              <a:off x="1763280" y="429264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63" name=""/>
            <p:cNvCxnSpPr>
              <a:stCxn id="146" idx="2"/>
              <a:endCxn id="164" idx="0"/>
            </p:cNvCxnSpPr>
            <p:nvPr/>
          </p:nvCxnSpPr>
          <p:spPr>
            <a:xfrm>
              <a:off x="1979640" y="429264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65" name=""/>
            <p:cNvCxnSpPr>
              <a:stCxn id="148" idx="2"/>
              <a:endCxn id="166" idx="0"/>
            </p:cNvCxnSpPr>
            <p:nvPr/>
          </p:nvCxnSpPr>
          <p:spPr>
            <a:xfrm flipH="1">
              <a:off x="2626920" y="4291200"/>
              <a:ext cx="2181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67" name=""/>
            <p:cNvCxnSpPr>
              <a:stCxn id="148" idx="2"/>
              <a:endCxn id="168" idx="0"/>
            </p:cNvCxnSpPr>
            <p:nvPr/>
          </p:nvCxnSpPr>
          <p:spPr>
            <a:xfrm>
              <a:off x="2844720" y="4291200"/>
              <a:ext cx="2152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69" name=""/>
            <p:cNvCxnSpPr>
              <a:stCxn id="149" idx="2"/>
              <a:endCxn id="170" idx="0"/>
            </p:cNvCxnSpPr>
            <p:nvPr/>
          </p:nvCxnSpPr>
          <p:spPr>
            <a:xfrm flipH="1">
              <a:off x="3490560" y="4291200"/>
              <a:ext cx="2181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171" name=""/>
            <p:cNvCxnSpPr>
              <a:stCxn id="149" idx="2"/>
              <a:endCxn id="172" idx="0"/>
            </p:cNvCxnSpPr>
            <p:nvPr/>
          </p:nvCxnSpPr>
          <p:spPr>
            <a:xfrm>
              <a:off x="3708000" y="4291200"/>
              <a:ext cx="21492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sp>
          <p:nvSpPr>
            <p:cNvPr id="158" name=""/>
            <p:cNvSpPr/>
            <p:nvPr/>
          </p:nvSpPr>
          <p:spPr>
            <a:xfrm>
              <a:off x="755640" y="457992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87280" y="457992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19280" y="457992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50920" y="457992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2920" y="457992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14560" y="457992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46560" y="457992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78200" y="457992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98560" y="48668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332000" y="48668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763640" y="48668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195640" y="48668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627280" y="48668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060720" y="48668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492360" y="48668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924360" y="48668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05760" y="35006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97760" y="285120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8480" y="40035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3760" y="457992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82120" y="40035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25080" y="40035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8720" y="40035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99640" y="35006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7040" y="457992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411280" y="249192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 flipH="1">
            <a:off x="900000" y="2924280"/>
            <a:ext cx="3060720" cy="1895400"/>
          </a:xfrm>
          <a:custGeom>
            <a:avLst/>
            <a:gdLst/>
            <a:ahLst/>
            <a:rect l="l" t="t" r="r" b="b"/>
            <a:pathLst>
              <a:path w="1928" h="1194">
                <a:moveTo>
                  <a:pt x="952" y="0"/>
                </a:moveTo>
                <a:cubicBezTo>
                  <a:pt x="1270" y="189"/>
                  <a:pt x="1588" y="378"/>
                  <a:pt x="1497" y="454"/>
                </a:cubicBezTo>
                <a:cubicBezTo>
                  <a:pt x="1406" y="530"/>
                  <a:pt x="363" y="401"/>
                  <a:pt x="408" y="454"/>
                </a:cubicBezTo>
                <a:cubicBezTo>
                  <a:pt x="453" y="507"/>
                  <a:pt x="1814" y="719"/>
                  <a:pt x="1769" y="772"/>
                </a:cubicBezTo>
                <a:cubicBezTo>
                  <a:pt x="1724" y="825"/>
                  <a:pt x="113" y="712"/>
                  <a:pt x="136" y="772"/>
                </a:cubicBezTo>
                <a:cubicBezTo>
                  <a:pt x="159" y="832"/>
                  <a:pt x="1928" y="1074"/>
                  <a:pt x="1905" y="1134"/>
                </a:cubicBezTo>
                <a:cubicBezTo>
                  <a:pt x="1882" y="1194"/>
                  <a:pt x="941" y="1164"/>
                  <a:pt x="0" y="1134"/>
                </a:cubicBezTo>
              </a:path>
            </a:pathLst>
          </a:custGeom>
          <a:noFill/>
          <a:ln w="57240">
            <a:solidFill>
              <a:srgbClr val="ff0000">
                <a:alpha val="50000"/>
              </a:srgbClr>
            </a:solidFill>
            <a:round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8360" y="2924280"/>
            <a:ext cx="3060720" cy="1895400"/>
          </a:xfrm>
          <a:custGeom>
            <a:avLst/>
            <a:gdLst/>
            <a:ahLst/>
            <a:rect l="l" t="t" r="r" b="b"/>
            <a:pathLst>
              <a:path w="1928" h="1194">
                <a:moveTo>
                  <a:pt x="952" y="0"/>
                </a:moveTo>
                <a:cubicBezTo>
                  <a:pt x="1270" y="189"/>
                  <a:pt x="1588" y="378"/>
                  <a:pt x="1497" y="454"/>
                </a:cubicBezTo>
                <a:cubicBezTo>
                  <a:pt x="1406" y="530"/>
                  <a:pt x="363" y="401"/>
                  <a:pt x="408" y="454"/>
                </a:cubicBezTo>
                <a:cubicBezTo>
                  <a:pt x="453" y="507"/>
                  <a:pt x="1814" y="719"/>
                  <a:pt x="1769" y="772"/>
                </a:cubicBezTo>
                <a:cubicBezTo>
                  <a:pt x="1724" y="825"/>
                  <a:pt x="113" y="712"/>
                  <a:pt x="136" y="772"/>
                </a:cubicBezTo>
                <a:cubicBezTo>
                  <a:pt x="159" y="832"/>
                  <a:pt x="1928" y="1074"/>
                  <a:pt x="1905" y="1134"/>
                </a:cubicBezTo>
                <a:cubicBezTo>
                  <a:pt x="1882" y="1194"/>
                  <a:pt x="941" y="1164"/>
                  <a:pt x="0" y="1134"/>
                </a:cubicBezTo>
              </a:path>
            </a:pathLst>
          </a:custGeom>
          <a:noFill/>
          <a:ln w="57240">
            <a:solidFill>
              <a:srgbClr val="ff0000">
                <a:alpha val="50000"/>
              </a:srgbClr>
            </a:solidFill>
            <a:round/>
            <a:headEnd len="lg" type="triangle" w="lg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B64-4C08-49C2-8F0B-797239F69D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5139360" y="2636640"/>
            <a:ext cx="3890880" cy="2735280"/>
            <a:chOff x="5139360" y="2636640"/>
            <a:chExt cx="3890880" cy="2735280"/>
          </a:xfrm>
        </p:grpSpPr>
        <p:sp>
          <p:nvSpPr>
            <p:cNvPr id="194" name=""/>
            <p:cNvSpPr/>
            <p:nvPr/>
          </p:nvSpPr>
          <p:spPr>
            <a:xfrm>
              <a:off x="5854680" y="3645360"/>
              <a:ext cx="7174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65600" y="4148280"/>
              <a:ext cx="43200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29240" y="4148280"/>
              <a:ext cx="43200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83400" y="3643560"/>
              <a:ext cx="7174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96120" y="4146840"/>
              <a:ext cx="4287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57960" y="4146840"/>
              <a:ext cx="43200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45240" y="2995920"/>
              <a:ext cx="86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1" name=""/>
            <p:cNvCxnSpPr>
              <a:stCxn id="200" idx="2"/>
              <a:endCxn id="194" idx="0"/>
            </p:cNvCxnSpPr>
            <p:nvPr/>
          </p:nvCxnSpPr>
          <p:spPr>
            <a:xfrm flipH="1">
              <a:off x="6212520" y="3284640"/>
              <a:ext cx="864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202" name=""/>
            <p:cNvCxnSpPr>
              <a:stCxn id="200" idx="2"/>
              <a:endCxn id="197" idx="0"/>
            </p:cNvCxnSpPr>
            <p:nvPr/>
          </p:nvCxnSpPr>
          <p:spPr>
            <a:xfrm>
              <a:off x="7076880" y="3285000"/>
              <a:ext cx="866160" cy="35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203" name=""/>
            <p:cNvCxnSpPr>
              <a:stCxn id="194" idx="2"/>
              <a:endCxn id="195" idx="0"/>
            </p:cNvCxnSpPr>
            <p:nvPr/>
          </p:nvCxnSpPr>
          <p:spPr>
            <a:xfrm flipH="1">
              <a:off x="5780880" y="3933720"/>
              <a:ext cx="4323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204" name=""/>
            <p:cNvCxnSpPr>
              <a:stCxn id="194" idx="2"/>
              <a:endCxn id="196" idx="0"/>
            </p:cNvCxnSpPr>
            <p:nvPr/>
          </p:nvCxnSpPr>
          <p:spPr>
            <a:xfrm>
              <a:off x="6213240" y="3933720"/>
              <a:ext cx="43272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205" name=""/>
            <p:cNvCxnSpPr>
              <a:stCxn id="197" idx="2"/>
              <a:endCxn id="198" idx="0"/>
            </p:cNvCxnSpPr>
            <p:nvPr/>
          </p:nvCxnSpPr>
          <p:spPr>
            <a:xfrm flipH="1">
              <a:off x="7509960" y="3932280"/>
              <a:ext cx="43272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206" name=""/>
            <p:cNvCxnSpPr>
              <a:stCxn id="197" idx="2"/>
              <a:endCxn id="199" idx="0"/>
            </p:cNvCxnSpPr>
            <p:nvPr/>
          </p:nvCxnSpPr>
          <p:spPr>
            <a:xfrm>
              <a:off x="7941960" y="3932280"/>
              <a:ext cx="4323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207" name=""/>
            <p:cNvCxnSpPr>
              <a:stCxn id="195" idx="2"/>
              <a:endCxn id="208" idx="0"/>
            </p:cNvCxnSpPr>
            <p:nvPr/>
          </p:nvCxnSpPr>
          <p:spPr>
            <a:xfrm flipH="1">
              <a:off x="5565240" y="443736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209" name=""/>
            <p:cNvCxnSpPr>
              <a:stCxn id="195" idx="2"/>
              <a:endCxn id="210" idx="0"/>
            </p:cNvCxnSpPr>
            <p:nvPr/>
          </p:nvCxnSpPr>
          <p:spPr>
            <a:xfrm>
              <a:off x="5781600" y="443736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211" name=""/>
            <p:cNvCxnSpPr>
              <a:stCxn id="196" idx="2"/>
              <a:endCxn id="212" idx="0"/>
            </p:cNvCxnSpPr>
            <p:nvPr/>
          </p:nvCxnSpPr>
          <p:spPr>
            <a:xfrm flipH="1">
              <a:off x="6428880" y="443736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213" name=""/>
            <p:cNvCxnSpPr>
              <a:stCxn id="196" idx="2"/>
              <a:endCxn id="214" idx="0"/>
            </p:cNvCxnSpPr>
            <p:nvPr/>
          </p:nvCxnSpPr>
          <p:spPr>
            <a:xfrm>
              <a:off x="6645240" y="443736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215" name=""/>
            <p:cNvCxnSpPr>
              <a:stCxn id="198" idx="2"/>
              <a:endCxn id="216" idx="0"/>
            </p:cNvCxnSpPr>
            <p:nvPr/>
          </p:nvCxnSpPr>
          <p:spPr>
            <a:xfrm flipH="1">
              <a:off x="7292520" y="4435920"/>
              <a:ext cx="2181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217" name=""/>
            <p:cNvCxnSpPr>
              <a:stCxn id="198" idx="2"/>
              <a:endCxn id="218" idx="0"/>
            </p:cNvCxnSpPr>
            <p:nvPr/>
          </p:nvCxnSpPr>
          <p:spPr>
            <a:xfrm>
              <a:off x="7510320" y="4435920"/>
              <a:ext cx="2152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219" name=""/>
            <p:cNvCxnSpPr>
              <a:stCxn id="199" idx="2"/>
              <a:endCxn id="220" idx="0"/>
            </p:cNvCxnSpPr>
            <p:nvPr/>
          </p:nvCxnSpPr>
          <p:spPr>
            <a:xfrm flipH="1">
              <a:off x="8156160" y="4435920"/>
              <a:ext cx="2181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221" name=""/>
            <p:cNvCxnSpPr>
              <a:stCxn id="199" idx="2"/>
              <a:endCxn id="222" idx="0"/>
            </p:cNvCxnSpPr>
            <p:nvPr/>
          </p:nvCxnSpPr>
          <p:spPr>
            <a:xfrm>
              <a:off x="8373600" y="4435920"/>
              <a:ext cx="21492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sp>
          <p:nvSpPr>
            <p:cNvPr id="208" name=""/>
            <p:cNvSpPr/>
            <p:nvPr/>
          </p:nvSpPr>
          <p:spPr>
            <a:xfrm>
              <a:off x="5421240" y="472464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52880" y="472464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4880" y="472464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16520" y="472464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48520" y="472464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80160" y="472464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12160" y="472464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3800" y="472464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564160" y="501156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997600" y="501156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429240" y="501156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861240" y="501156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292880" y="501156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726320" y="501156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8157960" y="501156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8589960" y="501156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18440" y="364536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10440" y="299592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84080" y="41482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39360" y="47246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94440" y="414828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94640" y="414828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58280" y="414828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69560" y="364536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698680" y="47246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7076880" y="26366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zione dell’esercizio 1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gnato il 29/02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Con n foglie e 2n-1 process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Input alle foglie output alla ra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mma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/* input alle fogli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 = log n -1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j =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i+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rdo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2n-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2n-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2n-2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2n-(2j+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mpo parallelo logarit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14F-98D9-4FD2-AB6D-9D8F3C00B9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zione dell’esercizio 2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gnato il 29/02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70549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Si adoperano RxC process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k = 1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h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C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h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0,j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j = 0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0,0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); b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0,0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0,j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0,j-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; b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0,j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0,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k &lt; R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C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i-1,j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; b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oiché bisogna caricare R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 elementi 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9280"/>
                <a:tab algn="l" pos="1073160"/>
                <a:tab algn="l" pos="1436760"/>
                <a:tab algn="l" pos="179064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mpo è pari a R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300720" y="1339920"/>
            <a:ext cx="2374920" cy="647640"/>
            <a:chOff x="6300720" y="1339920"/>
            <a:chExt cx="2374920" cy="647640"/>
          </a:xfrm>
        </p:grpSpPr>
        <p:cxnSp>
          <p:nvCxnSpPr>
            <p:cNvPr id="246" name=""/>
            <p:cNvCxnSpPr>
              <a:stCxn id="247" idx="3"/>
              <a:endCxn id="248" idx="1"/>
            </p:cNvCxnSpPr>
            <p:nvPr/>
          </p:nvCxnSpPr>
          <p:spPr>
            <a:xfrm>
              <a:off x="6875640" y="1628640"/>
              <a:ext cx="721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7" name=""/>
            <p:cNvSpPr/>
            <p:nvPr/>
          </p:nvSpPr>
          <p:spPr>
            <a:xfrm>
              <a:off x="6588360" y="148428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93080" y="148428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96360" y="148428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88360" y="148428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"/>
            <p:cNvCxnSpPr>
              <a:stCxn id="248" idx="3"/>
              <a:endCxn id="250" idx="1"/>
            </p:cNvCxnSpPr>
            <p:nvPr/>
          </p:nvCxnSpPr>
          <p:spPr>
            <a:xfrm>
              <a:off x="7883640" y="1628640"/>
              <a:ext cx="505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52" name=""/>
            <p:cNvCxnSpPr>
              <a:stCxn id="250" idx="2"/>
            </p:cNvCxnSpPr>
            <p:nvPr/>
          </p:nvCxnSpPr>
          <p:spPr>
            <a:xfrm>
              <a:off x="8532720" y="1771560"/>
              <a:ext cx="1080" cy="21636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53" name=""/>
            <p:cNvCxnSpPr>
              <a:stCxn id="248" idx="2"/>
            </p:cNvCxnSpPr>
            <p:nvPr/>
          </p:nvCxnSpPr>
          <p:spPr>
            <a:xfrm>
              <a:off x="7740360" y="1771560"/>
              <a:ext cx="1080" cy="21636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54" name=""/>
            <p:cNvCxnSpPr>
              <a:stCxn id="249" idx="2"/>
            </p:cNvCxnSpPr>
            <p:nvPr/>
          </p:nvCxnSpPr>
          <p:spPr>
            <a:xfrm>
              <a:off x="7237080" y="1771560"/>
              <a:ext cx="1080" cy="21636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55" name=""/>
            <p:cNvCxnSpPr>
              <a:stCxn id="247" idx="2"/>
            </p:cNvCxnSpPr>
            <p:nvPr/>
          </p:nvCxnSpPr>
          <p:spPr>
            <a:xfrm>
              <a:off x="6732360" y="1771560"/>
              <a:ext cx="1080" cy="21636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6732720" y="133992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00720" y="1625760"/>
              <a:ext cx="289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300720" y="3716280"/>
            <a:ext cx="2374920" cy="648000"/>
            <a:chOff x="6300720" y="3716280"/>
            <a:chExt cx="2374920" cy="648000"/>
          </a:xfrm>
        </p:grpSpPr>
        <p:cxnSp>
          <p:nvCxnSpPr>
            <p:cNvPr id="259" name=""/>
            <p:cNvCxnSpPr>
              <a:stCxn id="260" idx="3"/>
              <a:endCxn id="261" idx="1"/>
            </p:cNvCxnSpPr>
            <p:nvPr/>
          </p:nvCxnSpPr>
          <p:spPr>
            <a:xfrm>
              <a:off x="6875640" y="4004640"/>
              <a:ext cx="721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60" name=""/>
            <p:cNvSpPr/>
            <p:nvPr/>
          </p:nvSpPr>
          <p:spPr>
            <a:xfrm>
              <a:off x="6588360" y="3860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93080" y="3860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6360" y="3860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88360" y="3860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"/>
            <p:cNvCxnSpPr>
              <a:stCxn id="261" idx="3"/>
              <a:endCxn id="263" idx="1"/>
            </p:cNvCxnSpPr>
            <p:nvPr/>
          </p:nvCxnSpPr>
          <p:spPr>
            <a:xfrm>
              <a:off x="7883640" y="4004640"/>
              <a:ext cx="505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65" name=""/>
            <p:cNvCxnSpPr>
              <a:stCxn id="263" idx="2"/>
            </p:cNvCxnSpPr>
            <p:nvPr/>
          </p:nvCxnSpPr>
          <p:spPr>
            <a:xfrm>
              <a:off x="8532720" y="4147920"/>
              <a:ext cx="1080" cy="21672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66" name=""/>
            <p:cNvCxnSpPr>
              <a:stCxn id="261" idx="2"/>
            </p:cNvCxnSpPr>
            <p:nvPr/>
          </p:nvCxnSpPr>
          <p:spPr>
            <a:xfrm>
              <a:off x="7740360" y="4147920"/>
              <a:ext cx="1080" cy="21672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67" name=""/>
            <p:cNvCxnSpPr>
              <a:stCxn id="262" idx="2"/>
            </p:cNvCxnSpPr>
            <p:nvPr/>
          </p:nvCxnSpPr>
          <p:spPr>
            <a:xfrm>
              <a:off x="7237080" y="4147920"/>
              <a:ext cx="1080" cy="21672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68" name=""/>
            <p:cNvCxnSpPr>
              <a:stCxn id="260" idx="2"/>
            </p:cNvCxnSpPr>
            <p:nvPr/>
          </p:nvCxnSpPr>
          <p:spPr>
            <a:xfrm>
              <a:off x="6732360" y="4147920"/>
              <a:ext cx="1080" cy="21672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6732720" y="371628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00720" y="4002120"/>
              <a:ext cx="289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516720" y="4724280"/>
            <a:ext cx="2232000" cy="1584720"/>
            <a:chOff x="6516720" y="4724280"/>
            <a:chExt cx="2232000" cy="1584720"/>
          </a:xfrm>
        </p:grpSpPr>
        <p:cxnSp>
          <p:nvCxnSpPr>
            <p:cNvPr id="272" name=""/>
            <p:cNvCxnSpPr/>
            <p:nvPr/>
          </p:nvCxnSpPr>
          <p:spPr>
            <a:xfrm>
              <a:off x="8461080" y="5876640"/>
              <a:ext cx="1080" cy="43272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73" name=""/>
            <p:cNvCxnSpPr/>
            <p:nvPr/>
          </p:nvCxnSpPr>
          <p:spPr>
            <a:xfrm>
              <a:off x="7669080" y="5876640"/>
              <a:ext cx="1080" cy="43272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74" name=""/>
            <p:cNvCxnSpPr/>
            <p:nvPr/>
          </p:nvCxnSpPr>
          <p:spPr>
            <a:xfrm>
              <a:off x="7165800" y="5876640"/>
              <a:ext cx="1080" cy="43272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75" name=""/>
            <p:cNvCxnSpPr/>
            <p:nvPr/>
          </p:nvCxnSpPr>
          <p:spPr>
            <a:xfrm>
              <a:off x="6660720" y="5876640"/>
              <a:ext cx="1080" cy="43272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76" name=""/>
            <p:cNvCxnSpPr>
              <a:stCxn id="277" idx="2"/>
              <a:endCxn id="278" idx="0"/>
            </p:cNvCxnSpPr>
            <p:nvPr/>
          </p:nvCxnSpPr>
          <p:spPr>
            <a:xfrm>
              <a:off x="6660720" y="501156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9" name=""/>
            <p:cNvCxnSpPr>
              <a:stCxn id="280" idx="2"/>
              <a:endCxn id="281" idx="0"/>
            </p:cNvCxnSpPr>
            <p:nvPr/>
          </p:nvCxnSpPr>
          <p:spPr>
            <a:xfrm>
              <a:off x="7165800" y="501156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stCxn id="283" idx="2"/>
              <a:endCxn id="284" idx="0"/>
            </p:cNvCxnSpPr>
            <p:nvPr/>
          </p:nvCxnSpPr>
          <p:spPr>
            <a:xfrm>
              <a:off x="7669080" y="501156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stCxn id="277" idx="3"/>
              <a:endCxn id="283" idx="1"/>
            </p:cNvCxnSpPr>
            <p:nvPr/>
          </p:nvCxnSpPr>
          <p:spPr>
            <a:xfrm>
              <a:off x="6804000" y="4868280"/>
              <a:ext cx="721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286" name=""/>
            <p:cNvCxnSpPr>
              <a:stCxn id="287" idx="1"/>
              <a:endCxn id="288" idx="3"/>
            </p:cNvCxnSpPr>
            <p:nvPr/>
          </p:nvCxnSpPr>
          <p:spPr>
            <a:xfrm flipH="1">
              <a:off x="6803640" y="5371560"/>
              <a:ext cx="721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289" name=""/>
            <p:cNvCxnSpPr>
              <a:stCxn id="284" idx="1"/>
              <a:endCxn id="278" idx="3"/>
            </p:cNvCxnSpPr>
            <p:nvPr/>
          </p:nvCxnSpPr>
          <p:spPr>
            <a:xfrm flipH="1">
              <a:off x="6803640" y="5876280"/>
              <a:ext cx="721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290" name=""/>
            <p:cNvCxnSpPr>
              <a:stCxn id="291" idx="2"/>
              <a:endCxn id="292" idx="0"/>
            </p:cNvCxnSpPr>
            <p:nvPr/>
          </p:nvCxnSpPr>
          <p:spPr>
            <a:xfrm>
              <a:off x="8461080" y="501156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7" name=""/>
            <p:cNvSpPr/>
            <p:nvPr/>
          </p:nvSpPr>
          <p:spPr>
            <a:xfrm>
              <a:off x="6516720" y="472428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21440" y="4724280"/>
              <a:ext cx="287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16720" y="522756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21440" y="5227560"/>
              <a:ext cx="287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24720" y="4724280"/>
              <a:ext cx="287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524720" y="5227560"/>
              <a:ext cx="287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16720" y="573228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21440" y="5732280"/>
              <a:ext cx="287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24720" y="5732280"/>
              <a:ext cx="287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17080" y="472428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317080" y="522756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17080" y="573228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83" idx="3"/>
              <a:endCxn id="291" idx="1"/>
            </p:cNvCxnSpPr>
            <p:nvPr/>
          </p:nvCxnSpPr>
          <p:spPr>
            <a:xfrm>
              <a:off x="7812360" y="4868280"/>
              <a:ext cx="505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96" name=""/>
            <p:cNvCxnSpPr>
              <a:stCxn id="294" idx="1"/>
              <a:endCxn id="287" idx="3"/>
            </p:cNvCxnSpPr>
            <p:nvPr/>
          </p:nvCxnSpPr>
          <p:spPr>
            <a:xfrm flipH="1">
              <a:off x="7812000" y="5371560"/>
              <a:ext cx="505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297" name=""/>
            <p:cNvCxnSpPr>
              <a:stCxn id="292" idx="1"/>
              <a:endCxn id="284" idx="3"/>
            </p:cNvCxnSpPr>
            <p:nvPr/>
          </p:nvCxnSpPr>
          <p:spPr>
            <a:xfrm flipH="1">
              <a:off x="7812000" y="5876280"/>
              <a:ext cx="505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sp>
          <p:nvSpPr>
            <p:cNvPr id="298" name=""/>
            <p:cNvSpPr/>
            <p:nvPr/>
          </p:nvSpPr>
          <p:spPr>
            <a:xfrm>
              <a:off x="8748720" y="4868640"/>
              <a:ext cx="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588000" y="2349360"/>
            <a:ext cx="2232000" cy="1006200"/>
            <a:chOff x="6588000" y="2349360"/>
            <a:chExt cx="2232000" cy="1006200"/>
          </a:xfrm>
        </p:grpSpPr>
        <p:cxnSp>
          <p:nvCxnSpPr>
            <p:cNvPr id="300" name=""/>
            <p:cNvCxnSpPr>
              <a:stCxn id="301" idx="2"/>
              <a:endCxn id="302" idx="0"/>
            </p:cNvCxnSpPr>
            <p:nvPr/>
          </p:nvCxnSpPr>
          <p:spPr>
            <a:xfrm>
              <a:off x="6732000" y="2636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3" name=""/>
            <p:cNvCxnSpPr>
              <a:stCxn id="304" idx="2"/>
              <a:endCxn id="305" idx="0"/>
            </p:cNvCxnSpPr>
            <p:nvPr/>
          </p:nvCxnSpPr>
          <p:spPr>
            <a:xfrm>
              <a:off x="7236720" y="2636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6" name=""/>
            <p:cNvCxnSpPr>
              <a:stCxn id="307" idx="2"/>
              <a:endCxn id="308" idx="0"/>
            </p:cNvCxnSpPr>
            <p:nvPr/>
          </p:nvCxnSpPr>
          <p:spPr>
            <a:xfrm>
              <a:off x="7740000" y="2636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9" name=""/>
            <p:cNvCxnSpPr>
              <a:stCxn id="301" idx="3"/>
              <a:endCxn id="307" idx="1"/>
            </p:cNvCxnSpPr>
            <p:nvPr/>
          </p:nvCxnSpPr>
          <p:spPr>
            <a:xfrm>
              <a:off x="6875280" y="2493360"/>
              <a:ext cx="721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310" name=""/>
            <p:cNvCxnSpPr>
              <a:stCxn id="308" idx="1"/>
              <a:endCxn id="302" idx="3"/>
            </p:cNvCxnSpPr>
            <p:nvPr/>
          </p:nvCxnSpPr>
          <p:spPr>
            <a:xfrm flipH="1">
              <a:off x="6874920" y="2996640"/>
              <a:ext cx="721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311" name=""/>
            <p:cNvCxnSpPr>
              <a:stCxn id="312" idx="2"/>
              <a:endCxn id="313" idx="0"/>
            </p:cNvCxnSpPr>
            <p:nvPr/>
          </p:nvCxnSpPr>
          <p:spPr>
            <a:xfrm>
              <a:off x="8532360" y="2636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1" name=""/>
            <p:cNvSpPr/>
            <p:nvPr/>
          </p:nvSpPr>
          <p:spPr>
            <a:xfrm>
              <a:off x="6588000" y="234936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92720" y="234936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88000" y="2852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92720" y="2852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96000" y="234936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96000" y="2852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88000" y="234936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88000" y="2852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4" name=""/>
            <p:cNvCxnSpPr>
              <a:stCxn id="307" idx="3"/>
              <a:endCxn id="312" idx="1"/>
            </p:cNvCxnSpPr>
            <p:nvPr/>
          </p:nvCxnSpPr>
          <p:spPr>
            <a:xfrm>
              <a:off x="7883280" y="2493360"/>
              <a:ext cx="505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315" name=""/>
            <p:cNvCxnSpPr>
              <a:stCxn id="313" idx="1"/>
              <a:endCxn id="308" idx="3"/>
            </p:cNvCxnSpPr>
            <p:nvPr/>
          </p:nvCxnSpPr>
          <p:spPr>
            <a:xfrm flipH="1">
              <a:off x="7882920" y="2996640"/>
              <a:ext cx="505440" cy="108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sp>
          <p:nvSpPr>
            <p:cNvPr id="316" name=""/>
            <p:cNvSpPr/>
            <p:nvPr/>
          </p:nvSpPr>
          <p:spPr>
            <a:xfrm>
              <a:off x="8820000" y="249372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"/>
            <p:cNvCxnSpPr/>
            <p:nvPr/>
          </p:nvCxnSpPr>
          <p:spPr>
            <a:xfrm>
              <a:off x="8532360" y="3139560"/>
              <a:ext cx="1080" cy="21636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318" name=""/>
            <p:cNvCxnSpPr/>
            <p:nvPr/>
          </p:nvCxnSpPr>
          <p:spPr>
            <a:xfrm>
              <a:off x="7740000" y="3139560"/>
              <a:ext cx="1080" cy="21636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319" name=""/>
            <p:cNvCxnSpPr/>
            <p:nvPr/>
          </p:nvCxnSpPr>
          <p:spPr>
            <a:xfrm>
              <a:off x="7236720" y="3139560"/>
              <a:ext cx="1080" cy="21636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  <p:cxnSp>
          <p:nvCxnSpPr>
            <p:cNvPr id="320" name=""/>
            <p:cNvCxnSpPr/>
            <p:nvPr/>
          </p:nvCxnSpPr>
          <p:spPr>
            <a:xfrm>
              <a:off x="6732000" y="3139560"/>
              <a:ext cx="1080" cy="21636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29A-588D-4254-B6F9-A6E63AF1BD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Si adoperano n=2</a:t>
            </a:r>
            <a:r>
              <a:rPr b="1" lang="it-IT" sz="1600" spc="-1" strike="noStrike" baseline="30000">
                <a:solidFill>
                  <a:srgbClr val="ff0000"/>
                </a:solidFill>
                <a:latin typeface="Arial"/>
              </a:rPr>
              <a:t>d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 process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ha profondità d(i) =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og(i+1)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 corrisponde a P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c(i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ove c(i) = i-2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d(i)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); b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s = 1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); b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i attivo al passo s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c(i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; b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i attivo al passo s)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0 % 2</a:t>
            </a:r>
            <a:r>
              <a:rPr b="1" lang="it-IT" sz="1600" spc="-1" strike="noStrike" baseline="30000">
                <a:solidFill>
                  <a:srgbClr val="000000"/>
                </a:solidFill>
                <a:latin typeface="Arial"/>
              </a:rPr>
              <a:t>d(i)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oiché bisogna caricare n elementi il tempo è pari a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zione dell’esercizio 3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gnato il 29/02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7020000" y="2205000"/>
            <a:ext cx="1512360" cy="1511280"/>
            <a:chOff x="7020000" y="2205000"/>
            <a:chExt cx="1512360" cy="1511280"/>
          </a:xfrm>
        </p:grpSpPr>
        <p:sp>
          <p:nvSpPr>
            <p:cNvPr id="324" name=""/>
            <p:cNvSpPr/>
            <p:nvPr/>
          </p:nvSpPr>
          <p:spPr>
            <a:xfrm>
              <a:off x="7020000" y="256536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85080" y="2565360"/>
              <a:ext cx="28692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20000" y="342900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85080" y="3429000"/>
              <a:ext cx="2869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8" name=""/>
            <p:cNvCxnSpPr>
              <a:stCxn id="324" idx="2"/>
              <a:endCxn id="326" idx="0"/>
            </p:cNvCxnSpPr>
            <p:nvPr/>
          </p:nvCxnSpPr>
          <p:spPr>
            <a:xfrm>
              <a:off x="7164000" y="2853000"/>
              <a:ext cx="108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9" name=""/>
            <p:cNvCxnSpPr>
              <a:stCxn id="326" idx="3"/>
              <a:endCxn id="327" idx="1"/>
            </p:cNvCxnSpPr>
            <p:nvPr/>
          </p:nvCxnSpPr>
          <p:spPr>
            <a:xfrm>
              <a:off x="7307280" y="3573360"/>
              <a:ext cx="578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0" name=""/>
            <p:cNvCxnSpPr>
              <a:stCxn id="327" idx="0"/>
              <a:endCxn id="325" idx="2"/>
            </p:cNvCxnSpPr>
            <p:nvPr/>
          </p:nvCxnSpPr>
          <p:spPr>
            <a:xfrm flipV="1">
              <a:off x="8029080" y="2853000"/>
              <a:ext cx="108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1" name=""/>
            <p:cNvCxnSpPr>
              <a:stCxn id="325" idx="1"/>
              <a:endCxn id="324" idx="3"/>
            </p:cNvCxnSpPr>
            <p:nvPr/>
          </p:nvCxnSpPr>
          <p:spPr>
            <a:xfrm flipH="1">
              <a:off x="7306920" y="2709720"/>
              <a:ext cx="578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2" name=""/>
            <p:cNvSpPr/>
            <p:nvPr/>
          </p:nvSpPr>
          <p:spPr>
            <a:xfrm>
              <a:off x="7380000" y="220500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45440" y="2205000"/>
              <a:ext cx="28692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80000" y="3068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45440" y="3068640"/>
              <a:ext cx="2869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"/>
            <p:cNvCxnSpPr>
              <a:stCxn id="332" idx="2"/>
              <a:endCxn id="334" idx="0"/>
            </p:cNvCxnSpPr>
            <p:nvPr/>
          </p:nvCxnSpPr>
          <p:spPr>
            <a:xfrm>
              <a:off x="7524360" y="2492640"/>
              <a:ext cx="108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7" name=""/>
            <p:cNvCxnSpPr>
              <a:stCxn id="334" idx="3"/>
              <a:endCxn id="335" idx="1"/>
            </p:cNvCxnSpPr>
            <p:nvPr/>
          </p:nvCxnSpPr>
          <p:spPr>
            <a:xfrm>
              <a:off x="7667640" y="3213000"/>
              <a:ext cx="578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8" name=""/>
            <p:cNvCxnSpPr>
              <a:stCxn id="335" idx="0"/>
              <a:endCxn id="333" idx="2"/>
            </p:cNvCxnSpPr>
            <p:nvPr/>
          </p:nvCxnSpPr>
          <p:spPr>
            <a:xfrm flipV="1">
              <a:off x="8389440" y="2492640"/>
              <a:ext cx="108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9" name=""/>
            <p:cNvCxnSpPr>
              <a:stCxn id="333" idx="1"/>
              <a:endCxn id="332" idx="3"/>
            </p:cNvCxnSpPr>
            <p:nvPr/>
          </p:nvCxnSpPr>
          <p:spPr>
            <a:xfrm flipH="1">
              <a:off x="7667280" y="2349360"/>
              <a:ext cx="578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40" name=""/>
            <p:cNvSpPr/>
            <p:nvPr/>
          </p:nvSpPr>
          <p:spPr>
            <a:xfrm flipV="1">
              <a:off x="7308720" y="2492640"/>
              <a:ext cx="7092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8172360" y="2492640"/>
              <a:ext cx="7092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8172360" y="3357360"/>
              <a:ext cx="709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7308720" y="3357360"/>
              <a:ext cx="709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732720" y="3573360"/>
            <a:ext cx="288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E4E-E69D-420E-A3FE-34AFEB61DA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Si adoperano n=2</a:t>
            </a:r>
            <a:r>
              <a:rPr b="1" lang="it-IT" sz="1800" spc="-1" strike="noStrike" baseline="30000">
                <a:solidFill>
                  <a:srgbClr val="ff0000"/>
                </a:solidFill>
                <a:latin typeface="Arial"/>
              </a:rPr>
              <a:t>d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process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 profondità d(i) =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g(i+1)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corrisponde a 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c(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ove c(i) = i-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d(i)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); b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 = 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lastBit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); b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c(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 b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stBit(s) è l’indice del bit meno significativo pari ad 1 in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iché bisogna caricare n elementi il tempo è pari a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zione alternativa per l’es. 3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gnato il 29/02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020000" y="2205000"/>
            <a:ext cx="1512360" cy="1511280"/>
            <a:chOff x="7020000" y="2205000"/>
            <a:chExt cx="1512360" cy="1511280"/>
          </a:xfrm>
        </p:grpSpPr>
        <p:sp>
          <p:nvSpPr>
            <p:cNvPr id="348" name=""/>
            <p:cNvSpPr/>
            <p:nvPr/>
          </p:nvSpPr>
          <p:spPr>
            <a:xfrm>
              <a:off x="7020000" y="256536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85080" y="2565360"/>
              <a:ext cx="28692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20000" y="342900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85080" y="3429000"/>
              <a:ext cx="2869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2" name=""/>
            <p:cNvCxnSpPr>
              <a:stCxn id="348" idx="2"/>
              <a:endCxn id="350" idx="0"/>
            </p:cNvCxnSpPr>
            <p:nvPr/>
          </p:nvCxnSpPr>
          <p:spPr>
            <a:xfrm>
              <a:off x="7164000" y="2853000"/>
              <a:ext cx="108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53" name=""/>
            <p:cNvCxnSpPr>
              <a:stCxn id="350" idx="3"/>
              <a:endCxn id="351" idx="1"/>
            </p:cNvCxnSpPr>
            <p:nvPr/>
          </p:nvCxnSpPr>
          <p:spPr>
            <a:xfrm>
              <a:off x="7307280" y="3573360"/>
              <a:ext cx="578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54" name=""/>
            <p:cNvCxnSpPr>
              <a:stCxn id="351" idx="0"/>
              <a:endCxn id="349" idx="2"/>
            </p:cNvCxnSpPr>
            <p:nvPr/>
          </p:nvCxnSpPr>
          <p:spPr>
            <a:xfrm flipV="1">
              <a:off x="8029080" y="2853000"/>
              <a:ext cx="108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55" name=""/>
            <p:cNvCxnSpPr>
              <a:stCxn id="349" idx="1"/>
              <a:endCxn id="348" idx="3"/>
            </p:cNvCxnSpPr>
            <p:nvPr/>
          </p:nvCxnSpPr>
          <p:spPr>
            <a:xfrm flipH="1">
              <a:off x="7306920" y="2709720"/>
              <a:ext cx="578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56" name=""/>
            <p:cNvSpPr/>
            <p:nvPr/>
          </p:nvSpPr>
          <p:spPr>
            <a:xfrm>
              <a:off x="7380000" y="220500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45440" y="2205000"/>
              <a:ext cx="28692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80000" y="306864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45440" y="3068640"/>
              <a:ext cx="2869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0" name=""/>
            <p:cNvCxnSpPr>
              <a:stCxn id="356" idx="2"/>
              <a:endCxn id="358" idx="0"/>
            </p:cNvCxnSpPr>
            <p:nvPr/>
          </p:nvCxnSpPr>
          <p:spPr>
            <a:xfrm>
              <a:off x="7524360" y="2492640"/>
              <a:ext cx="108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1" name=""/>
            <p:cNvCxnSpPr>
              <a:stCxn id="358" idx="3"/>
              <a:endCxn id="359" idx="1"/>
            </p:cNvCxnSpPr>
            <p:nvPr/>
          </p:nvCxnSpPr>
          <p:spPr>
            <a:xfrm>
              <a:off x="7667640" y="3213000"/>
              <a:ext cx="578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2" name=""/>
            <p:cNvCxnSpPr>
              <a:stCxn id="359" idx="0"/>
              <a:endCxn id="357" idx="2"/>
            </p:cNvCxnSpPr>
            <p:nvPr/>
          </p:nvCxnSpPr>
          <p:spPr>
            <a:xfrm flipV="1">
              <a:off x="8389440" y="2492640"/>
              <a:ext cx="108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>
              <a:stCxn id="357" idx="1"/>
              <a:endCxn id="356" idx="3"/>
            </p:cNvCxnSpPr>
            <p:nvPr/>
          </p:nvCxnSpPr>
          <p:spPr>
            <a:xfrm flipH="1">
              <a:off x="7667280" y="2349360"/>
              <a:ext cx="578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64" name=""/>
            <p:cNvSpPr/>
            <p:nvPr/>
          </p:nvSpPr>
          <p:spPr>
            <a:xfrm flipV="1">
              <a:off x="7308720" y="2492640"/>
              <a:ext cx="7092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8172360" y="2492640"/>
              <a:ext cx="7092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8172360" y="3357360"/>
              <a:ext cx="709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308720" y="3357360"/>
              <a:ext cx="709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732720" y="3573360"/>
            <a:ext cx="288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B0E-D1CB-4F10-A1A0-7452A564A4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9:23:06Z</dcterms:created>
  <dc:creator>Utente della copia di valutazione di Office 2004</dc:creator>
  <dc:description/>
  <dc:language>en-US</dc:language>
  <cp:lastModifiedBy>Saverio Caminiti</cp:lastModifiedBy>
  <cp:lastPrinted>2008-02-15T15:49:41Z</cp:lastPrinted>
  <dcterms:modified xsi:type="dcterms:W3CDTF">2008-05-12T12:17:18Z</dcterms:modified>
  <cp:revision>271</cp:revision>
  <dc:subject/>
  <dc:title>Algoritmi Paralleli e Distribuiti</dc:title>
</cp:coreProperties>
</file>