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D548-2D11-4D3F-92FF-948F29516B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0D1-5C8B-4901-8C1F-7C40D930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89D-78A9-4952-8098-27E3E466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478-FB1C-4BFF-90B0-C96702EF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023-275B-4962-8BB6-F9849AAD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650F-BD1D-4A7A-A84E-6DECD8C9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B81A-2753-4282-A6A9-2A91ADD3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CDE1-4322-48AF-B2D7-E1480732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8F3B-C8ED-4C9B-8BA0-5A5EB671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32DC-B660-4174-9F16-3C38CAC7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6EFB-140D-4076-961C-1CB1B049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9B0D-60C3-4A11-955B-1C5BEE6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44C-408E-4357-A3BD-5158890C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AC14-ECCC-4465-A1DA-76CE280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742C-CDED-4548-A5AF-4EFA7366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7F23-0B86-49ED-8763-FFB04C0D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F6CA-F3BA-46AC-AE4D-B19077FF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A8E1-4996-4A82-8F3F-EAC7CB79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8F3-4615-4DA9-98D7-5FEAD55E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E5F-D169-4C6E-8179-06BF372B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3BF-A066-4408-8D55-EB69D6BE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64C-42E6-4300-8011-B3C8F9B8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843-2826-44A5-AFFC-231479D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DE1-8F2A-41BD-8137-D0C2F010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B5D-A49F-407D-9527-C99D6319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ECCB-ED00-43C5-9095-D29EAD721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9B03-3751-4590-8FD4-160474A03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332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zione del 28/02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mpio di Algoritmo su P-RAM di tipo C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i adoperano n process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99cc00"/>
                </a:solidFill>
                <a:latin typeface="Arial"/>
              </a:rPr>
              <a:t>Assumiamo A[ i ] tutti disti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rca(A, n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e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[ i ] =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dice = i    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/* lettura concorrente di x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o parallelo co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uò contenere elementi ripetuti allora più processori possono scrivere concorrentemente la variabi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il modello necessario in tal caso è la P-RAM CRCW con scrittura concorrente basata su priorità dei processori (es viene scritto il valore dato dal processore di indice massimo tra quelli che tentano di scrive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017-785F-48E0-9714-9D39094341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mpio di Algoritmo su P-RAM di tipo C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i adoperano n process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ercaRadici(padre, n)     /* una foresta di n nodi rappesentata tramite vettore dei padri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adre[ i ]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ul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radice[ i ] = padre[ i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radice [ i ] =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g n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radice[ i ] = radice[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radice[ i ]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]    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/* lettura concorrent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rad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84360" y="4061160"/>
            <a:ext cx="5847840" cy="2223360"/>
            <a:chOff x="2484360" y="4061160"/>
            <a:chExt cx="5847840" cy="2223360"/>
          </a:xfrm>
        </p:grpSpPr>
        <p:grpSp>
          <p:nvGrpSpPr>
            <p:cNvPr id="202" name=""/>
            <p:cNvGrpSpPr/>
            <p:nvPr/>
          </p:nvGrpSpPr>
          <p:grpSpPr>
            <a:xfrm>
              <a:off x="2484360" y="4061880"/>
              <a:ext cx="2172600" cy="2172240"/>
              <a:chOff x="2484360" y="4061880"/>
              <a:chExt cx="2172600" cy="2172240"/>
            </a:xfrm>
          </p:grpSpPr>
          <p:sp>
            <p:nvSpPr>
              <p:cNvPr id="203" name=""/>
              <p:cNvSpPr/>
              <p:nvPr/>
            </p:nvSpPr>
            <p:spPr>
              <a:xfrm>
                <a:off x="2484360" y="5983560"/>
                <a:ext cx="25056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734920" y="5731560"/>
                <a:ext cx="25092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86920" y="5479560"/>
                <a:ext cx="25092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38920" y="522864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90920" y="497664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41840" y="4724640"/>
                <a:ext cx="25056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93840" y="4472640"/>
                <a:ext cx="25056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45840" y="4221720"/>
                <a:ext cx="25056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" name=""/>
              <p:cNvCxnSpPr>
                <a:stCxn id="203" idx="7"/>
                <a:endCxn id="204" idx="3"/>
              </p:cNvCxnSpPr>
              <p:nvPr/>
            </p:nvCxnSpPr>
            <p:spPr>
              <a:xfrm flipV="1">
                <a:off x="2698200" y="5945760"/>
                <a:ext cx="73800" cy="74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12" name=""/>
              <p:cNvCxnSpPr>
                <a:stCxn id="204" idx="7"/>
                <a:endCxn id="205" idx="3"/>
              </p:cNvCxnSpPr>
              <p:nvPr/>
            </p:nvCxnSpPr>
            <p:spPr>
              <a:xfrm flipV="1">
                <a:off x="2949120" y="5693760"/>
                <a:ext cx="74520" cy="74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13" name=""/>
              <p:cNvCxnSpPr>
                <a:stCxn id="205" idx="7"/>
                <a:endCxn id="206" idx="3"/>
              </p:cNvCxnSpPr>
              <p:nvPr/>
            </p:nvCxnSpPr>
            <p:spPr>
              <a:xfrm flipV="1">
                <a:off x="3201120" y="5442120"/>
                <a:ext cx="74520" cy="73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14" name=""/>
              <p:cNvCxnSpPr>
                <a:stCxn id="206" idx="7"/>
                <a:endCxn id="207" idx="3"/>
              </p:cNvCxnSpPr>
              <p:nvPr/>
            </p:nvCxnSpPr>
            <p:spPr>
              <a:xfrm flipV="1">
                <a:off x="3453120" y="5190120"/>
                <a:ext cx="74520" cy="75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15" name=""/>
              <p:cNvCxnSpPr>
                <a:stCxn id="207" idx="7"/>
                <a:endCxn id="208" idx="3"/>
              </p:cNvCxnSpPr>
              <p:nvPr/>
            </p:nvCxnSpPr>
            <p:spPr>
              <a:xfrm flipV="1">
                <a:off x="3704760" y="4938120"/>
                <a:ext cx="73800" cy="75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16" name=""/>
              <p:cNvCxnSpPr>
                <a:stCxn id="208" idx="7"/>
                <a:endCxn id="209" idx="3"/>
              </p:cNvCxnSpPr>
              <p:nvPr/>
            </p:nvCxnSpPr>
            <p:spPr>
              <a:xfrm flipV="1">
                <a:off x="3956040" y="4686120"/>
                <a:ext cx="74520" cy="75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17" name=""/>
              <p:cNvCxnSpPr>
                <a:stCxn id="209" idx="7"/>
                <a:endCxn id="210" idx="3"/>
              </p:cNvCxnSpPr>
              <p:nvPr/>
            </p:nvCxnSpPr>
            <p:spPr>
              <a:xfrm flipV="1">
                <a:off x="4208040" y="4435560"/>
                <a:ext cx="74520" cy="7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18" name=""/>
              <p:cNvCxnSpPr>
                <a:stCxn id="210" idx="0"/>
                <a:endCxn id="210" idx="6"/>
              </p:cNvCxnSpPr>
              <p:nvPr/>
            </p:nvCxnSpPr>
            <p:spPr>
              <a:xfrm flipH="1" rot="16200000">
                <a:off x="4371480" y="4221360"/>
                <a:ext cx="126000" cy="126000"/>
              </a:xfrm>
              <a:prstGeom prst="curvedConnector5">
                <a:avLst>
                  <a:gd name="adj1" fmla="val -127220"/>
                  <a:gd name="adj2" fmla="val 113467"/>
                  <a:gd name="adj3" fmla="val -127220"/>
                </a:avLst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19" name=""/>
            <p:cNvGrpSpPr/>
            <p:nvPr/>
          </p:nvGrpSpPr>
          <p:grpSpPr>
            <a:xfrm>
              <a:off x="3591720" y="4061160"/>
              <a:ext cx="2172600" cy="2172600"/>
              <a:chOff x="3591720" y="4061160"/>
              <a:chExt cx="2172600" cy="2172600"/>
            </a:xfrm>
          </p:grpSpPr>
          <p:sp>
            <p:nvSpPr>
              <p:cNvPr id="220" name=""/>
              <p:cNvSpPr/>
              <p:nvPr/>
            </p:nvSpPr>
            <p:spPr>
              <a:xfrm>
                <a:off x="3591720" y="598284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42640" y="573084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094640" y="547848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46280" y="5227920"/>
                <a:ext cx="25092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98280" y="4975920"/>
                <a:ext cx="25092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49560" y="4723920"/>
                <a:ext cx="25056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01200" y="4471920"/>
                <a:ext cx="25056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53200" y="4221000"/>
                <a:ext cx="25056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8" name=""/>
              <p:cNvCxnSpPr>
                <a:stCxn id="227" idx="0"/>
                <a:endCxn id="227" idx="6"/>
              </p:cNvCxnSpPr>
              <p:nvPr/>
            </p:nvCxnSpPr>
            <p:spPr>
              <a:xfrm flipH="1" rot="16200000">
                <a:off x="5478840" y="4220640"/>
                <a:ext cx="126000" cy="126000"/>
              </a:xfrm>
              <a:prstGeom prst="curvedConnector5">
                <a:avLst>
                  <a:gd name="adj1" fmla="val -127220"/>
                  <a:gd name="adj2" fmla="val 113467"/>
                  <a:gd name="adj3" fmla="val -127220"/>
                </a:avLst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29" name=""/>
              <p:cNvCxnSpPr>
                <a:stCxn id="220" idx="0"/>
                <a:endCxn id="222" idx="2"/>
              </p:cNvCxnSpPr>
              <p:nvPr/>
            </p:nvCxnSpPr>
            <p:spPr>
              <a:xfrm flipH="1" flipV="1" rot="5400000">
                <a:off x="3716280" y="5604120"/>
                <a:ext cx="379080" cy="3780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0" name=""/>
              <p:cNvCxnSpPr>
                <a:stCxn id="221" idx="6"/>
                <a:endCxn id="223" idx="4"/>
              </p:cNvCxnSpPr>
              <p:nvPr/>
            </p:nvCxnSpPr>
            <p:spPr>
              <a:xfrm flipV="1">
                <a:off x="4093560" y="5477760"/>
                <a:ext cx="378720" cy="3783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1" name=""/>
              <p:cNvCxnSpPr>
                <a:stCxn id="222" idx="0"/>
                <a:endCxn id="224" idx="2"/>
              </p:cNvCxnSpPr>
              <p:nvPr/>
            </p:nvCxnSpPr>
            <p:spPr>
              <a:xfrm flipH="1" flipV="1" rot="5400000">
                <a:off x="4219920" y="5100120"/>
                <a:ext cx="378000" cy="379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2" name=""/>
              <p:cNvCxnSpPr>
                <a:stCxn id="223" idx="6"/>
                <a:endCxn id="225" idx="4"/>
              </p:cNvCxnSpPr>
              <p:nvPr/>
            </p:nvCxnSpPr>
            <p:spPr>
              <a:xfrm flipV="1">
                <a:off x="4597560" y="4973760"/>
                <a:ext cx="378000" cy="379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3" name=""/>
              <p:cNvCxnSpPr>
                <a:stCxn id="224" idx="0"/>
                <a:endCxn id="226" idx="2"/>
              </p:cNvCxnSpPr>
              <p:nvPr/>
            </p:nvCxnSpPr>
            <p:spPr>
              <a:xfrm flipH="1" flipV="1" rot="5400000">
                <a:off x="4723200" y="4597200"/>
                <a:ext cx="379080" cy="3780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4" name=""/>
              <p:cNvCxnSpPr>
                <a:stCxn id="225" idx="6"/>
                <a:endCxn id="227" idx="4"/>
              </p:cNvCxnSpPr>
              <p:nvPr/>
            </p:nvCxnSpPr>
            <p:spPr>
              <a:xfrm flipV="1">
                <a:off x="5099760" y="4471560"/>
                <a:ext cx="379080" cy="3780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26" idx="7"/>
                <a:endCxn id="227" idx="3"/>
              </p:cNvCxnSpPr>
              <p:nvPr/>
            </p:nvCxnSpPr>
            <p:spPr>
              <a:xfrm flipV="1">
                <a:off x="5315400" y="4434480"/>
                <a:ext cx="74520" cy="73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36" name=""/>
            <p:cNvGrpSpPr/>
            <p:nvPr/>
          </p:nvGrpSpPr>
          <p:grpSpPr>
            <a:xfrm>
              <a:off x="4749840" y="4061160"/>
              <a:ext cx="2172240" cy="2172600"/>
              <a:chOff x="4749840" y="4061160"/>
              <a:chExt cx="2172240" cy="2172600"/>
            </a:xfrm>
          </p:grpSpPr>
          <p:sp>
            <p:nvSpPr>
              <p:cNvPr id="237" name=""/>
              <p:cNvSpPr/>
              <p:nvPr/>
            </p:nvSpPr>
            <p:spPr>
              <a:xfrm>
                <a:off x="4749840" y="5982840"/>
                <a:ext cx="25056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00400" y="573084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52400" y="547848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04400" y="5227920"/>
                <a:ext cx="25092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56400" y="4975920"/>
                <a:ext cx="25092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07320" y="4723920"/>
                <a:ext cx="25092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259320" y="4471920"/>
                <a:ext cx="25092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11320" y="422100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5" name=""/>
              <p:cNvCxnSpPr>
                <a:stCxn id="244" idx="0"/>
                <a:endCxn id="244" idx="6"/>
              </p:cNvCxnSpPr>
              <p:nvPr/>
            </p:nvCxnSpPr>
            <p:spPr>
              <a:xfrm flipH="1" rot="16200000">
                <a:off x="6636600" y="4220640"/>
                <a:ext cx="126000" cy="126000"/>
              </a:xfrm>
              <a:prstGeom prst="curvedConnector5">
                <a:avLst>
                  <a:gd name="adj1" fmla="val -127220"/>
                  <a:gd name="adj2" fmla="val 113467"/>
                  <a:gd name="adj3" fmla="val -127220"/>
                </a:avLst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46" name=""/>
              <p:cNvCxnSpPr>
                <a:stCxn id="237" idx="0"/>
                <a:endCxn id="241" idx="2"/>
              </p:cNvCxnSpPr>
              <p:nvPr/>
            </p:nvCxnSpPr>
            <p:spPr>
              <a:xfrm flipH="1" flipV="1" rot="5400000">
                <a:off x="4874400" y="5100840"/>
                <a:ext cx="882000" cy="8816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47" name=""/>
              <p:cNvCxnSpPr>
                <a:stCxn id="238" idx="6"/>
                <a:endCxn id="242" idx="4"/>
              </p:cNvCxnSpPr>
              <p:nvPr/>
            </p:nvCxnSpPr>
            <p:spPr>
              <a:xfrm flipV="1">
                <a:off x="5250960" y="4973760"/>
                <a:ext cx="881640" cy="8823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48" name=""/>
              <p:cNvCxnSpPr>
                <a:stCxn id="239" idx="0"/>
                <a:endCxn id="243" idx="2"/>
              </p:cNvCxnSpPr>
              <p:nvPr/>
            </p:nvCxnSpPr>
            <p:spPr>
              <a:xfrm flipH="1" flipV="1" rot="5400000">
                <a:off x="5377320" y="4596840"/>
                <a:ext cx="882000" cy="8816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49" name=""/>
              <p:cNvCxnSpPr>
                <a:stCxn id="240" idx="6"/>
                <a:endCxn id="244" idx="5"/>
              </p:cNvCxnSpPr>
              <p:nvPr/>
            </p:nvCxnSpPr>
            <p:spPr>
              <a:xfrm flipV="1">
                <a:off x="5755320" y="4434840"/>
                <a:ext cx="970560" cy="918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50" name=""/>
              <p:cNvCxnSpPr>
                <a:stCxn id="241" idx="0"/>
                <a:endCxn id="244" idx="2"/>
              </p:cNvCxnSpPr>
              <p:nvPr/>
            </p:nvCxnSpPr>
            <p:spPr>
              <a:xfrm flipH="1" flipV="1" rot="5400000">
                <a:off x="5881680" y="4345920"/>
                <a:ext cx="630360" cy="6300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51" name=""/>
              <p:cNvCxnSpPr>
                <a:stCxn id="242" idx="6"/>
                <a:endCxn id="244" idx="4"/>
              </p:cNvCxnSpPr>
              <p:nvPr/>
            </p:nvCxnSpPr>
            <p:spPr>
              <a:xfrm flipV="1">
                <a:off x="6258240" y="4471560"/>
                <a:ext cx="378720" cy="3780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52" name=""/>
              <p:cNvCxnSpPr>
                <a:stCxn id="243" idx="7"/>
                <a:endCxn id="244" idx="3"/>
              </p:cNvCxnSpPr>
              <p:nvPr/>
            </p:nvCxnSpPr>
            <p:spPr>
              <a:xfrm flipV="1">
                <a:off x="6473520" y="4434480"/>
                <a:ext cx="74520" cy="73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53" name=""/>
            <p:cNvGrpSpPr/>
            <p:nvPr/>
          </p:nvGrpSpPr>
          <p:grpSpPr>
            <a:xfrm>
              <a:off x="6159600" y="4111920"/>
              <a:ext cx="2172600" cy="2172600"/>
              <a:chOff x="6159600" y="4111920"/>
              <a:chExt cx="2172600" cy="2172600"/>
            </a:xfrm>
          </p:grpSpPr>
          <p:sp>
            <p:nvSpPr>
              <p:cNvPr id="254" name=""/>
              <p:cNvSpPr/>
              <p:nvPr/>
            </p:nvSpPr>
            <p:spPr>
              <a:xfrm>
                <a:off x="6159600" y="6033600"/>
                <a:ext cx="25056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10160" y="578160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62160" y="552924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14160" y="527832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66160" y="5026320"/>
                <a:ext cx="25092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17080" y="4774320"/>
                <a:ext cx="25056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9080" y="4522320"/>
                <a:ext cx="250560" cy="250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21080" y="4271760"/>
                <a:ext cx="250560" cy="250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2" name=""/>
              <p:cNvCxnSpPr>
                <a:stCxn id="261" idx="0"/>
                <a:endCxn id="261" idx="6"/>
              </p:cNvCxnSpPr>
              <p:nvPr/>
            </p:nvCxnSpPr>
            <p:spPr>
              <a:xfrm flipH="1" rot="16200000">
                <a:off x="8046720" y="4271400"/>
                <a:ext cx="126000" cy="126000"/>
              </a:xfrm>
              <a:prstGeom prst="curvedConnector5">
                <a:avLst>
                  <a:gd name="adj1" fmla="val -127220"/>
                  <a:gd name="adj2" fmla="val 113467"/>
                  <a:gd name="adj3" fmla="val -127220"/>
                </a:avLst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63" name=""/>
              <p:cNvCxnSpPr>
                <a:stCxn id="254" idx="0"/>
                <a:endCxn id="261" idx="2"/>
              </p:cNvCxnSpPr>
              <p:nvPr/>
            </p:nvCxnSpPr>
            <p:spPr>
              <a:xfrm flipH="1" flipV="1" rot="5400000">
                <a:off x="6284520" y="4396320"/>
                <a:ext cx="1636920" cy="16369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64" name=""/>
              <p:cNvCxnSpPr>
                <a:stCxn id="255" idx="6"/>
                <a:endCxn id="261" idx="5"/>
              </p:cNvCxnSpPr>
              <p:nvPr/>
            </p:nvCxnSpPr>
            <p:spPr>
              <a:xfrm flipV="1">
                <a:off x="6660720" y="4485240"/>
                <a:ext cx="1474920" cy="14216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65" name=""/>
              <p:cNvCxnSpPr>
                <a:stCxn id="256" idx="0"/>
                <a:endCxn id="261" idx="2"/>
              </p:cNvCxnSpPr>
              <p:nvPr/>
            </p:nvCxnSpPr>
            <p:spPr>
              <a:xfrm flipH="1" flipV="1" rot="5400000">
                <a:off x="6788160" y="4395960"/>
                <a:ext cx="1132920" cy="11340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66" name=""/>
              <p:cNvCxnSpPr>
                <a:stCxn id="257" idx="6"/>
                <a:endCxn id="261" idx="5"/>
              </p:cNvCxnSpPr>
              <p:nvPr/>
            </p:nvCxnSpPr>
            <p:spPr>
              <a:xfrm flipV="1">
                <a:off x="7164720" y="4485600"/>
                <a:ext cx="970920" cy="918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67" name=""/>
              <p:cNvCxnSpPr>
                <a:stCxn id="258" idx="0"/>
                <a:endCxn id="261" idx="2"/>
              </p:cNvCxnSpPr>
              <p:nvPr/>
            </p:nvCxnSpPr>
            <p:spPr>
              <a:xfrm flipH="1" flipV="1" rot="5400000">
                <a:off x="7291440" y="4396680"/>
                <a:ext cx="630000" cy="6300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68" name=""/>
              <p:cNvCxnSpPr>
                <a:stCxn id="259" idx="6"/>
                <a:endCxn id="261" idx="4"/>
              </p:cNvCxnSpPr>
              <p:nvPr/>
            </p:nvCxnSpPr>
            <p:spPr>
              <a:xfrm flipV="1">
                <a:off x="7667640" y="4521600"/>
                <a:ext cx="379080" cy="3783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69" name=""/>
              <p:cNvCxnSpPr>
                <a:stCxn id="260" idx="7"/>
                <a:endCxn id="261" idx="3"/>
              </p:cNvCxnSpPr>
              <p:nvPr/>
            </p:nvCxnSpPr>
            <p:spPr>
              <a:xfrm flipV="1">
                <a:off x="7883280" y="4485240"/>
                <a:ext cx="74520" cy="73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270" name=""/>
          <p:cNvSpPr/>
          <p:nvPr/>
        </p:nvSpPr>
        <p:spPr>
          <a:xfrm>
            <a:off x="7463520" y="5589720"/>
            <a:ext cx="114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empio 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ecu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 una cat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E0C-7A07-4FCF-8CFB-A3E805A3F3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mpio di Algoritmo su P-RAM di tipo CRC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i adoperano n</a:t>
            </a:r>
            <a:r>
              <a:rPr b="1" lang="it-IT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 process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rallelMax(A,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,0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[ i ] = 1;     /* inizializzazion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,j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A[ i ]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A[ j ]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M[ i ]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0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/* lettura concorrente su A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   scrittura concorrente di valore uguale su M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i,0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M[ i ]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risulta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= A[ i ]   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/* scrittura concorrente di valore ugual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risul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16040"/>
                <a:tab algn="l" pos="1079640"/>
                <a:tab algn="l" pos="1432080"/>
                <a:tab algn="l" pos="179532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mpo parallelo cos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075280" y="2133720"/>
            <a:ext cx="3384360" cy="1150920"/>
            <a:chOff x="5075280" y="2133720"/>
            <a:chExt cx="3384360" cy="1150920"/>
          </a:xfrm>
        </p:grpSpPr>
        <p:sp>
          <p:nvSpPr>
            <p:cNvPr id="274" name=""/>
            <p:cNvSpPr/>
            <p:nvPr/>
          </p:nvSpPr>
          <p:spPr>
            <a:xfrm>
              <a:off x="5075280" y="213372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2560" y="213372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51280" y="2133720"/>
              <a:ext cx="28764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38920" y="213372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27640" y="213372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14920" y="2133720"/>
              <a:ext cx="28764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04000" y="213372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91280" y="2133720"/>
              <a:ext cx="2872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1640" y="2133720"/>
              <a:ext cx="287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75280" y="25657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62560" y="25657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51280" y="2565720"/>
              <a:ext cx="287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38920" y="25657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27640" y="25657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14920" y="2565720"/>
              <a:ext cx="287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04000" y="25657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91280" y="256572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51640" y="2565720"/>
              <a:ext cx="287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91280" y="2997360"/>
              <a:ext cx="2872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51640" y="2997360"/>
              <a:ext cx="100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sul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53F-71A5-4789-AC09-12EC71A47B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i Concorr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gliamo analizzare come si deve progettare un algoritmo quando, per velocizzare la computazione, si vogliono usare contemporaneamente più entità addette al calcol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eremo 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zione parallela e algoritmi parall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zione distribuita e algoritmi distribu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D11-2D57-461F-A90A-6F2B02A7BE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za fra sistema concorrente e sistema sequenz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484280"/>
          <a:ext cx="7772400" cy="45399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 concorr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 sequenz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 entità di un sistema concorrente non conoscono lo stato globale, ma conoscono solo il loro stato e quello delle entità adiac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 decisioni prese si basano sullo stato globale del sistema (non è detto che l’accesso all’intero stato avvenga in una singola istruzi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lazione d’ordine temporale indotta  negli eventi che costituiscono l’esecuzione di un algoritmo concorrente non è totale: due entità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ossono richiedere di accedere contemporaneamente alla stessa risors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i eventi che costituiscono l’esecuzione di un algoritmo sequenziale sono totalmente ordinati: un process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ccede ad una risors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lo dopo che il process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a completato di usufruire della risors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ù computazioni sono possibili contemporanea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 un programma e un input solo una singola computazione é possi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B44-73CF-48E8-8D0C-8BF269057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lassificazione di Fly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SISD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: Single Instruction, Single Data; è la tradizionale macchina sequenziale di </a:t>
            </a: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Von Neumann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 in cui, ad ogni passo, l'unica unità di controllo esegue una sola istruzione che opera su di un singolo da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MISD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: Multiple Instructions, Single Data; (si tratta di un'estensione della macchina sequenziale SISD) in cui ogni processore esegue un'operazione differente da quella svolta dagli altri su di un singolo dato comune a tutti i processor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SIMD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: Single Instruction, Multiple Data; macchina in cui ogni processore esegue la stessa istruzione su dati differenti; essa costituisce il modello base per la </a:t>
            </a:r>
            <a:r>
              <a:rPr b="1" lang="it-IT" sz="2100" spc="-1" strike="noStrike">
                <a:solidFill>
                  <a:srgbClr val="ff0000"/>
                </a:solidFill>
                <a:latin typeface="Times New Roman"/>
              </a:rPr>
              <a:t>PRAM </a:t>
            </a:r>
            <a:r>
              <a:rPr b="0" lang="it-IT" sz="21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it-IT" sz="2100" spc="-1" strike="noStrike">
                <a:solidFill>
                  <a:srgbClr val="ff0000"/>
                </a:solidFill>
                <a:latin typeface="Times New Roman"/>
              </a:rPr>
              <a:t>Parallel Random Access Machine</a:t>
            </a:r>
            <a:r>
              <a:rPr b="0" lang="it-IT" sz="21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MIMD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: Multiple Instructions, Multiple Data; ogni processore ha un suo insieme di dati ed un suo insieme di istruzioni per elaborarli; i processori sono collegati attraverso reti di interconnessione </a:t>
            </a:r>
            <a:r>
              <a:rPr b="0" lang="it-IT" sz="21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it-IT" sz="2100" spc="-1" strike="noStrike">
                <a:solidFill>
                  <a:srgbClr val="ff0000"/>
                </a:solidFill>
                <a:latin typeface="Times New Roman"/>
              </a:rPr>
              <a:t>Sistemi Distribuiti</a:t>
            </a:r>
            <a:r>
              <a:rPr b="0" lang="it-IT" sz="21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CA7-2320-44F4-84B4-0CD23A6ADB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china parall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macchina parallela (P-RAM) è un insieme di processori, tipicamente dello stesso tipo, interconnessi in modo tale da consentire il coordinamento delle attività e lo scambio dei d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interconnessione è di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moria condivisa 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te di Interconnes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7EC-3FB8-4AF7-AF36-A5B5F68F4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onnessione a memoria condi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comunicazione tra processori avviene passando attraverso zone di memoria condivisa. Ulteriori distinzioni sono necessari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 seconda delle different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odalità di access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ent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62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REW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Exclusive Read, Exclusive Wri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62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REW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oncurrent Read, Exclusive Wri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62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RCW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Exclusive Read, Concurrent Wri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62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RCW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oncurrent Read, Concurrent Wri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61080" y="2852640"/>
            <a:ext cx="3527280" cy="1224000"/>
            <a:chOff x="4861080" y="2852640"/>
            <a:chExt cx="3527280" cy="1224000"/>
          </a:xfrm>
        </p:grpSpPr>
        <p:sp>
          <p:nvSpPr>
            <p:cNvPr id="104" name=""/>
            <p:cNvSpPr/>
            <p:nvPr/>
          </p:nvSpPr>
          <p:spPr>
            <a:xfrm>
              <a:off x="4861080" y="2852640"/>
              <a:ext cx="352728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32360" y="371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"/>
            <p:cNvCxnSpPr>
              <a:stCxn id="105" idx="0"/>
            </p:cNvCxnSpPr>
            <p:nvPr/>
          </p:nvCxnSpPr>
          <p:spPr>
            <a:xfrm flipV="1">
              <a:off x="5113080" y="3190320"/>
              <a:ext cx="396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7" name=""/>
            <p:cNvSpPr/>
            <p:nvPr/>
          </p:nvSpPr>
          <p:spPr>
            <a:xfrm>
              <a:off x="5508720" y="371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"/>
            <p:cNvCxnSpPr>
              <a:stCxn id="107" idx="0"/>
            </p:cNvCxnSpPr>
            <p:nvPr/>
          </p:nvCxnSpPr>
          <p:spPr>
            <a:xfrm flipV="1">
              <a:off x="5689440" y="3190320"/>
              <a:ext cx="396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6012000" y="371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9" idx="0"/>
            </p:cNvCxnSpPr>
            <p:nvPr/>
          </p:nvCxnSpPr>
          <p:spPr>
            <a:xfrm flipV="1">
              <a:off x="6192720" y="3190320"/>
              <a:ext cx="396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1" name=""/>
            <p:cNvSpPr/>
            <p:nvPr/>
          </p:nvSpPr>
          <p:spPr>
            <a:xfrm>
              <a:off x="7885080" y="3716280"/>
              <a:ext cx="36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"/>
            <p:cNvCxnSpPr>
              <a:stCxn id="111" idx="0"/>
            </p:cNvCxnSpPr>
            <p:nvPr/>
          </p:nvCxnSpPr>
          <p:spPr>
            <a:xfrm flipV="1">
              <a:off x="8065800" y="3190320"/>
              <a:ext cx="396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387-44C1-4792-AC72-75F3B0C31E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ittura Concor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i modelli a scrittura concorrente, qualora più processori accedano in scrittura ad una stessa locazione di memoria condivisa, è possibile adottare uno dei seguenti criteri di acces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57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permette la scrittura ad uno qualunque dei processori se i dati da inserire sono uguali fra lo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57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può stabilire una scala di priorità tra i processo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57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scrive nella cella di memoria una funzione di tutti i dati (ad esempio il massimo, lo xor, la som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4BF-241C-4AA7-8759-D6F714212D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 Paral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 algoritmo parallelo è un metodo di soluzione per un dato problema pensato per essere eseguito su una particolare macchina parall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 seguito si assumerà che l’esecuzione di un algoritmo su vari processori proceda in maniera sincrona e che i parametri delle funzioni siano passati per puntatore (ad eccezione del parametro n che si assume essere una costante nota a tutti i processor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374-FAFB-4D22-8220-5CB25B18CF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mpio di Algoritmo su P-RAM di tipo E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440" y="1484280"/>
            <a:ext cx="439092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qMax(A,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-1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[ i ] &gt; A[ 0 ]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[ 0 ] = A[ i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[ 0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21040" y="2924280"/>
            <a:ext cx="2769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avora un solo process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429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37240" y="3500280"/>
            <a:ext cx="273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i adoperano n process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3573360"/>
            <a:ext cx="48229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rMax(A,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g n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k-1)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[ j ] &lt; A[ j+k ]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[ j ] = A[ j+k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[ 0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3600"/>
                <a:tab algn="l" pos="7160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mpo parallelo logarit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175440" y="1341360"/>
            <a:ext cx="2356200" cy="1944720"/>
            <a:chOff x="6175440" y="1341360"/>
            <a:chExt cx="2356200" cy="1944720"/>
          </a:xfrm>
        </p:grpSpPr>
        <p:sp>
          <p:nvSpPr>
            <p:cNvPr id="124" name=""/>
            <p:cNvSpPr/>
            <p:nvPr/>
          </p:nvSpPr>
          <p:spPr>
            <a:xfrm>
              <a:off x="6175440" y="1341360"/>
              <a:ext cx="4334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[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07080" y="1341360"/>
              <a:ext cx="4334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[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39080" y="1341360"/>
              <a:ext cx="4334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70720" y="1341360"/>
              <a:ext cx="72072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"/>
            <p:cNvCxnSpPr>
              <a:stCxn id="124" idx="2"/>
              <a:endCxn id="129" idx="0"/>
            </p:cNvCxnSpPr>
            <p:nvPr/>
          </p:nvCxnSpPr>
          <p:spPr>
            <a:xfrm>
              <a:off x="6392520" y="155736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30" name=""/>
            <p:cNvCxnSpPr>
              <a:stCxn id="125" idx="2"/>
              <a:endCxn id="129" idx="0"/>
            </p:cNvCxnSpPr>
            <p:nvPr/>
          </p:nvCxnSpPr>
          <p:spPr>
            <a:xfrm flipH="1">
              <a:off x="6392160" y="1557360"/>
              <a:ext cx="43236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sp>
          <p:nvSpPr>
            <p:cNvPr id="131" name=""/>
            <p:cNvSpPr/>
            <p:nvPr/>
          </p:nvSpPr>
          <p:spPr>
            <a:xfrm>
              <a:off x="8394840" y="155736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65600" y="222552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5440" y="1774800"/>
              <a:ext cx="4334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07080" y="1774800"/>
              <a:ext cx="4334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39080" y="1774800"/>
              <a:ext cx="4334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[2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70720" y="1774800"/>
              <a:ext cx="72072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5440" y="2206800"/>
              <a:ext cx="43344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07080" y="2206800"/>
              <a:ext cx="43344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39080" y="2206800"/>
              <a:ext cx="43344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0720" y="2206800"/>
              <a:ext cx="72072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75440" y="3070080"/>
              <a:ext cx="4334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07080" y="3070080"/>
              <a:ext cx="4334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39080" y="3070080"/>
              <a:ext cx="4334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70720" y="3070080"/>
              <a:ext cx="72072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"/>
            <p:cNvCxnSpPr>
              <a:stCxn id="129" idx="2"/>
              <a:endCxn id="136" idx="0"/>
            </p:cNvCxnSpPr>
            <p:nvPr/>
          </p:nvCxnSpPr>
          <p:spPr>
            <a:xfrm>
              <a:off x="6392520" y="19908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45" name=""/>
            <p:cNvCxnSpPr>
              <a:stCxn id="134" idx="2"/>
              <a:endCxn id="136" idx="0"/>
            </p:cNvCxnSpPr>
            <p:nvPr/>
          </p:nvCxnSpPr>
          <p:spPr>
            <a:xfrm flipH="1">
              <a:off x="6392160" y="1990800"/>
              <a:ext cx="86436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46" name=""/>
            <p:cNvCxnSpPr/>
            <p:nvPr/>
          </p:nvCxnSpPr>
          <p:spPr>
            <a:xfrm>
              <a:off x="6392520" y="2422080"/>
              <a:ext cx="1080" cy="648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lg" type="stealth" w="sm"/>
            </a:ln>
          </p:spPr>
        </p:cxnSp>
        <p:cxnSp>
          <p:nvCxnSpPr>
            <p:cNvPr id="147" name=""/>
            <p:cNvCxnSpPr>
              <a:stCxn id="139" idx="2"/>
            </p:cNvCxnSpPr>
            <p:nvPr/>
          </p:nvCxnSpPr>
          <p:spPr>
            <a:xfrm flipH="1">
              <a:off x="6392160" y="2422080"/>
              <a:ext cx="1438920" cy="648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lg" type="stealth" w="sm"/>
            </a:ln>
          </p:spPr>
        </p:cxnSp>
      </p:grpSp>
      <p:grpSp>
        <p:nvGrpSpPr>
          <p:cNvPr id="148" name=""/>
          <p:cNvGrpSpPr/>
          <p:nvPr/>
        </p:nvGrpSpPr>
        <p:grpSpPr>
          <a:xfrm>
            <a:off x="5867280" y="3789360"/>
            <a:ext cx="2797200" cy="2160360"/>
            <a:chOff x="5867280" y="3789360"/>
            <a:chExt cx="2797200" cy="2160360"/>
          </a:xfrm>
        </p:grpSpPr>
        <p:sp>
          <p:nvSpPr>
            <p:cNvPr id="149" name=""/>
            <p:cNvSpPr/>
            <p:nvPr/>
          </p:nvSpPr>
          <p:spPr>
            <a:xfrm>
              <a:off x="8386560" y="400536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1480" y="4770360"/>
              <a:ext cx="513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67280" y="378936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54560" y="378936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43640" y="378936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2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0920" y="378936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3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9640" y="378936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4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06920" y="3789360"/>
              <a:ext cx="2876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5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96000" y="378936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6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83280" y="378936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7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7280" y="443700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67280" y="508644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67280" y="573408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54560" y="508644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3640" y="508644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2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30920" y="508644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3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9640" y="508644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4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06920" y="5086440"/>
              <a:ext cx="28764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5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6000" y="508644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6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83280" y="508644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7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54560" y="573408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43640" y="573408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2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30920" y="573408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3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19640" y="573408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4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06920" y="5734080"/>
              <a:ext cx="28764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5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000" y="573408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6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83280" y="5734080"/>
              <a:ext cx="28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7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4560" y="443700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43640" y="443700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30920" y="443700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9640" y="443700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4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06920" y="4437000"/>
              <a:ext cx="2876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5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96000" y="443700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6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83280" y="443700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[7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" name=""/>
            <p:cNvCxnSpPr>
              <a:stCxn id="151" idx="2"/>
              <a:endCxn id="159" idx="0"/>
            </p:cNvCxnSpPr>
            <p:nvPr/>
          </p:nvCxnSpPr>
          <p:spPr>
            <a:xfrm>
              <a:off x="6011280" y="400500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84" name=""/>
            <p:cNvCxnSpPr>
              <a:stCxn id="155" idx="2"/>
              <a:endCxn id="159" idx="0"/>
            </p:cNvCxnSpPr>
            <p:nvPr/>
          </p:nvCxnSpPr>
          <p:spPr>
            <a:xfrm flipH="1">
              <a:off x="6011280" y="4005000"/>
              <a:ext cx="115344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85" name=""/>
            <p:cNvCxnSpPr/>
            <p:nvPr/>
          </p:nvCxnSpPr>
          <p:spPr>
            <a:xfrm>
              <a:off x="6298560" y="400500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86" name=""/>
            <p:cNvCxnSpPr/>
            <p:nvPr/>
          </p:nvCxnSpPr>
          <p:spPr>
            <a:xfrm flipH="1">
              <a:off x="6298560" y="4005000"/>
              <a:ext cx="115344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87" name=""/>
            <p:cNvCxnSpPr/>
            <p:nvPr/>
          </p:nvCxnSpPr>
          <p:spPr>
            <a:xfrm>
              <a:off x="6585840" y="400500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88" name=""/>
            <p:cNvCxnSpPr/>
            <p:nvPr/>
          </p:nvCxnSpPr>
          <p:spPr>
            <a:xfrm flipH="1">
              <a:off x="6585840" y="4005000"/>
              <a:ext cx="115344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89" name=""/>
            <p:cNvCxnSpPr/>
            <p:nvPr/>
          </p:nvCxnSpPr>
          <p:spPr>
            <a:xfrm>
              <a:off x="6873480" y="400500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90" name=""/>
            <p:cNvCxnSpPr/>
            <p:nvPr/>
          </p:nvCxnSpPr>
          <p:spPr>
            <a:xfrm flipH="1">
              <a:off x="6873480" y="4005000"/>
              <a:ext cx="115272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91" name=""/>
            <p:cNvCxnSpPr/>
            <p:nvPr/>
          </p:nvCxnSpPr>
          <p:spPr>
            <a:xfrm>
              <a:off x="6009840" y="465264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92" name=""/>
            <p:cNvCxnSpPr>
              <a:stCxn id="177" idx="2"/>
            </p:cNvCxnSpPr>
            <p:nvPr/>
          </p:nvCxnSpPr>
          <p:spPr>
            <a:xfrm flipH="1">
              <a:off x="6009480" y="4652640"/>
              <a:ext cx="57852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6009840" y="5302080"/>
              <a:ext cx="10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94" name=""/>
            <p:cNvCxnSpPr>
              <a:stCxn id="162" idx="2"/>
            </p:cNvCxnSpPr>
            <p:nvPr/>
          </p:nvCxnSpPr>
          <p:spPr>
            <a:xfrm flipH="1">
              <a:off x="6009840" y="5302080"/>
              <a:ext cx="28944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95" name=""/>
            <p:cNvCxnSpPr/>
            <p:nvPr/>
          </p:nvCxnSpPr>
          <p:spPr>
            <a:xfrm>
              <a:off x="6298560" y="465264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96" name=""/>
            <p:cNvCxnSpPr/>
            <p:nvPr/>
          </p:nvCxnSpPr>
          <p:spPr>
            <a:xfrm flipH="1">
              <a:off x="6298200" y="4652640"/>
              <a:ext cx="57852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33C-560C-4690-826D-F956E3BC58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2-15T15:49:41Z</cp:lastPrinted>
  <dcterms:modified xsi:type="dcterms:W3CDTF">2008-02-29T13:20:50Z</dcterms:modified>
  <cp:revision>221</cp:revision>
  <dc:subject/>
  <dc:title>Algoritmi Paralleli e Distribuiti</dc:title>
</cp:coreProperties>
</file>