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925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562464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3269880" y="509760"/>
            <a:ext cx="3398760" cy="254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6457680"/>
            <a:ext cx="430200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5624640" y="6457680"/>
            <a:ext cx="430200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EA63A-AB53-4A69-A4C7-EB2368EEECA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3270240" y="509760"/>
            <a:ext cx="3398760" cy="25495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nno Accademico 2007/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4574-EDDE-4312-BBAC-528550848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29400"/>
            <a:ext cx="77724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BA5E-F353-4A78-AF3F-55B9D5A7A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2940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2940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249E-0EBF-4CC2-9C03-0B66977F4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48428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48428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2940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2940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2940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2196-58D0-43E1-A7B1-BD19DB973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67F88-2D66-4C1C-AB54-17BDDE93F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38F64-6CA9-4354-8283-B988333CE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00A1E-3B07-4F6C-890F-E30948E75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C7283-9A7E-42C8-BA4A-91A64559F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A0F0C-C390-4FFC-AE27-5C637435B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115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EEAFD-0924-4D70-A18C-F7FA586BD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92940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D1987-7F53-4CEF-A348-4E7EFCB6B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6CD4-6106-4DE2-94C2-6933DE431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92940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B825A-45BB-4A07-8A02-5318E8AA0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29400"/>
            <a:ext cx="77724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45D2D-542B-4ADB-8FA8-E825CF7A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929400"/>
            <a:ext cx="77724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5071F-811E-4686-ABFD-4A03F9F57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2940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92940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F99CD-53EB-4A7A-A975-95233C38A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48428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48428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92940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92940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92940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D8822-F0F0-4558-9A8C-C335BE884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7B78-EFA9-42C8-BF39-716C55468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E0D4-5252-4502-A95B-638CF5763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FEE9-53E9-4300-AE7A-5F7923276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115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00F4-FA06-4DA3-8690-2702BC980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2940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211D-1003-4FB5-AB9F-D46BF373E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2940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3822-C98F-4FAA-914F-92D635EA5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29400"/>
            <a:ext cx="77724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F109-32E7-4991-A110-F6E1320C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76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956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146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146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146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53000"/>
            <a:ext cx="190512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11280" y="6453000"/>
            <a:ext cx="439272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53000"/>
            <a:ext cx="190512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AF907-9459-4E19-82CF-D634E3E491B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266840"/>
            <a:ext cx="91440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6381720"/>
            <a:ext cx="91440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B6DF0-9FE3-49FF-8ABF-13698BF70CF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1332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954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5724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572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572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oritmi Paralleli e Distribuiti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a. 2007/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ezione del 03/04/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rof.</a:t>
            </a:r>
            <a:r>
              <a:rPr b="0" lang="it-IT" sz="3200" spc="-1" strike="noStrike" baseline="30000">
                <a:solidFill>
                  <a:srgbClr val="000000"/>
                </a:solidFill>
                <a:latin typeface="Arial"/>
              </a:rPr>
              <a:t>ss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ROSSELLA PETRESCH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 cura del Dott. SAVERIO CAMINI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Visita in postor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r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Fatto: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nella numerazione in postorder (FS,…,FD,R), ogni nodo v viene numerato quando la sua visita è completata, ovvero quando, con la tecnica del backtrack, si torna al padre p(v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r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Dato il CDE di un albero T radicato in </a:t>
            </a: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, per ottenere la numerazione dei nodi in postorder sfruttando il </a:t>
            </a: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Fatto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, assegniamo valore +1 ad ogni arco (</a:t>
            </a: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,p(</a:t>
            </a: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)) che risale dal figlio al padre e valore 0 ad ogni arco (p(</a:t>
            </a: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) che scende dal padre al figlio. Sulla sequenza così ottenuta eseguiamo poi le somme prefisse ottenendo S. La numerazione in postorder è data d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r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Post(</a:t>
            </a: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) = S(</a:t>
            </a: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,p(</a:t>
            </a: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r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Post(</a:t>
            </a: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) =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r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Riprendendo l’albero precedentemente visto, consideriamolo radicato in </a:t>
            </a: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(per chiarezza riportiamo solo il primo nodo di ogni arco nel CD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763640" y="4292640"/>
          <a:ext cx="5686560" cy="1185840"/>
        </p:xfrm>
        <a:graphic>
          <a:graphicData uri="http://schemas.openxmlformats.org/drawingml/2006/table">
            <a:tbl>
              <a:tblPr/>
              <a:tblGrid>
                <a:gridCol w="777960"/>
                <a:gridCol w="306360"/>
                <a:gridCol w="306360"/>
                <a:gridCol w="309600"/>
                <a:gridCol w="304560"/>
                <a:gridCol w="306360"/>
                <a:gridCol w="306720"/>
                <a:gridCol w="306360"/>
                <a:gridCol w="309600"/>
                <a:gridCol w="306360"/>
                <a:gridCol w="306360"/>
                <a:gridCol w="306360"/>
                <a:gridCol w="304560"/>
                <a:gridCol w="306720"/>
                <a:gridCol w="309240"/>
                <a:gridCol w="306360"/>
                <a:gridCol w="3067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2843280" y="5535720"/>
          <a:ext cx="3539880" cy="790560"/>
        </p:xfrm>
        <a:graphic>
          <a:graphicData uri="http://schemas.openxmlformats.org/drawingml/2006/table">
            <a:tbl>
              <a:tblPr/>
              <a:tblGrid>
                <a:gridCol w="777600"/>
                <a:gridCol w="306360"/>
                <a:gridCol w="306360"/>
                <a:gridCol w="309600"/>
                <a:gridCol w="304920"/>
                <a:gridCol w="306360"/>
                <a:gridCol w="306360"/>
                <a:gridCol w="306360"/>
                <a:gridCol w="309600"/>
                <a:gridCol w="306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3076-BE54-4C80-8EF3-C2063E6EDB9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Visita in preor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r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Fatto: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nella numerazione in preorder (R,FS….FD), ogni nodo v viene numerato la prima volta che viene incontrato durante la visita, ovvero quando si arriva a v dal padre p(v).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r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Dato il CDE di un albero T radicato in </a:t>
            </a: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, per ottenere la numerazione dei nodi in preorder sfruttando il </a:t>
            </a: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Fatto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, assegniamo valore 0 ad ogni arco (v,p(</a:t>
            </a: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)) che risale dal figlio al padre e valore +1 ad ogni arco (p(</a:t>
            </a: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), v) che scende dal padre al figlio. Sulla sequenza così ottenuta eseguiamo poi le somme prefisse. La numerazione in preorder è data d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r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Pre(</a:t>
            </a: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) =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r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Pre(</a:t>
            </a: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) = S(p(</a:t>
            </a: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) 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r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r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Riprendendo l’esempio abbiam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752480" y="4292640"/>
          <a:ext cx="5686560" cy="1185840"/>
        </p:xfrm>
        <a:graphic>
          <a:graphicData uri="http://schemas.openxmlformats.org/drawingml/2006/table">
            <a:tbl>
              <a:tblPr/>
              <a:tblGrid>
                <a:gridCol w="777960"/>
                <a:gridCol w="306360"/>
                <a:gridCol w="306360"/>
                <a:gridCol w="309600"/>
                <a:gridCol w="304560"/>
                <a:gridCol w="306360"/>
                <a:gridCol w="306720"/>
                <a:gridCol w="306360"/>
                <a:gridCol w="309600"/>
                <a:gridCol w="306360"/>
                <a:gridCol w="306360"/>
                <a:gridCol w="306360"/>
                <a:gridCol w="304560"/>
                <a:gridCol w="306720"/>
                <a:gridCol w="309240"/>
                <a:gridCol w="306360"/>
                <a:gridCol w="3067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2843280" y="5535720"/>
          <a:ext cx="3539880" cy="790560"/>
        </p:xfrm>
        <a:graphic>
          <a:graphicData uri="http://schemas.openxmlformats.org/drawingml/2006/table">
            <a:tbl>
              <a:tblPr/>
              <a:tblGrid>
                <a:gridCol w="777600"/>
                <a:gridCol w="306360"/>
                <a:gridCol w="306360"/>
                <a:gridCol w="309600"/>
                <a:gridCol w="304920"/>
                <a:gridCol w="306360"/>
                <a:gridCol w="306360"/>
                <a:gridCol w="306360"/>
                <a:gridCol w="309600"/>
                <a:gridCol w="306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A1B1-2939-4594-882F-8B358E3BC45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vello di un ver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r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atto: Il livello di un nodo è quello del padre aumentato di 1, ovvero quello di un figlio diminuito di 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r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r calcolare il livello di ciascun nodo nell’albero assegniamo valore +1 ad ogni arco discendente e valore -1 ad ogni arco ascendente. Eseguite le  somme prefisse, si h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r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 = 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 = S(p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r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r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iprendendo l’esempio abbiam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762120" y="4191120"/>
          <a:ext cx="7696080" cy="1187280"/>
        </p:xfrm>
        <a:graphic>
          <a:graphicData uri="http://schemas.openxmlformats.org/drawingml/2006/table">
            <a:tbl>
              <a:tblPr/>
              <a:tblGrid>
                <a:gridCol w="747720"/>
                <a:gridCol w="433440"/>
                <a:gridCol w="433440"/>
                <a:gridCol w="438480"/>
                <a:gridCol w="432000"/>
                <a:gridCol w="433440"/>
                <a:gridCol w="433440"/>
                <a:gridCol w="433800"/>
                <a:gridCol w="438480"/>
                <a:gridCol w="433440"/>
                <a:gridCol w="433800"/>
                <a:gridCol w="433440"/>
                <a:gridCol w="432000"/>
                <a:gridCol w="433800"/>
                <a:gridCol w="438120"/>
                <a:gridCol w="433440"/>
                <a:gridCol w="433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2843280" y="5535720"/>
          <a:ext cx="3539880" cy="790560"/>
        </p:xfrm>
        <a:graphic>
          <a:graphicData uri="http://schemas.openxmlformats.org/drawingml/2006/table">
            <a:tbl>
              <a:tblPr/>
              <a:tblGrid>
                <a:gridCol w="777600"/>
                <a:gridCol w="306360"/>
                <a:gridCol w="306360"/>
                <a:gridCol w="309600"/>
                <a:gridCol w="304920"/>
                <a:gridCol w="306360"/>
                <a:gridCol w="306360"/>
                <a:gridCol w="306360"/>
                <a:gridCol w="309600"/>
                <a:gridCol w="306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8BDD-012F-41C6-972D-63EED6B14F5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endenti di un no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9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Fatto: Sia dato un albero T con i nodi numerati in postorder. Il numero dei nodi nel sottoalbero radicato in un nodo v è dato dalla differenza tra il massimo ed il minimo valore che i nodi in T</a:t>
            </a:r>
            <a:r>
              <a:rPr b="0" i="1" lang="it-IT" sz="16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 hanno nella numerazione, ovvero è dato dalla differenza del numero di nodi visitati prima di ritornare a p(v) e il numero di nodi visitati prima di raggiungere v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9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9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Con la numerazione in postorder il massimo valore in T</a:t>
            </a:r>
            <a:r>
              <a:rPr b="0" i="1" lang="it-IT" sz="16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è esattamente quello di Post(v) mentre il minimo può essere trovato in corrispondenza dell’arco (p(</a:t>
            </a: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9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9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Il numero di discendenti della radice è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|T</a:t>
            </a:r>
            <a:r>
              <a:rPr b="0" i="1" lang="it-IT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| =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9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per ogni altro nodo il valore è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|T</a:t>
            </a:r>
            <a:r>
              <a:rPr b="0" i="1" lang="it-IT" sz="16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| = S(</a:t>
            </a: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,p(</a:t>
            </a: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)) - S(p(</a:t>
            </a: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9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763640" y="4292640"/>
          <a:ext cx="5686560" cy="1185840"/>
        </p:xfrm>
        <a:graphic>
          <a:graphicData uri="http://schemas.openxmlformats.org/drawingml/2006/table">
            <a:tbl>
              <a:tblPr/>
              <a:tblGrid>
                <a:gridCol w="777960"/>
                <a:gridCol w="306360"/>
                <a:gridCol w="306360"/>
                <a:gridCol w="309600"/>
                <a:gridCol w="304560"/>
                <a:gridCol w="306360"/>
                <a:gridCol w="306720"/>
                <a:gridCol w="306360"/>
                <a:gridCol w="309600"/>
                <a:gridCol w="306360"/>
                <a:gridCol w="306360"/>
                <a:gridCol w="306360"/>
                <a:gridCol w="304560"/>
                <a:gridCol w="306720"/>
                <a:gridCol w="309240"/>
                <a:gridCol w="306360"/>
                <a:gridCol w="3067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2843280" y="5535720"/>
          <a:ext cx="3539880" cy="790560"/>
        </p:xfrm>
        <a:graphic>
          <a:graphicData uri="http://schemas.openxmlformats.org/drawingml/2006/table">
            <a:tbl>
              <a:tblPr/>
              <a:tblGrid>
                <a:gridCol w="777600"/>
                <a:gridCol w="306360"/>
                <a:gridCol w="306360"/>
                <a:gridCol w="309600"/>
                <a:gridCol w="304920"/>
                <a:gridCol w="306360"/>
                <a:gridCol w="306360"/>
                <a:gridCol w="306360"/>
                <a:gridCol w="309600"/>
                <a:gridCol w="306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|T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|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BA48-9096-418A-A684-4A28364EFE7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ezione del leader in un sistema ad anello asincro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719280"/>
                <a:tab algn="l" pos="1073160"/>
                <a:tab algn="l" pos="143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gorithm LEA (Leader Election Asincron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719280"/>
                <a:tab algn="l" pos="1073160"/>
                <a:tab algn="l" pos="143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719280"/>
                <a:tab algn="l" pos="1073160"/>
                <a:tab algn="l" pos="143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719280"/>
                <a:tab algn="l" pos="1073160"/>
                <a:tab algn="l" pos="143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Arial"/>
              </a:rPr>
              <a:t>init=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o = igno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719280"/>
                <a:tab algn="l" pos="1073160"/>
                <a:tab algn="l" pos="143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n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al success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719280"/>
                <a:tab algn="l" pos="1073160"/>
                <a:tab algn="l" pos="143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719280"/>
                <a:tab algn="l" pos="1073160"/>
                <a:tab algn="l" pos="143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719280"/>
                <a:tab algn="l" pos="1073160"/>
                <a:tab algn="l" pos="143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ceiv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719280"/>
                <a:tab algn="l" pos="1073160"/>
                <a:tab algn="l" pos="143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inf &gt; i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nf al success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719280"/>
                <a:tab algn="l" pos="1073160"/>
                <a:tab algn="l" pos="143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inf = i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719280"/>
                <a:tab algn="l" pos="1073160"/>
                <a:tab algn="l" pos="143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o = l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719280"/>
                <a:tab algn="l" pos="1073160"/>
                <a:tab algn="l" pos="143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n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 segnale di ha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719280"/>
                <a:tab algn="l" pos="1073160"/>
                <a:tab algn="l" pos="143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nf = halt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tato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eade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a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719280"/>
                <a:tab algn="l" pos="1073160"/>
                <a:tab algn="l" pos="143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ti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 = ha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719280"/>
                <a:tab algn="l" pos="1073160"/>
                <a:tab algn="l" pos="143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719280"/>
                <a:tab algn="l" pos="1073160"/>
                <a:tab algn="l" pos="143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719280"/>
                <a:tab algn="l" pos="1073160"/>
                <a:tab algn="l" pos="143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(n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messaggi in n pas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719280"/>
                <a:tab algn="l" pos="1073160"/>
                <a:tab algn="l" pos="143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719280"/>
                <a:tab algn="l" pos="1073160"/>
                <a:tab algn="l" pos="143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’algoritmo è esattamente lo stesso presentato per il caso sincrono, con l’unica differenza che nella coda dei messaggi ricevuti potranno essere presenti più valori contemporaneam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719280"/>
                <a:tab algn="l" pos="1073160"/>
                <a:tab algn="l" pos="143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ndi LEA e LES per rete ad anello coincido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19C9-C00D-4A7D-AE75-29AB9CA8934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possibilità del risultato nel caso di processi anonim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Negli algoritmi precedenti tutti i processi compiono le stesse identiche operazioni eccetto il leader eletto che fa partire un segnale di halt. La differenziazione fra un processo e l’altro è data dalla possibilità di accedere al proprio identificativo. Un sistema si dice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anonimo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quando questa possibilità è interdet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</a:rPr>
              <a:t>Teorema</a:t>
            </a:r>
            <a:r>
              <a:rPr b="0" lang="it-IT" sz="18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Sia D un sistema distribuito sincrono di tipo anello. Se tutti gli n (n &gt; 1) processi in D sono anonimi, allora in D non è possibile risolvere il problema dell’elezione del lea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</a:rPr>
              <a:t>Dimostrazione</a:t>
            </a:r>
            <a:r>
              <a:rPr b="0" lang="it-IT" sz="18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la dimostrazione procede per assurdo. Ipotizziamo che il problema del leader ammetta una soluzione su tale sistema: sia A l’algoritmo risolutivo (A non può essere LES perché non è possibile fare confronti). Poiché tutti i processori sono identici ed eseguono la stessa sequenza di programma, dato il sincronismo, tutti i processi ricevono e mandano messaggi allo stesso istante. Pertanto o tutti i processi arrivano a dichiararsi leader nello stesso istante (contraddicendo l’unicità del risultato) o nessuno si dichiara leader. In entrambi i casi non si raggiunge il risultato voluto. Si dice che la ragione di questo risultato negativo giace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nell’impossibilità di rompere la simmetria del siste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Un risultato analogo si ha nel caso di anello asincro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D312-4AD9-4E39-AE09-BE8DB8FAE67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niche algoritmiche parallele di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4600" indent="-264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cnica della prima met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ad ogni passo si dimezza il numero di elementi su cui si esegue la computazione. Si lavora nella prima metà del vettore che da dimensione n si riduce progressivamente a dimensione n/2, n/4, … fino a raggiungere la soluzione in O(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ass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s. somma di n elementi, ricerca del massimo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cnica del salto del puntat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in O(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assi si ottiene la soluzione raddoppiando ad ogni passo la distanza fra le coppie di elementi su cui si opera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s. somme prefisse, ricerca delle radici in una foresta, calcolo della posizione all’interno di una lista punta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cnica del tour di eul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E606-1BBE-4045-825E-22300A3ADFF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olo della posizione all’interno di una l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Palatino"/>
              </a:rPr>
              <a:t>Data una lista di n elementi, calcolare per ciascuno di essi la distanza dall'ultimo elemento e memorizzarla nel relativo camp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Palatino"/>
              </a:rPr>
              <a:t>Modello PRAM- EREW ad n processor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i = 0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n-1 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par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succ[ i ] =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nil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then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info [ i ] = 0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info [ i ]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i = 1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og n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j = 0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n-1 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pardo</a:t>
            </a: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succ[ j ]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nil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fo[ j ] = info[ j ] + info[ succ[ i ]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ucc[ j ] = succ[ succ[ j ]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empo parallelo logarit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12B1-926B-49D6-9F2E-E2446B65228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ur di Eule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o un grafo G, un Tour di Eulero (TDE) su G è un ciclo (cammino chiuso) che passa su ogni arco una e una sola volta. Non tutti i grafi ammettono un tour di Eulero, quelli in cui ogni nodo ha grado pari s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o un albero T = (V, E) è possibile costruire un grafo G = (V, E') c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'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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v,u), (u,v) :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u,v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 }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 ogni nodo di G, il numero di archi entranti è uguale al numero di archi uscenti, quindi G contiene un circuito euleria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128600" y="3213000"/>
            <a:ext cx="2878200" cy="2303640"/>
            <a:chOff x="1128600" y="3213000"/>
            <a:chExt cx="2878200" cy="2303640"/>
          </a:xfrm>
        </p:grpSpPr>
        <p:sp>
          <p:nvSpPr>
            <p:cNvPr id="104" name=""/>
            <p:cNvSpPr/>
            <p:nvPr/>
          </p:nvSpPr>
          <p:spPr>
            <a:xfrm>
              <a:off x="2281320" y="3861000"/>
              <a:ext cx="358560" cy="360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631880" y="3213000"/>
              <a:ext cx="358920" cy="360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432240" y="3932280"/>
              <a:ext cx="358560" cy="360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128600" y="3716280"/>
              <a:ext cx="358920" cy="360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928960" y="3213000"/>
              <a:ext cx="358920" cy="360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776240" y="4363920"/>
              <a:ext cx="358920" cy="360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928960" y="4508640"/>
              <a:ext cx="358920" cy="360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648240" y="5156280"/>
              <a:ext cx="358560" cy="360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28960" y="5156280"/>
              <a:ext cx="358920" cy="360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5" idx="5"/>
              <a:endCxn id="104" idx="1"/>
            </p:cNvCxnSpPr>
            <p:nvPr/>
          </p:nvCxnSpPr>
          <p:spPr>
            <a:xfrm>
              <a:off x="1938240" y="3520800"/>
              <a:ext cx="396000" cy="392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4" name=""/>
            <p:cNvCxnSpPr>
              <a:stCxn id="108" idx="3"/>
              <a:endCxn id="104" idx="7"/>
            </p:cNvCxnSpPr>
            <p:nvPr/>
          </p:nvCxnSpPr>
          <p:spPr>
            <a:xfrm flipH="1">
              <a:off x="2586960" y="3520800"/>
              <a:ext cx="394200" cy="392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5" name=""/>
            <p:cNvCxnSpPr>
              <a:stCxn id="104" idx="3"/>
              <a:endCxn id="109" idx="7"/>
            </p:cNvCxnSpPr>
            <p:nvPr/>
          </p:nvCxnSpPr>
          <p:spPr>
            <a:xfrm flipH="1">
              <a:off x="2082960" y="4168800"/>
              <a:ext cx="250920" cy="24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6" name=""/>
            <p:cNvCxnSpPr>
              <a:stCxn id="104" idx="5"/>
              <a:endCxn id="110" idx="1"/>
            </p:cNvCxnSpPr>
            <p:nvPr/>
          </p:nvCxnSpPr>
          <p:spPr>
            <a:xfrm>
              <a:off x="2587320" y="4168440"/>
              <a:ext cx="394200" cy="392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7" name=""/>
            <p:cNvCxnSpPr>
              <a:stCxn id="107" idx="7"/>
              <a:endCxn id="105" idx="3"/>
            </p:cNvCxnSpPr>
            <p:nvPr/>
          </p:nvCxnSpPr>
          <p:spPr>
            <a:xfrm flipV="1">
              <a:off x="1434600" y="3520800"/>
              <a:ext cx="250200" cy="24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8" name=""/>
            <p:cNvCxnSpPr>
              <a:stCxn id="110" idx="7"/>
              <a:endCxn id="106" idx="3"/>
            </p:cNvCxnSpPr>
            <p:nvPr/>
          </p:nvCxnSpPr>
          <p:spPr>
            <a:xfrm flipV="1">
              <a:off x="3235320" y="4239360"/>
              <a:ext cx="249840" cy="321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9" name=""/>
            <p:cNvCxnSpPr>
              <a:stCxn id="110" idx="4"/>
              <a:endCxn id="112" idx="0"/>
            </p:cNvCxnSpPr>
            <p:nvPr/>
          </p:nvCxnSpPr>
          <p:spPr>
            <a:xfrm>
              <a:off x="3107880" y="4869000"/>
              <a:ext cx="1080" cy="288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0" name=""/>
            <p:cNvCxnSpPr>
              <a:stCxn id="112" idx="6"/>
              <a:endCxn id="111" idx="2"/>
            </p:cNvCxnSpPr>
            <p:nvPr/>
          </p:nvCxnSpPr>
          <p:spPr>
            <a:xfrm>
              <a:off x="3287520" y="5337000"/>
              <a:ext cx="361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21" name=""/>
          <p:cNvGrpSpPr/>
          <p:nvPr/>
        </p:nvGrpSpPr>
        <p:grpSpPr>
          <a:xfrm>
            <a:off x="5137200" y="3213000"/>
            <a:ext cx="2878200" cy="2388960"/>
            <a:chOff x="5137200" y="3213000"/>
            <a:chExt cx="2878200" cy="2388960"/>
          </a:xfrm>
        </p:grpSpPr>
        <p:sp>
          <p:nvSpPr>
            <p:cNvPr id="122" name=""/>
            <p:cNvSpPr/>
            <p:nvPr/>
          </p:nvSpPr>
          <p:spPr>
            <a:xfrm>
              <a:off x="6289920" y="3861000"/>
              <a:ext cx="358560" cy="360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640480" y="3213000"/>
              <a:ext cx="358920" cy="360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40840" y="3932280"/>
              <a:ext cx="358920" cy="360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137200" y="3716280"/>
              <a:ext cx="358920" cy="360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7560" y="3213000"/>
              <a:ext cx="358920" cy="360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85200" y="4363920"/>
              <a:ext cx="358560" cy="360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937560" y="4508640"/>
              <a:ext cx="358920" cy="360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656840" y="5156280"/>
              <a:ext cx="358560" cy="360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37560" y="5156280"/>
              <a:ext cx="358920" cy="360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1" name=""/>
            <p:cNvCxnSpPr>
              <a:stCxn id="123" idx="6"/>
              <a:endCxn id="122" idx="0"/>
            </p:cNvCxnSpPr>
            <p:nvPr/>
          </p:nvCxnSpPr>
          <p:spPr>
            <a:xfrm>
              <a:off x="5999040" y="3393720"/>
              <a:ext cx="470520" cy="46764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6" idx="4"/>
              <a:endCxn id="122" idx="6"/>
            </p:cNvCxnSpPr>
            <p:nvPr/>
          </p:nvCxnSpPr>
          <p:spPr>
            <a:xfrm rot="5400000">
              <a:off x="6647760" y="3573000"/>
              <a:ext cx="469080" cy="469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2" idx="3"/>
              <a:endCxn id="127" idx="6"/>
            </p:cNvCxnSpPr>
            <p:nvPr/>
          </p:nvCxnSpPr>
          <p:spPr>
            <a:xfrm rot="5400000">
              <a:off x="6054120" y="4257360"/>
              <a:ext cx="376920" cy="199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2" idx="4"/>
              <a:endCxn id="128" idx="2"/>
            </p:cNvCxnSpPr>
            <p:nvPr/>
          </p:nvCxnSpPr>
          <p:spPr>
            <a:xfrm flipH="1" rot="16200000">
              <a:off x="6468480" y="4221000"/>
              <a:ext cx="468720" cy="469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35" name=""/>
            <p:cNvCxnSpPr>
              <a:stCxn id="125" idx="0"/>
              <a:endCxn id="123" idx="2"/>
            </p:cNvCxnSpPr>
            <p:nvPr/>
          </p:nvCxnSpPr>
          <p:spPr>
            <a:xfrm flipH="1" flipV="1" rot="5400000">
              <a:off x="5317200" y="3392640"/>
              <a:ext cx="322920" cy="3243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8" idx="7"/>
              <a:endCxn id="124" idx="2"/>
            </p:cNvCxnSpPr>
            <p:nvPr/>
          </p:nvCxnSpPr>
          <p:spPr>
            <a:xfrm flipH="1" flipV="1" rot="5400000">
              <a:off x="7118280" y="4237920"/>
              <a:ext cx="448200" cy="19764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37" name=""/>
            <p:cNvCxnSpPr>
              <a:stCxn id="128" idx="0"/>
              <a:endCxn id="122" idx="5"/>
            </p:cNvCxnSpPr>
            <p:nvPr/>
          </p:nvCxnSpPr>
          <p:spPr>
            <a:xfrm flipV="1" rot="16200000">
              <a:off x="6686280" y="4078080"/>
              <a:ext cx="340200" cy="521280"/>
            </a:xfrm>
            <a:prstGeom prst="curvedConnector5">
              <a:avLst>
                <a:gd name="adj1" fmla="val 42478"/>
                <a:gd name="adj2" fmla="val 49965"/>
                <a:gd name="adj3" fmla="val 42478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38" name=""/>
            <p:cNvCxnSpPr>
              <a:stCxn id="127" idx="0"/>
              <a:endCxn id="122" idx="2"/>
            </p:cNvCxnSpPr>
            <p:nvPr/>
          </p:nvCxnSpPr>
          <p:spPr>
            <a:xfrm flipH="1" flipV="1" rot="5400000">
              <a:off x="5965920" y="4039560"/>
              <a:ext cx="322920" cy="3261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22" idx="7"/>
              <a:endCxn id="126" idx="2"/>
            </p:cNvCxnSpPr>
            <p:nvPr/>
          </p:nvCxnSpPr>
          <p:spPr>
            <a:xfrm flipH="1" flipV="1" rot="5400000">
              <a:off x="6507000" y="3482640"/>
              <a:ext cx="519840" cy="34200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22" idx="1"/>
              <a:endCxn id="123" idx="5"/>
            </p:cNvCxnSpPr>
            <p:nvPr/>
          </p:nvCxnSpPr>
          <p:spPr>
            <a:xfrm flipV="1" rot="16200000">
              <a:off x="5947920" y="3518640"/>
              <a:ext cx="392760" cy="396000"/>
            </a:xfrm>
            <a:prstGeom prst="curvedConnector5">
              <a:avLst>
                <a:gd name="adj1" fmla="val 50183"/>
                <a:gd name="adj2" fmla="val 49954"/>
                <a:gd name="adj3" fmla="val 5018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stCxn id="123" idx="3"/>
              <a:endCxn id="125" idx="6"/>
            </p:cNvCxnSpPr>
            <p:nvPr/>
          </p:nvCxnSpPr>
          <p:spPr>
            <a:xfrm rot="5400000">
              <a:off x="5405760" y="3610440"/>
              <a:ext cx="376920" cy="19764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28" idx="6"/>
              <a:endCxn id="124" idx="4"/>
            </p:cNvCxnSpPr>
            <p:nvPr/>
          </p:nvCxnSpPr>
          <p:spPr>
            <a:xfrm flipV="1">
              <a:off x="7296120" y="4292280"/>
              <a:ext cx="324360" cy="39744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0" idx="7"/>
              <a:endCxn id="129" idx="1"/>
            </p:cNvCxnSpPr>
            <p:nvPr/>
          </p:nvCxnSpPr>
          <p:spPr>
            <a:xfrm flipH="1" rot="16200000">
              <a:off x="7475400" y="4975560"/>
              <a:ext cx="2520" cy="465840"/>
            </a:xfrm>
            <a:prstGeom prst="curvedConnector5">
              <a:avLst>
                <a:gd name="adj1" fmla="val -6400000"/>
                <a:gd name="adj2" fmla="val 49961"/>
                <a:gd name="adj3" fmla="val -6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29" idx="3"/>
              <a:endCxn id="130" idx="5"/>
            </p:cNvCxnSpPr>
            <p:nvPr/>
          </p:nvCxnSpPr>
          <p:spPr>
            <a:xfrm rot="5400000">
              <a:off x="7475040" y="5232240"/>
              <a:ext cx="2520" cy="465840"/>
            </a:xfrm>
            <a:prstGeom prst="curvedConnector5">
              <a:avLst>
                <a:gd name="adj1" fmla="val 6400000"/>
                <a:gd name="adj2" fmla="val 49961"/>
                <a:gd name="adj3" fmla="val 6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5" name=""/>
            <p:cNvCxnSpPr>
              <a:stCxn id="130" idx="7"/>
              <a:endCxn id="128" idx="5"/>
            </p:cNvCxnSpPr>
            <p:nvPr/>
          </p:nvCxnSpPr>
          <p:spPr>
            <a:xfrm flipV="1">
              <a:off x="7243560" y="4815720"/>
              <a:ext cx="1080" cy="3927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6" name=""/>
            <p:cNvCxnSpPr>
              <a:stCxn id="130" idx="1"/>
              <a:endCxn id="128" idx="3"/>
            </p:cNvCxnSpPr>
            <p:nvPr/>
          </p:nvCxnSpPr>
          <p:spPr>
            <a:xfrm flipV="1">
              <a:off x="6989760" y="4815720"/>
              <a:ext cx="1080" cy="3927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ABCD-4035-476D-9051-0FD00F6A49E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funzione T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l TDE è una sequenza ciclica di tutti gli archi del grafo costruita a partire da un qualunque nodo. Ad esempi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,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,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,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,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,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,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,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,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,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,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,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,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,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,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,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,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 semplicità si può scrivere il TDE com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 i a d a i g i c f c h e h c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 può vedere il TDE come una funzione che, per ogni arco, identifica il successore nel tou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DE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=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DE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=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DE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=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DE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=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DE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=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c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37200" y="3789360"/>
            <a:ext cx="2878200" cy="2388960"/>
            <a:chOff x="5137200" y="3789360"/>
            <a:chExt cx="2878200" cy="2388960"/>
          </a:xfrm>
        </p:grpSpPr>
        <p:sp>
          <p:nvSpPr>
            <p:cNvPr id="150" name=""/>
            <p:cNvSpPr/>
            <p:nvPr/>
          </p:nvSpPr>
          <p:spPr>
            <a:xfrm>
              <a:off x="6289920" y="4437360"/>
              <a:ext cx="358560" cy="360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640480" y="3789360"/>
              <a:ext cx="358920" cy="360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440840" y="4508640"/>
              <a:ext cx="358920" cy="360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137200" y="4292640"/>
              <a:ext cx="358920" cy="360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937560" y="3789360"/>
              <a:ext cx="358920" cy="360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785200" y="4940280"/>
              <a:ext cx="358560" cy="360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937560" y="5085000"/>
              <a:ext cx="358920" cy="360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656840" y="5732640"/>
              <a:ext cx="358560" cy="360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37560" y="5732640"/>
              <a:ext cx="358920" cy="360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9" name=""/>
            <p:cNvCxnSpPr>
              <a:stCxn id="151" idx="6"/>
              <a:endCxn id="150" idx="0"/>
            </p:cNvCxnSpPr>
            <p:nvPr/>
          </p:nvCxnSpPr>
          <p:spPr>
            <a:xfrm>
              <a:off x="5999040" y="3970080"/>
              <a:ext cx="470520" cy="46764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4" idx="4"/>
              <a:endCxn id="150" idx="6"/>
            </p:cNvCxnSpPr>
            <p:nvPr/>
          </p:nvCxnSpPr>
          <p:spPr>
            <a:xfrm rot="5400000">
              <a:off x="6647760" y="4149360"/>
              <a:ext cx="469080" cy="469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0" idx="3"/>
              <a:endCxn id="155" idx="6"/>
            </p:cNvCxnSpPr>
            <p:nvPr/>
          </p:nvCxnSpPr>
          <p:spPr>
            <a:xfrm rot="5400000">
              <a:off x="6054120" y="4833720"/>
              <a:ext cx="376920" cy="199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0" idx="4"/>
              <a:endCxn id="156" idx="2"/>
            </p:cNvCxnSpPr>
            <p:nvPr/>
          </p:nvCxnSpPr>
          <p:spPr>
            <a:xfrm flipH="1" rot="16200000">
              <a:off x="6468480" y="4797360"/>
              <a:ext cx="468720" cy="469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63" name=""/>
            <p:cNvCxnSpPr>
              <a:stCxn id="153" idx="0"/>
              <a:endCxn id="151" idx="2"/>
            </p:cNvCxnSpPr>
            <p:nvPr/>
          </p:nvCxnSpPr>
          <p:spPr>
            <a:xfrm flipH="1" flipV="1" rot="5400000">
              <a:off x="5317200" y="3969000"/>
              <a:ext cx="322920" cy="3243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4" name=""/>
            <p:cNvCxnSpPr>
              <a:stCxn id="156" idx="7"/>
              <a:endCxn id="152" idx="2"/>
            </p:cNvCxnSpPr>
            <p:nvPr/>
          </p:nvCxnSpPr>
          <p:spPr>
            <a:xfrm flipH="1" flipV="1" rot="5400000">
              <a:off x="7118280" y="4814280"/>
              <a:ext cx="448200" cy="19764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65" name=""/>
            <p:cNvCxnSpPr>
              <a:stCxn id="156" idx="0"/>
              <a:endCxn id="150" idx="5"/>
            </p:cNvCxnSpPr>
            <p:nvPr/>
          </p:nvCxnSpPr>
          <p:spPr>
            <a:xfrm flipV="1" rot="16200000">
              <a:off x="6686280" y="4654440"/>
              <a:ext cx="340200" cy="521280"/>
            </a:xfrm>
            <a:prstGeom prst="curvedConnector5">
              <a:avLst>
                <a:gd name="adj1" fmla="val 42478"/>
                <a:gd name="adj2" fmla="val 49965"/>
                <a:gd name="adj3" fmla="val 42478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66" name=""/>
            <p:cNvCxnSpPr>
              <a:stCxn id="155" idx="0"/>
              <a:endCxn id="150" idx="2"/>
            </p:cNvCxnSpPr>
            <p:nvPr/>
          </p:nvCxnSpPr>
          <p:spPr>
            <a:xfrm flipH="1" flipV="1" rot="5400000">
              <a:off x="5965920" y="4615920"/>
              <a:ext cx="322920" cy="3261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0" idx="7"/>
              <a:endCxn id="154" idx="2"/>
            </p:cNvCxnSpPr>
            <p:nvPr/>
          </p:nvCxnSpPr>
          <p:spPr>
            <a:xfrm flipH="1" flipV="1" rot="5400000">
              <a:off x="6507000" y="4059000"/>
              <a:ext cx="519840" cy="34200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0" idx="1"/>
              <a:endCxn id="151" idx="5"/>
            </p:cNvCxnSpPr>
            <p:nvPr/>
          </p:nvCxnSpPr>
          <p:spPr>
            <a:xfrm flipV="1" rot="16200000">
              <a:off x="5947920" y="4095000"/>
              <a:ext cx="392760" cy="396000"/>
            </a:xfrm>
            <a:prstGeom prst="curvedConnector5">
              <a:avLst>
                <a:gd name="adj1" fmla="val 50183"/>
                <a:gd name="adj2" fmla="val 49954"/>
                <a:gd name="adj3" fmla="val 5018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51" idx="3"/>
              <a:endCxn id="153" idx="6"/>
            </p:cNvCxnSpPr>
            <p:nvPr/>
          </p:nvCxnSpPr>
          <p:spPr>
            <a:xfrm rot="5400000">
              <a:off x="5405760" y="4186800"/>
              <a:ext cx="376920" cy="19764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56" idx="6"/>
              <a:endCxn id="152" idx="4"/>
            </p:cNvCxnSpPr>
            <p:nvPr/>
          </p:nvCxnSpPr>
          <p:spPr>
            <a:xfrm flipV="1">
              <a:off x="7296120" y="4868640"/>
              <a:ext cx="324360" cy="39744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8" idx="7"/>
              <a:endCxn id="157" idx="1"/>
            </p:cNvCxnSpPr>
            <p:nvPr/>
          </p:nvCxnSpPr>
          <p:spPr>
            <a:xfrm flipH="1" rot="16200000">
              <a:off x="7475400" y="5551920"/>
              <a:ext cx="2520" cy="465840"/>
            </a:xfrm>
            <a:prstGeom prst="curvedConnector5">
              <a:avLst>
                <a:gd name="adj1" fmla="val -6400000"/>
                <a:gd name="adj2" fmla="val 49961"/>
                <a:gd name="adj3" fmla="val -6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57" idx="3"/>
              <a:endCxn id="158" idx="5"/>
            </p:cNvCxnSpPr>
            <p:nvPr/>
          </p:nvCxnSpPr>
          <p:spPr>
            <a:xfrm rot="5400000">
              <a:off x="7475040" y="5808600"/>
              <a:ext cx="2520" cy="465840"/>
            </a:xfrm>
            <a:prstGeom prst="curvedConnector5">
              <a:avLst>
                <a:gd name="adj1" fmla="val 6400000"/>
                <a:gd name="adj2" fmla="val 49961"/>
                <a:gd name="adj3" fmla="val 6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8" idx="7"/>
              <a:endCxn id="156" idx="5"/>
            </p:cNvCxnSpPr>
            <p:nvPr/>
          </p:nvCxnSpPr>
          <p:spPr>
            <a:xfrm flipV="1">
              <a:off x="7243560" y="5392080"/>
              <a:ext cx="1080" cy="3927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8" idx="1"/>
              <a:endCxn id="156" idx="3"/>
            </p:cNvCxnSpPr>
            <p:nvPr/>
          </p:nvCxnSpPr>
          <p:spPr>
            <a:xfrm flipV="1">
              <a:off x="6989760" y="5392080"/>
              <a:ext cx="1080" cy="3927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</p:grpSp>
      <p:sp>
        <p:nvSpPr>
          <p:cNvPr id="175" name=""/>
          <p:cNvSpPr/>
          <p:nvPr/>
        </p:nvSpPr>
        <p:spPr>
          <a:xfrm>
            <a:off x="5180040" y="3929040"/>
            <a:ext cx="2720880" cy="2193840"/>
          </a:xfrm>
          <a:custGeom>
            <a:avLst/>
            <a:gdLst/>
            <a:ahLst/>
            <a:rect l="l" t="t" r="r" b="b"/>
            <a:pathLst>
              <a:path w="7561" h="6093">
                <a:moveTo>
                  <a:pt x="17978" y="13137"/>
                </a:moveTo>
                <a:cubicBezTo>
                  <a:pt x="17987" y="13148"/>
                  <a:pt x="18031" y="13146"/>
                  <a:pt x="18038" y="13156"/>
                </a:cubicBezTo>
                <a:cubicBezTo>
                  <a:pt x="18049" y="13171"/>
                  <a:pt x="18045" y="13202"/>
                  <a:pt x="18058" y="13216"/>
                </a:cubicBezTo>
                <a:cubicBezTo>
                  <a:pt x="18086" y="13246"/>
                  <a:pt x="18079" y="13273"/>
                  <a:pt x="18098" y="13295"/>
                </a:cubicBezTo>
                <a:cubicBezTo>
                  <a:pt x="18122" y="13323"/>
                  <a:pt x="18174" y="13371"/>
                  <a:pt x="18197" y="13395"/>
                </a:cubicBezTo>
                <a:cubicBezTo>
                  <a:pt x="18206" y="13405"/>
                  <a:pt x="18223" y="13441"/>
                  <a:pt x="18236" y="13454"/>
                </a:cubicBezTo>
                <a:cubicBezTo>
                  <a:pt x="18268" y="13488"/>
                  <a:pt x="18326" y="13544"/>
                  <a:pt x="18355" y="13573"/>
                </a:cubicBezTo>
                <a:cubicBezTo>
                  <a:pt x="18385" y="13603"/>
                  <a:pt x="18428" y="13603"/>
                  <a:pt x="18455" y="13633"/>
                </a:cubicBezTo>
                <a:cubicBezTo>
                  <a:pt x="18481" y="13662"/>
                  <a:pt x="18490" y="13687"/>
                  <a:pt x="18514" y="13712"/>
                </a:cubicBezTo>
                <a:cubicBezTo>
                  <a:pt x="18547" y="13746"/>
                  <a:pt x="18561" y="13775"/>
                  <a:pt x="18594" y="13811"/>
                </a:cubicBezTo>
                <a:cubicBezTo>
                  <a:pt x="18640" y="13861"/>
                  <a:pt x="18695" y="13908"/>
                  <a:pt x="18732" y="13950"/>
                </a:cubicBezTo>
                <a:cubicBezTo>
                  <a:pt x="18748" y="13968"/>
                  <a:pt x="18770" y="14007"/>
                  <a:pt x="18792" y="14030"/>
                </a:cubicBezTo>
                <a:cubicBezTo>
                  <a:pt x="18816" y="14055"/>
                  <a:pt x="18839" y="14074"/>
                  <a:pt x="18852" y="14089"/>
                </a:cubicBezTo>
                <a:cubicBezTo>
                  <a:pt x="18876" y="14116"/>
                  <a:pt x="18915" y="14151"/>
                  <a:pt x="18931" y="14168"/>
                </a:cubicBezTo>
                <a:cubicBezTo>
                  <a:pt x="18953" y="14193"/>
                  <a:pt x="18955" y="14214"/>
                  <a:pt x="18971" y="14228"/>
                </a:cubicBezTo>
                <a:cubicBezTo>
                  <a:pt x="19009" y="14262"/>
                  <a:pt x="19029" y="14286"/>
                  <a:pt x="19050" y="14307"/>
                </a:cubicBezTo>
                <a:cubicBezTo>
                  <a:pt x="19065" y="14322"/>
                  <a:pt x="19114" y="14331"/>
                  <a:pt x="19129" y="14347"/>
                </a:cubicBezTo>
                <a:cubicBezTo>
                  <a:pt x="19150" y="14369"/>
                  <a:pt x="19165" y="14399"/>
                  <a:pt x="19189" y="14426"/>
                </a:cubicBezTo>
                <a:cubicBezTo>
                  <a:pt x="19211" y="14451"/>
                  <a:pt x="19234" y="14481"/>
                  <a:pt x="19248" y="14506"/>
                </a:cubicBezTo>
                <a:cubicBezTo>
                  <a:pt x="19267" y="14541"/>
                  <a:pt x="19279" y="14559"/>
                  <a:pt x="19288" y="14585"/>
                </a:cubicBezTo>
                <a:cubicBezTo>
                  <a:pt x="19305" y="14637"/>
                  <a:pt x="19301" y="14688"/>
                  <a:pt x="19308" y="14744"/>
                </a:cubicBezTo>
                <a:cubicBezTo>
                  <a:pt x="19362" y="15191"/>
                  <a:pt x="19214" y="15742"/>
                  <a:pt x="19368" y="16133"/>
                </a:cubicBezTo>
                <a:cubicBezTo>
                  <a:pt x="19383" y="16170"/>
                  <a:pt x="19409" y="16197"/>
                  <a:pt x="19427" y="16232"/>
                </a:cubicBezTo>
                <a:cubicBezTo>
                  <a:pt x="19444" y="16264"/>
                  <a:pt x="19460" y="16299"/>
                  <a:pt x="19487" y="16331"/>
                </a:cubicBezTo>
                <a:cubicBezTo>
                  <a:pt x="19492" y="16337"/>
                  <a:pt x="19517" y="16382"/>
                  <a:pt x="19526" y="16391"/>
                </a:cubicBezTo>
                <a:cubicBezTo>
                  <a:pt x="19565" y="16428"/>
                  <a:pt x="19606" y="16441"/>
                  <a:pt x="19645" y="16470"/>
                </a:cubicBezTo>
                <a:cubicBezTo>
                  <a:pt x="19693" y="16506"/>
                  <a:pt x="19730" y="16524"/>
                  <a:pt x="19784" y="16550"/>
                </a:cubicBezTo>
                <a:cubicBezTo>
                  <a:pt x="19835" y="16574"/>
                  <a:pt x="19872" y="16586"/>
                  <a:pt x="19923" y="16609"/>
                </a:cubicBezTo>
                <a:cubicBezTo>
                  <a:pt x="19981" y="16635"/>
                  <a:pt x="20023" y="16664"/>
                  <a:pt x="20082" y="16689"/>
                </a:cubicBezTo>
                <a:cubicBezTo>
                  <a:pt x="20121" y="16705"/>
                  <a:pt x="20198" y="16717"/>
                  <a:pt x="20241" y="16728"/>
                </a:cubicBezTo>
                <a:cubicBezTo>
                  <a:pt x="20321" y="16748"/>
                  <a:pt x="20389" y="16757"/>
                  <a:pt x="20479" y="16768"/>
                </a:cubicBezTo>
                <a:cubicBezTo>
                  <a:pt x="20599" y="16783"/>
                  <a:pt x="20718" y="16783"/>
                  <a:pt x="20836" y="16808"/>
                </a:cubicBezTo>
                <a:cubicBezTo>
                  <a:pt x="20881" y="16818"/>
                  <a:pt x="20930" y="16818"/>
                  <a:pt x="20975" y="16828"/>
                </a:cubicBezTo>
                <a:cubicBezTo>
                  <a:pt x="21030" y="16841"/>
                  <a:pt x="21052" y="16859"/>
                  <a:pt x="21114" y="16867"/>
                </a:cubicBezTo>
                <a:cubicBezTo>
                  <a:pt x="21276" y="16887"/>
                  <a:pt x="21518" y="16927"/>
                  <a:pt x="21669" y="16867"/>
                </a:cubicBezTo>
                <a:cubicBezTo>
                  <a:pt x="21712" y="16850"/>
                  <a:pt x="21689" y="16850"/>
                  <a:pt x="21729" y="16828"/>
                </a:cubicBezTo>
                <a:cubicBezTo>
                  <a:pt x="21741" y="16821"/>
                  <a:pt x="21752" y="16799"/>
                  <a:pt x="21769" y="16788"/>
                </a:cubicBezTo>
                <a:cubicBezTo>
                  <a:pt x="21776" y="16784"/>
                  <a:pt x="21810" y="16745"/>
                  <a:pt x="21828" y="16728"/>
                </a:cubicBezTo>
                <a:cubicBezTo>
                  <a:pt x="21844" y="16713"/>
                  <a:pt x="21921" y="16680"/>
                  <a:pt x="21927" y="16669"/>
                </a:cubicBezTo>
                <a:cubicBezTo>
                  <a:pt x="21941" y="16642"/>
                  <a:pt x="21935" y="16645"/>
                  <a:pt x="21947" y="16609"/>
                </a:cubicBezTo>
                <a:cubicBezTo>
                  <a:pt x="21984" y="16497"/>
                  <a:pt x="21936" y="16312"/>
                  <a:pt x="21908" y="16252"/>
                </a:cubicBezTo>
                <a:cubicBezTo>
                  <a:pt x="21894" y="16221"/>
                  <a:pt x="21903" y="16216"/>
                  <a:pt x="21888" y="16192"/>
                </a:cubicBezTo>
                <a:cubicBezTo>
                  <a:pt x="21880" y="16179"/>
                  <a:pt x="21829" y="16136"/>
                  <a:pt x="21808" y="16113"/>
                </a:cubicBezTo>
                <a:cubicBezTo>
                  <a:pt x="21776" y="16077"/>
                  <a:pt x="21717" y="16013"/>
                  <a:pt x="21689" y="15994"/>
                </a:cubicBezTo>
                <a:cubicBezTo>
                  <a:pt x="21670" y="15981"/>
                  <a:pt x="21633" y="15965"/>
                  <a:pt x="21610" y="15954"/>
                </a:cubicBezTo>
                <a:cubicBezTo>
                  <a:pt x="21581" y="15940"/>
                  <a:pt x="21559" y="15927"/>
                  <a:pt x="21530" y="15915"/>
                </a:cubicBezTo>
                <a:cubicBezTo>
                  <a:pt x="21502" y="15903"/>
                  <a:pt x="21481" y="15903"/>
                  <a:pt x="21451" y="15895"/>
                </a:cubicBezTo>
                <a:cubicBezTo>
                  <a:pt x="21401" y="15882"/>
                  <a:pt x="21420" y="15881"/>
                  <a:pt x="21372" y="15875"/>
                </a:cubicBezTo>
                <a:cubicBezTo>
                  <a:pt x="21059" y="15834"/>
                  <a:pt x="20336" y="16025"/>
                  <a:pt x="20102" y="15815"/>
                </a:cubicBezTo>
                <a:cubicBezTo>
                  <a:pt x="20056" y="15773"/>
                  <a:pt x="20064" y="15750"/>
                  <a:pt x="20042" y="15696"/>
                </a:cubicBezTo>
                <a:cubicBezTo>
                  <a:pt x="19960" y="15495"/>
                  <a:pt x="19998" y="14707"/>
                  <a:pt x="20102" y="14565"/>
                </a:cubicBezTo>
                <a:cubicBezTo>
                  <a:pt x="20122" y="14538"/>
                  <a:pt x="20148" y="14519"/>
                  <a:pt x="20161" y="14506"/>
                </a:cubicBezTo>
                <a:cubicBezTo>
                  <a:pt x="20186" y="14481"/>
                  <a:pt x="20284" y="14443"/>
                  <a:pt x="20320" y="14426"/>
                </a:cubicBezTo>
                <a:cubicBezTo>
                  <a:pt x="20357" y="14408"/>
                  <a:pt x="20397" y="14386"/>
                  <a:pt x="20439" y="14367"/>
                </a:cubicBezTo>
                <a:cubicBezTo>
                  <a:pt x="20485" y="14346"/>
                  <a:pt x="20536" y="14351"/>
                  <a:pt x="20578" y="14327"/>
                </a:cubicBezTo>
                <a:cubicBezTo>
                  <a:pt x="20608" y="14310"/>
                  <a:pt x="20627" y="14287"/>
                  <a:pt x="20657" y="14268"/>
                </a:cubicBezTo>
                <a:cubicBezTo>
                  <a:pt x="20702" y="14241"/>
                  <a:pt x="20728" y="14220"/>
                  <a:pt x="20776" y="14188"/>
                </a:cubicBezTo>
                <a:cubicBezTo>
                  <a:pt x="20814" y="14162"/>
                  <a:pt x="20856" y="14120"/>
                  <a:pt x="20895" y="14089"/>
                </a:cubicBezTo>
                <a:cubicBezTo>
                  <a:pt x="20941" y="14052"/>
                  <a:pt x="20987" y="14030"/>
                  <a:pt x="21034" y="13990"/>
                </a:cubicBezTo>
                <a:cubicBezTo>
                  <a:pt x="21069" y="13960"/>
                  <a:pt x="21132" y="13931"/>
                  <a:pt x="21153" y="13910"/>
                </a:cubicBezTo>
                <a:cubicBezTo>
                  <a:pt x="21170" y="13893"/>
                  <a:pt x="21222" y="13844"/>
                  <a:pt x="21233" y="13831"/>
                </a:cubicBezTo>
                <a:cubicBezTo>
                  <a:pt x="21255" y="13805"/>
                  <a:pt x="21295" y="13775"/>
                  <a:pt x="21312" y="13752"/>
                </a:cubicBezTo>
                <a:cubicBezTo>
                  <a:pt x="21332" y="13725"/>
                  <a:pt x="21384" y="13656"/>
                  <a:pt x="21411" y="13613"/>
                </a:cubicBezTo>
                <a:cubicBezTo>
                  <a:pt x="21422" y="13596"/>
                  <a:pt x="21463" y="13517"/>
                  <a:pt x="21471" y="13494"/>
                </a:cubicBezTo>
                <a:cubicBezTo>
                  <a:pt x="21485" y="13454"/>
                  <a:pt x="21483" y="13419"/>
                  <a:pt x="21491" y="13375"/>
                </a:cubicBezTo>
                <a:cubicBezTo>
                  <a:pt x="21514" y="13247"/>
                  <a:pt x="21498" y="13042"/>
                  <a:pt x="21451" y="12958"/>
                </a:cubicBezTo>
                <a:cubicBezTo>
                  <a:pt x="21429" y="12919"/>
                  <a:pt x="21420" y="12930"/>
                  <a:pt x="21392" y="12898"/>
                </a:cubicBezTo>
                <a:cubicBezTo>
                  <a:pt x="21380" y="12885"/>
                  <a:pt x="21359" y="12856"/>
                  <a:pt x="21332" y="12839"/>
                </a:cubicBezTo>
                <a:cubicBezTo>
                  <a:pt x="21296" y="12816"/>
                  <a:pt x="21272" y="12791"/>
                  <a:pt x="21233" y="12779"/>
                </a:cubicBezTo>
                <a:cubicBezTo>
                  <a:pt x="21061" y="12728"/>
                  <a:pt x="20864" y="12811"/>
                  <a:pt x="20757" y="12898"/>
                </a:cubicBezTo>
                <a:cubicBezTo>
                  <a:pt x="20724" y="12924"/>
                  <a:pt x="20723" y="12952"/>
                  <a:pt x="20697" y="12978"/>
                </a:cubicBezTo>
                <a:cubicBezTo>
                  <a:pt x="20628" y="13046"/>
                  <a:pt x="20567" y="13113"/>
                  <a:pt x="20499" y="13176"/>
                </a:cubicBezTo>
                <a:cubicBezTo>
                  <a:pt x="20409" y="13260"/>
                  <a:pt x="20310" y="13331"/>
                  <a:pt x="20221" y="13414"/>
                </a:cubicBezTo>
                <a:cubicBezTo>
                  <a:pt x="20184" y="13449"/>
                  <a:pt x="20160" y="13475"/>
                  <a:pt x="20122" y="13514"/>
                </a:cubicBezTo>
                <a:cubicBezTo>
                  <a:pt x="20092" y="13544"/>
                  <a:pt x="20046" y="13609"/>
                  <a:pt x="20022" y="13633"/>
                </a:cubicBezTo>
                <a:cubicBezTo>
                  <a:pt x="20006" y="13649"/>
                  <a:pt x="19988" y="13648"/>
                  <a:pt x="19963" y="13672"/>
                </a:cubicBezTo>
                <a:cubicBezTo>
                  <a:pt x="19952" y="13683"/>
                  <a:pt x="19931" y="13718"/>
                  <a:pt x="19903" y="13732"/>
                </a:cubicBezTo>
                <a:cubicBezTo>
                  <a:pt x="19864" y="13753"/>
                  <a:pt x="19886" y="13756"/>
                  <a:pt x="19844" y="13772"/>
                </a:cubicBezTo>
                <a:cubicBezTo>
                  <a:pt x="19748" y="13809"/>
                  <a:pt x="19583" y="13805"/>
                  <a:pt x="19487" y="13772"/>
                </a:cubicBezTo>
                <a:cubicBezTo>
                  <a:pt x="19452" y="13760"/>
                  <a:pt x="19454" y="13764"/>
                  <a:pt x="19427" y="13752"/>
                </a:cubicBezTo>
                <a:cubicBezTo>
                  <a:pt x="19423" y="13750"/>
                  <a:pt x="19387" y="13721"/>
                  <a:pt x="19368" y="13712"/>
                </a:cubicBezTo>
                <a:cubicBezTo>
                  <a:pt x="19340" y="13699"/>
                  <a:pt x="19298" y="13658"/>
                  <a:pt x="19288" y="13652"/>
                </a:cubicBezTo>
                <a:cubicBezTo>
                  <a:pt x="19258" y="13634"/>
                  <a:pt x="19204" y="13602"/>
                  <a:pt x="19189" y="13593"/>
                </a:cubicBezTo>
                <a:cubicBezTo>
                  <a:pt x="19161" y="13576"/>
                  <a:pt x="19113" y="13568"/>
                  <a:pt x="19090" y="13553"/>
                </a:cubicBezTo>
                <a:cubicBezTo>
                  <a:pt x="19036" y="13518"/>
                  <a:pt x="19042" y="13505"/>
                  <a:pt x="18990" y="13474"/>
                </a:cubicBezTo>
                <a:cubicBezTo>
                  <a:pt x="18955" y="13453"/>
                  <a:pt x="18898" y="13432"/>
                  <a:pt x="18871" y="13414"/>
                </a:cubicBezTo>
                <a:cubicBezTo>
                  <a:pt x="18830" y="13387"/>
                  <a:pt x="18789" y="13367"/>
                  <a:pt x="18752" y="13335"/>
                </a:cubicBezTo>
                <a:cubicBezTo>
                  <a:pt x="18730" y="13316"/>
                  <a:pt x="18693" y="13277"/>
                  <a:pt x="18673" y="13256"/>
                </a:cubicBezTo>
                <a:cubicBezTo>
                  <a:pt x="18646" y="13227"/>
                  <a:pt x="18629" y="13217"/>
                  <a:pt x="18613" y="13196"/>
                </a:cubicBezTo>
                <a:cubicBezTo>
                  <a:pt x="18602" y="13181"/>
                  <a:pt x="18556" y="13122"/>
                  <a:pt x="18554" y="13117"/>
                </a:cubicBezTo>
                <a:cubicBezTo>
                  <a:pt x="18540" y="13089"/>
                  <a:pt x="18524" y="13059"/>
                  <a:pt x="18514" y="13018"/>
                </a:cubicBezTo>
                <a:cubicBezTo>
                  <a:pt x="18484" y="12894"/>
                  <a:pt x="18511" y="12682"/>
                  <a:pt x="18554" y="12601"/>
                </a:cubicBezTo>
                <a:cubicBezTo>
                  <a:pt x="18577" y="12558"/>
                  <a:pt x="18561" y="12563"/>
                  <a:pt x="18594" y="12521"/>
                </a:cubicBezTo>
                <a:cubicBezTo>
                  <a:pt x="18606" y="12506"/>
                  <a:pt x="18630" y="12504"/>
                  <a:pt x="18653" y="12482"/>
                </a:cubicBezTo>
                <a:cubicBezTo>
                  <a:pt x="18676" y="12460"/>
                  <a:pt x="18720" y="12431"/>
                  <a:pt x="18752" y="12402"/>
                </a:cubicBezTo>
                <a:cubicBezTo>
                  <a:pt x="18773" y="12383"/>
                  <a:pt x="18805" y="12365"/>
                  <a:pt x="18832" y="12343"/>
                </a:cubicBezTo>
                <a:cubicBezTo>
                  <a:pt x="18862" y="12318"/>
                  <a:pt x="18891" y="12297"/>
                  <a:pt x="18911" y="12283"/>
                </a:cubicBezTo>
                <a:cubicBezTo>
                  <a:pt x="18939" y="12263"/>
                  <a:pt x="18960" y="12245"/>
                  <a:pt x="18990" y="12224"/>
                </a:cubicBezTo>
                <a:cubicBezTo>
                  <a:pt x="19063" y="12172"/>
                  <a:pt x="19155" y="12125"/>
                  <a:pt x="19229" y="12065"/>
                </a:cubicBezTo>
                <a:cubicBezTo>
                  <a:pt x="19266" y="12035"/>
                  <a:pt x="19298" y="12010"/>
                  <a:pt x="19328" y="11986"/>
                </a:cubicBezTo>
                <a:cubicBezTo>
                  <a:pt x="19374" y="11949"/>
                  <a:pt x="19408" y="11904"/>
                  <a:pt x="19447" y="11867"/>
                </a:cubicBezTo>
                <a:cubicBezTo>
                  <a:pt x="19529" y="11788"/>
                  <a:pt x="19596" y="11714"/>
                  <a:pt x="19665" y="11628"/>
                </a:cubicBezTo>
                <a:cubicBezTo>
                  <a:pt x="19692" y="11594"/>
                  <a:pt x="19700" y="11560"/>
                  <a:pt x="19725" y="11529"/>
                </a:cubicBezTo>
                <a:cubicBezTo>
                  <a:pt x="19751" y="11497"/>
                  <a:pt x="19798" y="11470"/>
                  <a:pt x="19824" y="11430"/>
                </a:cubicBezTo>
                <a:cubicBezTo>
                  <a:pt x="19837" y="11409"/>
                  <a:pt x="19879" y="11343"/>
                  <a:pt x="19883" y="11331"/>
                </a:cubicBezTo>
                <a:cubicBezTo>
                  <a:pt x="19912" y="11248"/>
                  <a:pt x="19918" y="11116"/>
                  <a:pt x="19883" y="11033"/>
                </a:cubicBezTo>
                <a:cubicBezTo>
                  <a:pt x="19870" y="11004"/>
                  <a:pt x="19862" y="11013"/>
                  <a:pt x="19844" y="10993"/>
                </a:cubicBezTo>
                <a:cubicBezTo>
                  <a:pt x="19817" y="10963"/>
                  <a:pt x="19822" y="10953"/>
                  <a:pt x="19784" y="10934"/>
                </a:cubicBezTo>
                <a:cubicBezTo>
                  <a:pt x="19757" y="10920"/>
                  <a:pt x="19747" y="10925"/>
                  <a:pt x="19705" y="10914"/>
                </a:cubicBezTo>
                <a:cubicBezTo>
                  <a:pt x="19553" y="10875"/>
                  <a:pt x="19325" y="10921"/>
                  <a:pt x="19189" y="10974"/>
                </a:cubicBezTo>
                <a:cubicBezTo>
                  <a:pt x="19149" y="10990"/>
                  <a:pt x="19089" y="11024"/>
                  <a:pt x="19070" y="11033"/>
                </a:cubicBezTo>
                <a:cubicBezTo>
                  <a:pt x="19017" y="11057"/>
                  <a:pt x="18949" y="11091"/>
                  <a:pt x="18891" y="11132"/>
                </a:cubicBezTo>
                <a:cubicBezTo>
                  <a:pt x="18811" y="11188"/>
                  <a:pt x="18748" y="11251"/>
                  <a:pt x="18693" y="11331"/>
                </a:cubicBezTo>
                <a:cubicBezTo>
                  <a:pt x="18671" y="11363"/>
                  <a:pt x="18653" y="11394"/>
                  <a:pt x="18633" y="11430"/>
                </a:cubicBezTo>
                <a:cubicBezTo>
                  <a:pt x="18618" y="11456"/>
                  <a:pt x="18610" y="11515"/>
                  <a:pt x="18594" y="11549"/>
                </a:cubicBezTo>
                <a:cubicBezTo>
                  <a:pt x="18582" y="11575"/>
                  <a:pt x="18566" y="11602"/>
                  <a:pt x="18554" y="11628"/>
                </a:cubicBezTo>
                <a:cubicBezTo>
                  <a:pt x="18531" y="11678"/>
                  <a:pt x="18520" y="11703"/>
                  <a:pt x="18494" y="11748"/>
                </a:cubicBezTo>
                <a:cubicBezTo>
                  <a:pt x="18471" y="11788"/>
                  <a:pt x="18470" y="11803"/>
                  <a:pt x="18455" y="11827"/>
                </a:cubicBezTo>
                <a:cubicBezTo>
                  <a:pt x="18433" y="11863"/>
                  <a:pt x="18393" y="11927"/>
                  <a:pt x="18375" y="11946"/>
                </a:cubicBezTo>
                <a:cubicBezTo>
                  <a:pt x="18362" y="11961"/>
                  <a:pt x="18342" y="11982"/>
                  <a:pt x="18316" y="12005"/>
                </a:cubicBezTo>
                <a:cubicBezTo>
                  <a:pt x="18283" y="12034"/>
                  <a:pt x="18234" y="12081"/>
                  <a:pt x="18197" y="12105"/>
                </a:cubicBezTo>
                <a:cubicBezTo>
                  <a:pt x="18181" y="12115"/>
                  <a:pt x="18080" y="12163"/>
                  <a:pt x="18078" y="12164"/>
                </a:cubicBezTo>
                <a:cubicBezTo>
                  <a:pt x="17977" y="12196"/>
                  <a:pt x="17776" y="12203"/>
                  <a:pt x="17701" y="12164"/>
                </a:cubicBezTo>
                <a:cubicBezTo>
                  <a:pt x="17658" y="12142"/>
                  <a:pt x="17683" y="12123"/>
                  <a:pt x="17661" y="12105"/>
                </a:cubicBezTo>
                <a:cubicBezTo>
                  <a:pt x="17629" y="12078"/>
                  <a:pt x="17614" y="12070"/>
                  <a:pt x="17582" y="12025"/>
                </a:cubicBezTo>
                <a:cubicBezTo>
                  <a:pt x="17560" y="11994"/>
                  <a:pt x="17544" y="11960"/>
                  <a:pt x="17522" y="11926"/>
                </a:cubicBezTo>
                <a:cubicBezTo>
                  <a:pt x="17496" y="11886"/>
                  <a:pt x="17448" y="11796"/>
                  <a:pt x="17423" y="11748"/>
                </a:cubicBezTo>
                <a:cubicBezTo>
                  <a:pt x="17399" y="11700"/>
                  <a:pt x="17382" y="11658"/>
                  <a:pt x="17343" y="11609"/>
                </a:cubicBezTo>
                <a:cubicBezTo>
                  <a:pt x="17322" y="11583"/>
                  <a:pt x="17289" y="11536"/>
                  <a:pt x="17264" y="11509"/>
                </a:cubicBezTo>
                <a:cubicBezTo>
                  <a:pt x="17238" y="11481"/>
                  <a:pt x="17199" y="11434"/>
                  <a:pt x="17165" y="11410"/>
                </a:cubicBezTo>
                <a:cubicBezTo>
                  <a:pt x="17133" y="11388"/>
                  <a:pt x="17081" y="11350"/>
                  <a:pt x="17046" y="11331"/>
                </a:cubicBezTo>
                <a:cubicBezTo>
                  <a:pt x="16993" y="11301"/>
                  <a:pt x="16916" y="11296"/>
                  <a:pt x="16867" y="11271"/>
                </a:cubicBezTo>
                <a:cubicBezTo>
                  <a:pt x="16840" y="11257"/>
                  <a:pt x="16798" y="11217"/>
                  <a:pt x="16788" y="11212"/>
                </a:cubicBezTo>
                <a:cubicBezTo>
                  <a:pt x="16743" y="11191"/>
                  <a:pt x="16700" y="11172"/>
                  <a:pt x="16649" y="11152"/>
                </a:cubicBezTo>
                <a:cubicBezTo>
                  <a:pt x="16607" y="11135"/>
                  <a:pt x="16551" y="11105"/>
                  <a:pt x="16510" y="11093"/>
                </a:cubicBezTo>
                <a:cubicBezTo>
                  <a:pt x="16450" y="11075"/>
                  <a:pt x="16393" y="11082"/>
                  <a:pt x="16331" y="11073"/>
                </a:cubicBezTo>
                <a:cubicBezTo>
                  <a:pt x="16220" y="11057"/>
                  <a:pt x="16104" y="11038"/>
                  <a:pt x="15994" y="11033"/>
                </a:cubicBezTo>
                <a:cubicBezTo>
                  <a:pt x="15821" y="11025"/>
                  <a:pt x="15711" y="11076"/>
                  <a:pt x="15558" y="11112"/>
                </a:cubicBezTo>
                <a:cubicBezTo>
                  <a:pt x="15487" y="11129"/>
                  <a:pt x="15428" y="11126"/>
                  <a:pt x="15359" y="11152"/>
                </a:cubicBezTo>
                <a:cubicBezTo>
                  <a:pt x="15319" y="11167"/>
                  <a:pt x="15280" y="11196"/>
                  <a:pt x="15240" y="11212"/>
                </a:cubicBezTo>
                <a:cubicBezTo>
                  <a:pt x="15185" y="11235"/>
                  <a:pt x="15139" y="11263"/>
                  <a:pt x="15081" y="11291"/>
                </a:cubicBezTo>
                <a:cubicBezTo>
                  <a:pt x="15004" y="11328"/>
                  <a:pt x="14942" y="11370"/>
                  <a:pt x="14883" y="11410"/>
                </a:cubicBezTo>
                <a:cubicBezTo>
                  <a:pt x="14847" y="11435"/>
                  <a:pt x="14814" y="11444"/>
                  <a:pt x="14784" y="11470"/>
                </a:cubicBezTo>
                <a:cubicBezTo>
                  <a:pt x="14757" y="11494"/>
                  <a:pt x="14730" y="11519"/>
                  <a:pt x="14704" y="11549"/>
                </a:cubicBezTo>
                <a:cubicBezTo>
                  <a:pt x="14683" y="11573"/>
                  <a:pt x="14664" y="11600"/>
                  <a:pt x="14645" y="11628"/>
                </a:cubicBezTo>
                <a:cubicBezTo>
                  <a:pt x="14615" y="11671"/>
                  <a:pt x="14592" y="11741"/>
                  <a:pt x="14565" y="11787"/>
                </a:cubicBezTo>
                <a:cubicBezTo>
                  <a:pt x="14537" y="11834"/>
                  <a:pt x="14528" y="11866"/>
                  <a:pt x="14506" y="11906"/>
                </a:cubicBezTo>
                <a:cubicBezTo>
                  <a:pt x="14491" y="11934"/>
                  <a:pt x="14479" y="11958"/>
                  <a:pt x="14466" y="11986"/>
                </a:cubicBezTo>
                <a:cubicBezTo>
                  <a:pt x="14449" y="12021"/>
                  <a:pt x="14414" y="12046"/>
                  <a:pt x="14407" y="12085"/>
                </a:cubicBezTo>
                <a:cubicBezTo>
                  <a:pt x="14401" y="12117"/>
                  <a:pt x="14388" y="12100"/>
                  <a:pt x="14387" y="12144"/>
                </a:cubicBezTo>
                <a:cubicBezTo>
                  <a:pt x="14386" y="12203"/>
                  <a:pt x="14400" y="12273"/>
                  <a:pt x="14426" y="12323"/>
                </a:cubicBezTo>
                <a:cubicBezTo>
                  <a:pt x="14455" y="12379"/>
                  <a:pt x="14508" y="12392"/>
                  <a:pt x="14545" y="12442"/>
                </a:cubicBezTo>
                <a:cubicBezTo>
                  <a:pt x="14616" y="12538"/>
                  <a:pt x="14697" y="12605"/>
                  <a:pt x="14784" y="12680"/>
                </a:cubicBezTo>
                <a:cubicBezTo>
                  <a:pt x="14794" y="12688"/>
                  <a:pt x="14828" y="12707"/>
                  <a:pt x="14843" y="12720"/>
                </a:cubicBezTo>
                <a:cubicBezTo>
                  <a:pt x="14866" y="12700"/>
                  <a:pt x="14869" y="12688"/>
                  <a:pt x="14903" y="12660"/>
                </a:cubicBezTo>
                <a:cubicBezTo>
                  <a:pt x="14942" y="12628"/>
                  <a:pt x="14969" y="12610"/>
                  <a:pt x="15002" y="12581"/>
                </a:cubicBezTo>
                <a:cubicBezTo>
                  <a:pt x="15030" y="12557"/>
                  <a:pt x="15063" y="12519"/>
                  <a:pt x="15081" y="12502"/>
                </a:cubicBezTo>
                <a:cubicBezTo>
                  <a:pt x="15110" y="12474"/>
                  <a:pt x="15156" y="12424"/>
                  <a:pt x="15180" y="12402"/>
                </a:cubicBezTo>
                <a:cubicBezTo>
                  <a:pt x="15238" y="12349"/>
                  <a:pt x="15305" y="12275"/>
                  <a:pt x="15339" y="12244"/>
                </a:cubicBezTo>
                <a:cubicBezTo>
                  <a:pt x="15352" y="12233"/>
                  <a:pt x="15367" y="12191"/>
                  <a:pt x="15379" y="12184"/>
                </a:cubicBezTo>
                <a:cubicBezTo>
                  <a:pt x="15396" y="12175"/>
                  <a:pt x="15391" y="12153"/>
                  <a:pt x="15419" y="12144"/>
                </a:cubicBezTo>
                <a:cubicBezTo>
                  <a:pt x="15790" y="12022"/>
                  <a:pt x="16535" y="12126"/>
                  <a:pt x="16887" y="12204"/>
                </a:cubicBezTo>
                <a:cubicBezTo>
                  <a:pt x="16959" y="12220"/>
                  <a:pt x="17013" y="12223"/>
                  <a:pt x="17085" y="12263"/>
                </a:cubicBezTo>
                <a:cubicBezTo>
                  <a:pt x="17155" y="12303"/>
                  <a:pt x="17218" y="12374"/>
                  <a:pt x="17284" y="12422"/>
                </a:cubicBezTo>
                <a:cubicBezTo>
                  <a:pt x="17321" y="12449"/>
                  <a:pt x="17329" y="12458"/>
                  <a:pt x="17363" y="12482"/>
                </a:cubicBezTo>
                <a:cubicBezTo>
                  <a:pt x="17403" y="12510"/>
                  <a:pt x="17467" y="12545"/>
                  <a:pt x="17502" y="12581"/>
                </a:cubicBezTo>
                <a:cubicBezTo>
                  <a:pt x="17518" y="12598"/>
                  <a:pt x="17569" y="12592"/>
                  <a:pt x="17582" y="12621"/>
                </a:cubicBezTo>
                <a:cubicBezTo>
                  <a:pt x="17609" y="12681"/>
                  <a:pt x="17599" y="12737"/>
                  <a:pt x="17582" y="12779"/>
                </a:cubicBezTo>
                <a:cubicBezTo>
                  <a:pt x="17569" y="12810"/>
                  <a:pt x="17513" y="12846"/>
                  <a:pt x="17502" y="12859"/>
                </a:cubicBezTo>
                <a:cubicBezTo>
                  <a:pt x="17472" y="12893"/>
                  <a:pt x="17412" y="12895"/>
                  <a:pt x="17383" y="12918"/>
                </a:cubicBezTo>
                <a:cubicBezTo>
                  <a:pt x="17358" y="12938"/>
                  <a:pt x="17318" y="12990"/>
                  <a:pt x="17304" y="12998"/>
                </a:cubicBezTo>
                <a:cubicBezTo>
                  <a:pt x="17280" y="13013"/>
                  <a:pt x="17265" y="13004"/>
                  <a:pt x="17244" y="13018"/>
                </a:cubicBezTo>
                <a:cubicBezTo>
                  <a:pt x="17220" y="13034"/>
                  <a:pt x="17199" y="13067"/>
                  <a:pt x="17185" y="13077"/>
                </a:cubicBezTo>
                <a:cubicBezTo>
                  <a:pt x="17147" y="13104"/>
                  <a:pt x="17132" y="13102"/>
                  <a:pt x="17085" y="13137"/>
                </a:cubicBezTo>
                <a:cubicBezTo>
                  <a:pt x="17053" y="13161"/>
                  <a:pt x="17033" y="13198"/>
                  <a:pt x="17006" y="13216"/>
                </a:cubicBezTo>
                <a:cubicBezTo>
                  <a:pt x="16983" y="13232"/>
                  <a:pt x="16952" y="13237"/>
                  <a:pt x="16927" y="13256"/>
                </a:cubicBezTo>
                <a:cubicBezTo>
                  <a:pt x="16895" y="13280"/>
                  <a:pt x="16846" y="13321"/>
                  <a:pt x="16828" y="13335"/>
                </a:cubicBezTo>
                <a:cubicBezTo>
                  <a:pt x="16797" y="13357"/>
                  <a:pt x="16777" y="13374"/>
                  <a:pt x="16748" y="13395"/>
                </a:cubicBezTo>
                <a:cubicBezTo>
                  <a:pt x="16702" y="13428"/>
                  <a:pt x="16651" y="13455"/>
                  <a:pt x="16609" y="13494"/>
                </a:cubicBezTo>
                <a:cubicBezTo>
                  <a:pt x="16575" y="13525"/>
                  <a:pt x="16566" y="13519"/>
                  <a:pt x="16530" y="13553"/>
                </a:cubicBezTo>
                <a:cubicBezTo>
                  <a:pt x="16500" y="13582"/>
                  <a:pt x="16484" y="13616"/>
                  <a:pt x="16470" y="13633"/>
                </a:cubicBezTo>
                <a:cubicBezTo>
                  <a:pt x="16427" y="13685"/>
                  <a:pt x="16387" y="13730"/>
                  <a:pt x="16371" y="13772"/>
                </a:cubicBezTo>
                <a:cubicBezTo>
                  <a:pt x="16360" y="13801"/>
                  <a:pt x="16358" y="13820"/>
                  <a:pt x="16351" y="13851"/>
                </a:cubicBezTo>
                <a:cubicBezTo>
                  <a:pt x="16327" y="13961"/>
                  <a:pt x="16351" y="14097"/>
                  <a:pt x="16391" y="14168"/>
                </a:cubicBezTo>
                <a:cubicBezTo>
                  <a:pt x="16409" y="14200"/>
                  <a:pt x="16445" y="14205"/>
                  <a:pt x="16470" y="14228"/>
                </a:cubicBezTo>
                <a:cubicBezTo>
                  <a:pt x="16498" y="14254"/>
                  <a:pt x="16508" y="14287"/>
                  <a:pt x="16550" y="14307"/>
                </a:cubicBezTo>
                <a:cubicBezTo>
                  <a:pt x="16588" y="14325"/>
                  <a:pt x="16668" y="14340"/>
                  <a:pt x="16708" y="14347"/>
                </a:cubicBezTo>
                <a:cubicBezTo>
                  <a:pt x="16804" y="14364"/>
                  <a:pt x="16983" y="14356"/>
                  <a:pt x="17046" y="14327"/>
                </a:cubicBezTo>
                <a:cubicBezTo>
                  <a:pt x="17074" y="14314"/>
                  <a:pt x="17087" y="14301"/>
                  <a:pt x="17105" y="14288"/>
                </a:cubicBezTo>
                <a:cubicBezTo>
                  <a:pt x="17115" y="14281"/>
                  <a:pt x="17153" y="14240"/>
                  <a:pt x="17165" y="14228"/>
                </a:cubicBezTo>
                <a:cubicBezTo>
                  <a:pt x="17186" y="14207"/>
                  <a:pt x="17201" y="14155"/>
                  <a:pt x="17224" y="14129"/>
                </a:cubicBezTo>
                <a:cubicBezTo>
                  <a:pt x="17250" y="14101"/>
                  <a:pt x="17308" y="14052"/>
                  <a:pt x="17324" y="14030"/>
                </a:cubicBezTo>
                <a:cubicBezTo>
                  <a:pt x="17339" y="14009"/>
                  <a:pt x="17341" y="14000"/>
                  <a:pt x="17363" y="13970"/>
                </a:cubicBezTo>
                <a:cubicBezTo>
                  <a:pt x="17385" y="13941"/>
                  <a:pt x="17404" y="13905"/>
                  <a:pt x="17423" y="13871"/>
                </a:cubicBezTo>
                <a:cubicBezTo>
                  <a:pt x="17438" y="13845"/>
                  <a:pt x="17430" y="13833"/>
                  <a:pt x="17443" y="13811"/>
                </a:cubicBezTo>
                <a:cubicBezTo>
                  <a:pt x="17452" y="13797"/>
                  <a:pt x="17486" y="13762"/>
                  <a:pt x="17502" y="13732"/>
                </a:cubicBezTo>
                <a:cubicBezTo>
                  <a:pt x="17515" y="13708"/>
                  <a:pt x="17508" y="13702"/>
                  <a:pt x="17522" y="13672"/>
                </a:cubicBezTo>
                <a:cubicBezTo>
                  <a:pt x="17533" y="13649"/>
                  <a:pt x="17551" y="13612"/>
                  <a:pt x="17562" y="13593"/>
                </a:cubicBezTo>
                <a:cubicBezTo>
                  <a:pt x="17565" y="13587"/>
                  <a:pt x="17591" y="13550"/>
                  <a:pt x="17601" y="13533"/>
                </a:cubicBezTo>
                <a:cubicBezTo>
                  <a:pt x="17623" y="13496"/>
                  <a:pt x="17664" y="13443"/>
                  <a:pt x="17681" y="13414"/>
                </a:cubicBezTo>
                <a:cubicBezTo>
                  <a:pt x="17659" y="13425"/>
                  <a:pt x="17624" y="13422"/>
                  <a:pt x="17601" y="13434"/>
                </a:cubicBezTo>
                <a:cubicBezTo>
                  <a:pt x="17569" y="13451"/>
                  <a:pt x="17565" y="13461"/>
                  <a:pt x="17542" y="13474"/>
                </a:cubicBezTo>
                <a:cubicBezTo>
                  <a:pt x="17523" y="13485"/>
                  <a:pt x="17496" y="13506"/>
                  <a:pt x="17482" y="13514"/>
                </a:cubicBezTo>
                <a:cubicBezTo>
                  <a:pt x="17459" y="13527"/>
                  <a:pt x="17455" y="13536"/>
                  <a:pt x="17423" y="13553"/>
                </a:cubicBezTo>
                <a:cubicBezTo>
                  <a:pt x="17409" y="13560"/>
                  <a:pt x="17386" y="13571"/>
                  <a:pt x="17383" y="13573"/>
                </a:cubicBezTo>
                <a:cubicBezTo>
                  <a:pt x="17403" y="13562"/>
                  <a:pt x="17419" y="13568"/>
                  <a:pt x="17443" y="13553"/>
                </a:cubicBezTo>
                <a:cubicBezTo>
                  <a:pt x="17465" y="13540"/>
                  <a:pt x="17475" y="13538"/>
                  <a:pt x="17502" y="13514"/>
                </a:cubicBezTo>
                <a:cubicBezTo>
                  <a:pt x="17513" y="13504"/>
                  <a:pt x="17547" y="13462"/>
                  <a:pt x="17562" y="13454"/>
                </a:cubicBezTo>
                <a:cubicBezTo>
                  <a:pt x="17581" y="13444"/>
                  <a:pt x="17589" y="13420"/>
                  <a:pt x="17601" y="13414"/>
                </a:cubicBezTo>
                <a:cubicBezTo>
                  <a:pt x="17623" y="13403"/>
                  <a:pt x="17634" y="13409"/>
                  <a:pt x="17661" y="13395"/>
                </a:cubicBezTo>
                <a:cubicBezTo>
                  <a:pt x="17681" y="13395"/>
                  <a:pt x="17688" y="13395"/>
                  <a:pt x="17701" y="13395"/>
                </a:cubicBezTo>
                <a:cubicBezTo>
                  <a:pt x="17706" y="13498"/>
                  <a:pt x="17733" y="13627"/>
                  <a:pt x="17740" y="13692"/>
                </a:cubicBezTo>
                <a:cubicBezTo>
                  <a:pt x="17743" y="13718"/>
                  <a:pt x="17736" y="13746"/>
                  <a:pt x="17740" y="13772"/>
                </a:cubicBezTo>
                <a:cubicBezTo>
                  <a:pt x="17669" y="13751"/>
                  <a:pt x="17616" y="13755"/>
                  <a:pt x="17562" y="13732"/>
                </a:cubicBezTo>
                <a:cubicBezTo>
                  <a:pt x="17554" y="13729"/>
                  <a:pt x="17538" y="13700"/>
                  <a:pt x="17522" y="13692"/>
                </a:cubicBezTo>
                <a:cubicBezTo>
                  <a:pt x="17501" y="13681"/>
                  <a:pt x="17487" y="13686"/>
                  <a:pt x="17462" y="13672"/>
                </a:cubicBezTo>
                <a:cubicBezTo>
                  <a:pt x="17447" y="13663"/>
                  <a:pt x="17422" y="13644"/>
                  <a:pt x="17403" y="13633"/>
                </a:cubicBezTo>
                <a:cubicBezTo>
                  <a:pt x="17380" y="13619"/>
                  <a:pt x="17406" y="13626"/>
                  <a:pt x="17383" y="13613"/>
                </a:cubicBezTo>
                <a:cubicBezTo>
                  <a:pt x="17484" y="13621"/>
                  <a:pt x="17591" y="13637"/>
                  <a:pt x="17641" y="13652"/>
                </a:cubicBezTo>
                <a:cubicBezTo>
                  <a:pt x="17661" y="13652"/>
                  <a:pt x="17668" y="13652"/>
                  <a:pt x="17661" y="13672"/>
                </a:cubicBezTo>
              </a:path>
              <a:path w="7561" h="6093">
                <a:moveTo>
                  <a:pt x="18276" y="13831"/>
                </a:moveTo>
                <a:cubicBezTo>
                  <a:pt x="18381" y="13831"/>
                  <a:pt x="18541" y="13814"/>
                  <a:pt x="18613" y="13851"/>
                </a:cubicBezTo>
                <a:cubicBezTo>
                  <a:pt x="18638" y="13864"/>
                  <a:pt x="18703" y="13851"/>
                  <a:pt x="18732" y="13851"/>
                </a:cubicBezTo>
                <a:cubicBezTo>
                  <a:pt x="18732" y="13745"/>
                  <a:pt x="18732" y="13639"/>
                  <a:pt x="18732" y="13533"/>
                </a:cubicBezTo>
                <a:cubicBezTo>
                  <a:pt x="18687" y="13533"/>
                  <a:pt x="18673" y="13543"/>
                  <a:pt x="18653" y="13553"/>
                </a:cubicBezTo>
                <a:cubicBezTo>
                  <a:pt x="18631" y="13564"/>
                  <a:pt x="18584" y="13568"/>
                  <a:pt x="18574" y="13573"/>
                </a:cubicBezTo>
                <a:cubicBezTo>
                  <a:pt x="18556" y="13582"/>
                  <a:pt x="18519" y="13590"/>
                  <a:pt x="18514" y="13593"/>
                </a:cubicBezTo>
                <a:cubicBezTo>
                  <a:pt x="18494" y="13603"/>
                  <a:pt x="18487" y="13627"/>
                  <a:pt x="18475" y="13633"/>
                </a:cubicBezTo>
                <a:cubicBezTo>
                  <a:pt x="18456" y="13643"/>
                  <a:pt x="18447" y="13666"/>
                  <a:pt x="18435" y="13672"/>
                </a:cubicBezTo>
                <a:cubicBezTo>
                  <a:pt x="18409" y="13685"/>
                  <a:pt x="18387" y="13692"/>
                  <a:pt x="18355" y="13692"/>
                </a:cubicBezTo>
                <a:cubicBezTo>
                  <a:pt x="18319" y="13692"/>
                  <a:pt x="18308" y="13726"/>
                  <a:pt x="18296" y="13732"/>
                </a:cubicBezTo>
                <a:cubicBezTo>
                  <a:pt x="18270" y="13745"/>
                  <a:pt x="18285" y="13742"/>
                  <a:pt x="18256" y="13752"/>
                </a:cubicBezTo>
                <a:cubicBezTo>
                  <a:pt x="18256" y="13793"/>
                  <a:pt x="18255" y="13791"/>
                  <a:pt x="18296" y="13791"/>
                </a:cubicBezTo>
                <a:cubicBezTo>
                  <a:pt x="18369" y="13791"/>
                  <a:pt x="18432" y="13792"/>
                  <a:pt x="18494" y="13772"/>
                </a:cubicBezTo>
                <a:cubicBezTo>
                  <a:pt x="18516" y="13765"/>
                  <a:pt x="18531" y="13757"/>
                  <a:pt x="18534" y="13732"/>
                </a:cubicBezTo>
                <a:cubicBezTo>
                  <a:pt x="18538" y="13699"/>
                  <a:pt x="18554" y="13717"/>
                  <a:pt x="18554" y="13672"/>
                </a:cubicBezTo>
                <a:cubicBezTo>
                  <a:pt x="18554" y="13615"/>
                  <a:pt x="18567" y="13648"/>
                  <a:pt x="18554" y="13672"/>
                </a:cubicBezTo>
                <a:cubicBezTo>
                  <a:pt x="18543" y="13692"/>
                  <a:pt x="18496" y="13710"/>
                  <a:pt x="18475" y="13712"/>
                </a:cubicBezTo>
                <a:cubicBezTo>
                  <a:pt x="18462" y="13713"/>
                  <a:pt x="18364" y="13712"/>
                  <a:pt x="18415" y="13712"/>
                </a:cubicBezTo>
                <a:cubicBezTo>
                  <a:pt x="18473" y="13712"/>
                  <a:pt x="18718" y="13735"/>
                  <a:pt x="18732" y="13692"/>
                </a:cubicBezTo>
                <a:cubicBezTo>
                  <a:pt x="18701" y="13692"/>
                  <a:pt x="18677" y="13680"/>
                  <a:pt x="18673" y="13712"/>
                </a:cubicBezTo>
                <a:cubicBezTo>
                  <a:pt x="18671" y="13731"/>
                  <a:pt x="18673" y="13753"/>
                  <a:pt x="18673" y="13772"/>
                </a:cubicBezTo>
                <a:cubicBezTo>
                  <a:pt x="18703" y="13762"/>
                  <a:pt x="18693" y="13748"/>
                  <a:pt x="18693" y="13712"/>
                </a:cubicBezTo>
                <a:cubicBezTo>
                  <a:pt x="18693" y="13639"/>
                  <a:pt x="18693" y="13567"/>
                  <a:pt x="18693" y="13494"/>
                </a:cubicBezTo>
                <a:cubicBezTo>
                  <a:pt x="18685" y="13525"/>
                  <a:pt x="18673" y="13537"/>
                  <a:pt x="18673" y="13573"/>
                </a:cubicBezTo>
                <a:cubicBezTo>
                  <a:pt x="18673" y="13637"/>
                  <a:pt x="18656" y="13585"/>
                  <a:pt x="18633" y="13613"/>
                </a:cubicBezTo>
                <a:cubicBezTo>
                  <a:pt x="18618" y="13632"/>
                  <a:pt x="18586" y="13618"/>
                  <a:pt x="18574" y="13633"/>
                </a:cubicBezTo>
                <a:cubicBezTo>
                  <a:pt x="18574" y="13652"/>
                  <a:pt x="18574" y="13659"/>
                  <a:pt x="18574" y="13672"/>
                </a:cubicBezTo>
              </a:path>
              <a:path w="7561" h="6093">
                <a:moveTo>
                  <a:pt x="20856" y="16649"/>
                </a:moveTo>
                <a:cubicBezTo>
                  <a:pt x="20862" y="16674"/>
                  <a:pt x="20886" y="16715"/>
                  <a:pt x="20915" y="16728"/>
                </a:cubicBezTo>
                <a:cubicBezTo>
                  <a:pt x="20937" y="16738"/>
                  <a:pt x="20941" y="16761"/>
                  <a:pt x="20955" y="16768"/>
                </a:cubicBezTo>
                <a:cubicBezTo>
                  <a:pt x="20985" y="16783"/>
                  <a:pt x="21021" y="16817"/>
                  <a:pt x="21054" y="16828"/>
                </a:cubicBezTo>
                <a:cubicBezTo>
                  <a:pt x="21092" y="16841"/>
                  <a:pt x="21120" y="16808"/>
                  <a:pt x="21134" y="16847"/>
                </a:cubicBezTo>
                <a:cubicBezTo>
                  <a:pt x="21104" y="16857"/>
                  <a:pt x="21111" y="16865"/>
                  <a:pt x="21094" y="16887"/>
                </a:cubicBezTo>
                <a:cubicBezTo>
                  <a:pt x="21072" y="16917"/>
                  <a:pt x="21047" y="16911"/>
                  <a:pt x="21034" y="16927"/>
                </a:cubicBezTo>
                <a:cubicBezTo>
                  <a:pt x="21019" y="16945"/>
                  <a:pt x="21013" y="16962"/>
                  <a:pt x="20975" y="16966"/>
                </a:cubicBezTo>
                <a:cubicBezTo>
                  <a:pt x="20948" y="16969"/>
                  <a:pt x="20932" y="16965"/>
                  <a:pt x="20915" y="16986"/>
                </a:cubicBezTo>
                <a:cubicBezTo>
                  <a:pt x="20897" y="17009"/>
                  <a:pt x="20898" y="17006"/>
                  <a:pt x="20856" y="17006"/>
                </a:cubicBezTo>
                <a:cubicBezTo>
                  <a:pt x="20849" y="17006"/>
                  <a:pt x="20843" y="17006"/>
                  <a:pt x="20836" y="17006"/>
                </a:cubicBezTo>
                <a:cubicBezTo>
                  <a:pt x="20836" y="16946"/>
                  <a:pt x="20812" y="16703"/>
                  <a:pt x="20856" y="16689"/>
                </a:cubicBezTo>
                <a:cubicBezTo>
                  <a:pt x="20856" y="16630"/>
                  <a:pt x="20854" y="16726"/>
                  <a:pt x="20856" y="16728"/>
                </a:cubicBezTo>
                <a:cubicBezTo>
                  <a:pt x="20875" y="16743"/>
                  <a:pt x="20881" y="16748"/>
                  <a:pt x="20915" y="16748"/>
                </a:cubicBezTo>
                <a:cubicBezTo>
                  <a:pt x="20937" y="16748"/>
                  <a:pt x="20953" y="16768"/>
                  <a:pt x="20955" y="16788"/>
                </a:cubicBezTo>
                <a:cubicBezTo>
                  <a:pt x="20965" y="16866"/>
                  <a:pt x="20975" y="16839"/>
                  <a:pt x="21015" y="16907"/>
                </a:cubicBezTo>
                <a:cubicBezTo>
                  <a:pt x="21015" y="16914"/>
                  <a:pt x="21015" y="16920"/>
                  <a:pt x="21015" y="16927"/>
                </a:cubicBezTo>
                <a:cubicBezTo>
                  <a:pt x="20982" y="16927"/>
                  <a:pt x="20939" y="16941"/>
                  <a:pt x="20935" y="16907"/>
                </a:cubicBezTo>
                <a:cubicBezTo>
                  <a:pt x="20935" y="16887"/>
                  <a:pt x="20935" y="16880"/>
                  <a:pt x="20935" y="16867"/>
                </a:cubicBezTo>
              </a:path>
              <a:path w="7561" h="6093">
                <a:moveTo>
                  <a:pt x="20598" y="14129"/>
                </a:moveTo>
                <a:cubicBezTo>
                  <a:pt x="20717" y="14129"/>
                  <a:pt x="20836" y="14129"/>
                  <a:pt x="20955" y="14129"/>
                </a:cubicBezTo>
                <a:cubicBezTo>
                  <a:pt x="20955" y="14174"/>
                  <a:pt x="20947" y="14191"/>
                  <a:pt x="20935" y="14228"/>
                </a:cubicBezTo>
                <a:cubicBezTo>
                  <a:pt x="20921" y="14270"/>
                  <a:pt x="20948" y="14290"/>
                  <a:pt x="20915" y="14327"/>
                </a:cubicBezTo>
                <a:cubicBezTo>
                  <a:pt x="20897" y="14345"/>
                  <a:pt x="20890" y="14349"/>
                  <a:pt x="20895" y="14367"/>
                </a:cubicBezTo>
                <a:cubicBezTo>
                  <a:pt x="20864" y="14378"/>
                  <a:pt x="20887" y="14377"/>
                  <a:pt x="20856" y="14387"/>
                </a:cubicBezTo>
                <a:cubicBezTo>
                  <a:pt x="20856" y="14407"/>
                  <a:pt x="20856" y="14414"/>
                  <a:pt x="20836" y="14407"/>
                </a:cubicBezTo>
              </a:path>
              <a:path w="7561" h="6093">
                <a:moveTo>
                  <a:pt x="20598" y="14129"/>
                </a:moveTo>
                <a:cubicBezTo>
                  <a:pt x="20607" y="14163"/>
                  <a:pt x="20631" y="14181"/>
                  <a:pt x="20657" y="14208"/>
                </a:cubicBezTo>
                <a:cubicBezTo>
                  <a:pt x="20673" y="14224"/>
                  <a:pt x="20714" y="14263"/>
                  <a:pt x="20717" y="14268"/>
                </a:cubicBezTo>
                <a:cubicBezTo>
                  <a:pt x="20727" y="14288"/>
                  <a:pt x="20751" y="14295"/>
                  <a:pt x="20757" y="14307"/>
                </a:cubicBezTo>
                <a:cubicBezTo>
                  <a:pt x="20760" y="14312"/>
                  <a:pt x="20771" y="14363"/>
                  <a:pt x="20776" y="14367"/>
                </a:cubicBezTo>
                <a:cubicBezTo>
                  <a:pt x="20792" y="14380"/>
                  <a:pt x="20795" y="14380"/>
                  <a:pt x="20816" y="14387"/>
                </a:cubicBezTo>
                <a:cubicBezTo>
                  <a:pt x="20816" y="14321"/>
                  <a:pt x="20816" y="14254"/>
                  <a:pt x="20816" y="14188"/>
                </a:cubicBezTo>
                <a:cubicBezTo>
                  <a:pt x="20858" y="14188"/>
                  <a:pt x="20856" y="14186"/>
                  <a:pt x="20856" y="14228"/>
                </a:cubicBezTo>
                <a:cubicBezTo>
                  <a:pt x="20856" y="14235"/>
                  <a:pt x="20856" y="14241"/>
                  <a:pt x="20856" y="14248"/>
                </a:cubicBezTo>
              </a:path>
              <a:path w="7561" h="6093">
                <a:moveTo>
                  <a:pt x="18871" y="12005"/>
                </a:moveTo>
                <a:cubicBezTo>
                  <a:pt x="19010" y="12005"/>
                  <a:pt x="19149" y="12005"/>
                  <a:pt x="19288" y="12005"/>
                </a:cubicBezTo>
                <a:cubicBezTo>
                  <a:pt x="19297" y="11978"/>
                  <a:pt x="19295" y="11986"/>
                  <a:pt x="19328" y="11986"/>
                </a:cubicBezTo>
                <a:cubicBezTo>
                  <a:pt x="19328" y="12071"/>
                  <a:pt x="19332" y="12151"/>
                  <a:pt x="19308" y="12224"/>
                </a:cubicBezTo>
                <a:cubicBezTo>
                  <a:pt x="19289" y="12280"/>
                  <a:pt x="19342" y="12444"/>
                  <a:pt x="19288" y="12462"/>
                </a:cubicBezTo>
              </a:path>
              <a:path w="7561" h="6093">
                <a:moveTo>
                  <a:pt x="18931" y="12085"/>
                </a:moveTo>
                <a:cubicBezTo>
                  <a:pt x="18940" y="12112"/>
                  <a:pt x="18959" y="12109"/>
                  <a:pt x="18971" y="12144"/>
                </a:cubicBezTo>
                <a:cubicBezTo>
                  <a:pt x="18979" y="12167"/>
                  <a:pt x="18997" y="12180"/>
                  <a:pt x="19030" y="12184"/>
                </a:cubicBezTo>
                <a:cubicBezTo>
                  <a:pt x="19062" y="12188"/>
                  <a:pt x="19052" y="12215"/>
                  <a:pt x="19070" y="12224"/>
                </a:cubicBezTo>
                <a:cubicBezTo>
                  <a:pt x="19091" y="12235"/>
                  <a:pt x="19098" y="12253"/>
                  <a:pt x="19129" y="12263"/>
                </a:cubicBezTo>
                <a:cubicBezTo>
                  <a:pt x="19151" y="12270"/>
                  <a:pt x="19166" y="12278"/>
                  <a:pt x="19169" y="12303"/>
                </a:cubicBezTo>
                <a:cubicBezTo>
                  <a:pt x="19171" y="12315"/>
                  <a:pt x="19179" y="12346"/>
                  <a:pt x="19189" y="12363"/>
                </a:cubicBezTo>
                <a:cubicBezTo>
                  <a:pt x="19198" y="12379"/>
                  <a:pt x="19224" y="12419"/>
                  <a:pt x="19229" y="12422"/>
                </a:cubicBezTo>
                <a:cubicBezTo>
                  <a:pt x="19248" y="12422"/>
                  <a:pt x="19255" y="12422"/>
                  <a:pt x="19268" y="12422"/>
                </a:cubicBezTo>
                <a:cubicBezTo>
                  <a:pt x="19298" y="12412"/>
                  <a:pt x="19288" y="12399"/>
                  <a:pt x="19288" y="12363"/>
                </a:cubicBezTo>
                <a:cubicBezTo>
                  <a:pt x="19288" y="12303"/>
                  <a:pt x="19288" y="12244"/>
                  <a:pt x="19288" y="12184"/>
                </a:cubicBezTo>
                <a:cubicBezTo>
                  <a:pt x="19245" y="12184"/>
                  <a:pt x="19095" y="12201"/>
                  <a:pt x="19090" y="12164"/>
                </a:cubicBezTo>
                <a:cubicBezTo>
                  <a:pt x="19087" y="12142"/>
                  <a:pt x="19048" y="12131"/>
                  <a:pt x="19030" y="12125"/>
                </a:cubicBezTo>
                <a:cubicBezTo>
                  <a:pt x="19060" y="12115"/>
                  <a:pt x="19047" y="12105"/>
                  <a:pt x="19090" y="12105"/>
                </a:cubicBezTo>
                <a:cubicBezTo>
                  <a:pt x="19130" y="12105"/>
                  <a:pt x="19169" y="12105"/>
                  <a:pt x="19209" y="12105"/>
                </a:cubicBezTo>
                <a:cubicBezTo>
                  <a:pt x="19209" y="12171"/>
                  <a:pt x="19209" y="12237"/>
                  <a:pt x="19209" y="12303"/>
                </a:cubicBezTo>
                <a:cubicBezTo>
                  <a:pt x="19228" y="12297"/>
                  <a:pt x="19246" y="12263"/>
                  <a:pt x="19248" y="12244"/>
                </a:cubicBezTo>
                <a:cubicBezTo>
                  <a:pt x="19254" y="12193"/>
                  <a:pt x="19248" y="12137"/>
                  <a:pt x="19248" y="12085"/>
                </a:cubicBezTo>
                <a:cubicBezTo>
                  <a:pt x="19175" y="12085"/>
                  <a:pt x="19094" y="12087"/>
                  <a:pt x="19050" y="12065"/>
                </a:cubicBezTo>
                <a:cubicBezTo>
                  <a:pt x="19038" y="12059"/>
                  <a:pt x="19003" y="12065"/>
                  <a:pt x="18990" y="12065"/>
                </a:cubicBezTo>
              </a:path>
              <a:path w="7561" h="6093">
                <a:moveTo>
                  <a:pt x="15220" y="10954"/>
                </a:moveTo>
                <a:cubicBezTo>
                  <a:pt x="15216" y="10967"/>
                  <a:pt x="15201" y="11002"/>
                  <a:pt x="15180" y="11013"/>
                </a:cubicBezTo>
                <a:cubicBezTo>
                  <a:pt x="15155" y="11026"/>
                  <a:pt x="15161" y="11063"/>
                  <a:pt x="15141" y="11073"/>
                </a:cubicBezTo>
                <a:cubicBezTo>
                  <a:pt x="15122" y="11082"/>
                  <a:pt x="15113" y="11107"/>
                  <a:pt x="15101" y="11112"/>
                </a:cubicBezTo>
                <a:cubicBezTo>
                  <a:pt x="15073" y="11125"/>
                  <a:pt x="15026" y="11144"/>
                  <a:pt x="15022" y="11172"/>
                </a:cubicBezTo>
                <a:cubicBezTo>
                  <a:pt x="15017" y="11213"/>
                  <a:pt x="15006" y="11202"/>
                  <a:pt x="15002" y="11232"/>
                </a:cubicBezTo>
                <a:cubicBezTo>
                  <a:pt x="15002" y="11251"/>
                  <a:pt x="15002" y="11258"/>
                  <a:pt x="15002" y="11271"/>
                </a:cubicBezTo>
                <a:cubicBezTo>
                  <a:pt x="15107" y="11271"/>
                  <a:pt x="15308" y="11230"/>
                  <a:pt x="15399" y="11291"/>
                </a:cubicBezTo>
                <a:cubicBezTo>
                  <a:pt x="15433" y="11314"/>
                  <a:pt x="15456" y="11311"/>
                  <a:pt x="15498" y="11311"/>
                </a:cubicBezTo>
                <a:cubicBezTo>
                  <a:pt x="15505" y="11311"/>
                  <a:pt x="15511" y="11311"/>
                  <a:pt x="15518" y="11311"/>
                </a:cubicBezTo>
              </a:path>
              <a:path w="7561" h="6093">
                <a:moveTo>
                  <a:pt x="15260" y="10934"/>
                </a:moveTo>
                <a:cubicBezTo>
                  <a:pt x="15295" y="10934"/>
                  <a:pt x="15307" y="10938"/>
                  <a:pt x="15319" y="10974"/>
                </a:cubicBezTo>
                <a:cubicBezTo>
                  <a:pt x="15330" y="11007"/>
                  <a:pt x="15371" y="11038"/>
                  <a:pt x="15379" y="11053"/>
                </a:cubicBezTo>
                <a:cubicBezTo>
                  <a:pt x="15381" y="11058"/>
                  <a:pt x="15395" y="11109"/>
                  <a:pt x="15399" y="11112"/>
                </a:cubicBezTo>
                <a:cubicBezTo>
                  <a:pt x="15422" y="11130"/>
                  <a:pt x="15419" y="11130"/>
                  <a:pt x="15419" y="11172"/>
                </a:cubicBezTo>
                <a:cubicBezTo>
                  <a:pt x="15419" y="11179"/>
                  <a:pt x="15419" y="11185"/>
                  <a:pt x="15419" y="11192"/>
                </a:cubicBezTo>
                <a:cubicBezTo>
                  <a:pt x="15463" y="11192"/>
                  <a:pt x="15445" y="11208"/>
                  <a:pt x="15478" y="11212"/>
                </a:cubicBezTo>
                <a:cubicBezTo>
                  <a:pt x="15485" y="11212"/>
                  <a:pt x="15491" y="11212"/>
                  <a:pt x="15498" y="11212"/>
                </a:cubicBezTo>
                <a:cubicBezTo>
                  <a:pt x="15498" y="11243"/>
                  <a:pt x="15510" y="11267"/>
                  <a:pt x="15478" y="11271"/>
                </a:cubicBezTo>
                <a:cubicBezTo>
                  <a:pt x="15437" y="11276"/>
                  <a:pt x="15435" y="11271"/>
                  <a:pt x="15419" y="11251"/>
                </a:cubicBezTo>
                <a:cubicBezTo>
                  <a:pt x="15398" y="11224"/>
                  <a:pt x="15377" y="11225"/>
                  <a:pt x="15359" y="11212"/>
                </a:cubicBezTo>
                <a:cubicBezTo>
                  <a:pt x="15330" y="11190"/>
                  <a:pt x="15326" y="11155"/>
                  <a:pt x="15300" y="11152"/>
                </a:cubicBezTo>
                <a:cubicBezTo>
                  <a:pt x="15267" y="11148"/>
                  <a:pt x="15285" y="11132"/>
                  <a:pt x="15240" y="11132"/>
                </a:cubicBezTo>
                <a:cubicBezTo>
                  <a:pt x="15200" y="11132"/>
                  <a:pt x="15161" y="11132"/>
                  <a:pt x="15121" y="11132"/>
                </a:cubicBezTo>
                <a:cubicBezTo>
                  <a:pt x="15147" y="11132"/>
                  <a:pt x="15173" y="11126"/>
                  <a:pt x="15180" y="11112"/>
                </a:cubicBezTo>
                <a:cubicBezTo>
                  <a:pt x="15199" y="11074"/>
                  <a:pt x="15225" y="11092"/>
                  <a:pt x="15240" y="11073"/>
                </a:cubicBezTo>
                <a:cubicBezTo>
                  <a:pt x="15257" y="11051"/>
                  <a:pt x="15249" y="11043"/>
                  <a:pt x="15280" y="11033"/>
                </a:cubicBezTo>
                <a:cubicBezTo>
                  <a:pt x="15275" y="11054"/>
                  <a:pt x="15263" y="11101"/>
                  <a:pt x="15240" y="11112"/>
                </a:cubicBezTo>
                <a:cubicBezTo>
                  <a:pt x="15218" y="11123"/>
                  <a:pt x="15163" y="11124"/>
                  <a:pt x="15141" y="11132"/>
                </a:cubicBezTo>
                <a:cubicBezTo>
                  <a:pt x="15121" y="11132"/>
                  <a:pt x="15114" y="11132"/>
                  <a:pt x="15101" y="11132"/>
                </a:cubicBezTo>
                <a:cubicBezTo>
                  <a:pt x="15101" y="11163"/>
                  <a:pt x="15088" y="11188"/>
                  <a:pt x="15121" y="11192"/>
                </a:cubicBezTo>
                <a:cubicBezTo>
                  <a:pt x="15153" y="11196"/>
                  <a:pt x="15188" y="11192"/>
                  <a:pt x="15220" y="1119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23B5-3D18-41C0-B6F8-E2F8E197A4D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ostruzione della funzione T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Affinché tutti gli archi siano visitati, è fondamentale che,  per ogni nod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v,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fra l’apparizione nel tour dell’arco entrante (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 e quella dell’arco uscente (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 siano presenti tutti gli archi relativi alla visita di tutti gli altri nodi adiacenti a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er garantire questa condizione è sufficiente considerare un ordinamento ciclico degli adiacenti di ogni nodo (es. quello dato dalle liste di adiacenza). Se si entra in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con l’arco (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 se ne esce seguendo il successore di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in tale ordinamen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TDE(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 = (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 next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ove next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 identifica il nodo che segu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tra gli adiacenti di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L’algoritmo per la computazione del TDE in parallelo sarà presentato più avanti. Di seguito mostriamo come il TDE possa essere utilizzato per calcolare alcune funzioni basilari su alber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5E53-1516-48B8-B59F-458C1765AD9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dicare l’albe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: Tour di Eulero (TDE) di un albero non radicato T, dato per liste di adiacenz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: Cammino di Eulero (CDE) di T radicato in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e T rappresentato tramite vettore di padr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Algoritmo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: Sia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un qualunque adiacente di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 si spezza il TDE ponendo TDE (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v,r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 = 0. Ora, per distinguere, in ogni arco, un nodo padre e un nodo figlio, si assegna valore 1 ad ogni arco del cammino di Eulero ottenuto e si calcolano le somme prefisse S su tali valor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i avrà p(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sse S(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v,w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 &lt; S(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w,v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Nota: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 se analizziamo l'orientamento dato, vediamo che esso segue una visita di tipo DFS, ma ciò non vuol dire che abbiamo realizzato una DFS in parallelo che è anzi uno di quei problemi che restano inerentemente sequenzial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3788-47FC-4278-B9DB-6399B8DEC64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09:23:06Z</dcterms:created>
  <dc:creator>Utente della copia di valutazione di Office 2004</dc:creator>
  <dc:description/>
  <dc:language>en-US</dc:language>
  <cp:lastModifiedBy>Saverio Caminiti</cp:lastModifiedBy>
  <cp:lastPrinted>2008-02-15T15:49:41Z</cp:lastPrinted>
  <dcterms:modified xsi:type="dcterms:W3CDTF">2008-04-09T07:52:18Z</dcterms:modified>
  <cp:revision>457</cp:revision>
  <dc:subject/>
  <dc:title>Algoritmi Paralleli e Distribuiti</dc:title>
</cp:coreProperties>
</file>