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618-5253-4872-812A-18DC397F89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A86-D9C5-441C-ACBD-808BFD0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7D2-CDE0-4F16-936C-F471811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5DF-2B71-425C-B574-52C4F311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741-8DAA-4009-BCBB-3F6DC3D5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099-9EC9-4794-8307-6C01B2B4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B3A-11C5-4F89-98E6-1C2DB73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C236-C91D-4175-849C-00FB656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D7E9-8416-4030-9744-FDC6A080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330-4935-4236-AC6F-B89F8B90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35B-EFA9-435D-A19F-3A87545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F5EC-A0F2-4FD6-8847-C1849E1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953-CA8B-4CEB-97F3-7DDD58D3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432-5C9E-4328-AD33-679C668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41F6-BD73-4143-80D1-F1E3E80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1CF2-192B-4C47-B13A-0F16F8CC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612-6927-4323-9AE2-CB5DE574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AD7B-562A-4C8C-A504-3B0971E7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41D-FDAE-4871-B0DF-C9F5C13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2C4-9B74-4787-9248-64F3B3E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A07-851A-4BBF-8403-AB46CF20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927-0AC0-4ADC-BD2D-9F010B1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4A8-7187-4D1F-BA15-F08F5F9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2D1-C264-453A-B803-F810AD3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C38-8FBC-4324-A436-B3C6907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79A-EA38-45B8-9EC9-CD4989EC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926-322F-439F-AF61-69A8208E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27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ogliamo sommar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umeri avendo a disposizion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rocessori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&lt;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bbiamo già visto la tecnica dell’Accellerated Cascading per sommare con 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/log 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processori ottenendo un costo ottimo. In questo caso p è fisso e vogliamo mantenere la tecnica della prima metà come nella somma con n process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Numero di processori limitat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94920" y="3141720"/>
            <a:ext cx="3809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on n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[ j ] = A[ j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] + A[ j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0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65120" y="3141720"/>
            <a:ext cx="48992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on p &lt; n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min(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p) 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j+s*p &lt; 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[ j+s*p ] = A[ j+s*p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] + A[ j+s*p +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0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7120"/>
                <a:tab algn="l" pos="534960"/>
                <a:tab algn="l" pos="714240"/>
                <a:tab algn="l" pos="892080"/>
                <a:tab algn="l" pos="1081080"/>
                <a:tab algn="l" pos="1260360"/>
                <a:tab algn="l" pos="143820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21120" y="3141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A4A-5AFB-455A-BB6C-CBB3DF8BD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o combin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f: U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lemento combinato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un qualunque elemento di circuito che abbia un numero costante di input e output e che esegua una funzione ben prec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99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rte 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99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a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99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c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ù elementi combinatori possono essere collegati tra di loro formando un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te combinator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ove l'output di un elemento può essere l'input di uno o più altri ele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076720" y="3141720"/>
            <a:ext cx="3456000" cy="433080"/>
            <a:chOff x="5076720" y="3141720"/>
            <a:chExt cx="3456000" cy="433080"/>
          </a:xfrm>
        </p:grpSpPr>
        <p:sp>
          <p:nvSpPr>
            <p:cNvPr id="425" name=""/>
            <p:cNvSpPr/>
            <p:nvPr/>
          </p:nvSpPr>
          <p:spPr>
            <a:xfrm>
              <a:off x="5076720" y="3357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77080" y="335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72360" y="335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72360" y="3213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72360" y="35002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96360" y="3213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6360" y="35002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668360" y="3141720"/>
              <a:ext cx="574920" cy="43164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5328360" y="3106800"/>
              <a:ext cx="431640" cy="503280"/>
            </a:xfrm>
            <a:prstGeom prst="flowChartMer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32560" y="3143160"/>
              <a:ext cx="503280" cy="43164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141520" y="3954600"/>
            <a:ext cx="3249000" cy="628920"/>
            <a:chOff x="5141520" y="3954600"/>
            <a:chExt cx="3249000" cy="628920"/>
          </a:xfrm>
        </p:grpSpPr>
        <p:sp>
          <p:nvSpPr>
            <p:cNvPr id="436" name=""/>
            <p:cNvSpPr/>
            <p:nvPr/>
          </p:nvSpPr>
          <p:spPr>
            <a:xfrm>
              <a:off x="5372280" y="41461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72280" y="44337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32640" y="4001760"/>
              <a:ext cx="144000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1520" y="3966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6200" y="4267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74320" y="395460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min{x, y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73600" y="427644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max{x, y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64F-A6CA-424A-8123-4BB56E0E16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 combinato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rete combinatoria C può essere vista come un grafo diretto aciclico 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vente un nodo per ciascun elemento combinatorio c e un arco diretto (c',c") se l’output di c' è input di c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mens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una rete combinatoria è il numero di nodi del grafo e 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fondi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diametro del gra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n-i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un elemento c è il grado entrante del nodo c in 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corrisponde al numero di input dell’ele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n-ou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un elemento c è il grado uscente del nodo c in 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da notare che non necessariamente il numero di output di un elemento combinatorio è uguale al suo fan-out, infatti un elemento combinatorio con un solo filo di output può “servire” un numero qualunque di altri elem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D44-69D0-4FF7-B3BD-5D967F99A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vere un algoritmo parallelo per calcolare le somme prefisse di n numeri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 albero binario con 2n-1 process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assuma che i valori da sommare siano memorizzati uno su ciascuna delle foglia dell’albero (come nell’esempio in figura). Al termine dell’esecuzione l’i-esima foglia dovrà contenere la somma dei primi i val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68720" y="472608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39880" y="3932280"/>
            <a:ext cx="3310920" cy="2017800"/>
            <a:chOff x="839880" y="3932280"/>
            <a:chExt cx="3310920" cy="2017800"/>
          </a:xfrm>
        </p:grpSpPr>
        <p:sp>
          <p:nvSpPr>
            <p:cNvPr id="449" name=""/>
            <p:cNvSpPr/>
            <p:nvPr/>
          </p:nvSpPr>
          <p:spPr>
            <a:xfrm>
              <a:off x="1272960" y="4581360"/>
              <a:ext cx="7171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3880" y="508464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47520" y="508464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1680" y="4579920"/>
              <a:ext cx="7171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14400" y="5083200"/>
              <a:ext cx="4284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76240" y="508320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63520" y="3932280"/>
              <a:ext cx="8632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"/>
            <p:cNvCxnSpPr>
              <a:stCxn id="455" idx="2"/>
              <a:endCxn id="449" idx="0"/>
            </p:cNvCxnSpPr>
            <p:nvPr/>
          </p:nvCxnSpPr>
          <p:spPr>
            <a:xfrm flipH="1">
              <a:off x="1631160" y="4220640"/>
              <a:ext cx="86400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7" name=""/>
            <p:cNvCxnSpPr>
              <a:stCxn id="455" idx="2"/>
              <a:endCxn id="452" idx="0"/>
            </p:cNvCxnSpPr>
            <p:nvPr/>
          </p:nvCxnSpPr>
          <p:spPr>
            <a:xfrm>
              <a:off x="2494800" y="4220640"/>
              <a:ext cx="865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8" name=""/>
            <p:cNvCxnSpPr>
              <a:stCxn id="449" idx="2"/>
              <a:endCxn id="450" idx="0"/>
            </p:cNvCxnSpPr>
            <p:nvPr/>
          </p:nvCxnSpPr>
          <p:spPr>
            <a:xfrm flipH="1">
              <a:off x="1199520" y="487008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9" name=""/>
            <p:cNvCxnSpPr>
              <a:stCxn id="449" idx="2"/>
              <a:endCxn id="451" idx="0"/>
            </p:cNvCxnSpPr>
            <p:nvPr/>
          </p:nvCxnSpPr>
          <p:spPr>
            <a:xfrm>
              <a:off x="1631160" y="48700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0" name=""/>
            <p:cNvCxnSpPr>
              <a:stCxn id="452" idx="2"/>
              <a:endCxn id="453" idx="0"/>
            </p:cNvCxnSpPr>
            <p:nvPr/>
          </p:nvCxnSpPr>
          <p:spPr>
            <a:xfrm flipH="1">
              <a:off x="2927880" y="486864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1" name=""/>
            <p:cNvCxnSpPr>
              <a:stCxn id="452" idx="2"/>
              <a:endCxn id="454" idx="0"/>
            </p:cNvCxnSpPr>
            <p:nvPr/>
          </p:nvCxnSpPr>
          <p:spPr>
            <a:xfrm>
              <a:off x="3360600" y="486864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2" name=""/>
            <p:cNvCxnSpPr>
              <a:stCxn id="450" idx="2"/>
              <a:endCxn id="463" idx="0"/>
            </p:cNvCxnSpPr>
            <p:nvPr/>
          </p:nvCxnSpPr>
          <p:spPr>
            <a:xfrm flipH="1">
              <a:off x="98316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4" name=""/>
            <p:cNvCxnSpPr>
              <a:stCxn id="450" idx="2"/>
              <a:endCxn id="465" idx="0"/>
            </p:cNvCxnSpPr>
            <p:nvPr/>
          </p:nvCxnSpPr>
          <p:spPr>
            <a:xfrm>
              <a:off x="119952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6" name=""/>
            <p:cNvCxnSpPr>
              <a:stCxn id="451" idx="2"/>
              <a:endCxn id="467" idx="0"/>
            </p:cNvCxnSpPr>
            <p:nvPr/>
          </p:nvCxnSpPr>
          <p:spPr>
            <a:xfrm flipH="1">
              <a:off x="184680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8" name=""/>
            <p:cNvCxnSpPr>
              <a:stCxn id="451" idx="2"/>
              <a:endCxn id="469" idx="0"/>
            </p:cNvCxnSpPr>
            <p:nvPr/>
          </p:nvCxnSpPr>
          <p:spPr>
            <a:xfrm>
              <a:off x="206316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0" name=""/>
            <p:cNvCxnSpPr>
              <a:stCxn id="453" idx="2"/>
              <a:endCxn id="471" idx="0"/>
            </p:cNvCxnSpPr>
            <p:nvPr/>
          </p:nvCxnSpPr>
          <p:spPr>
            <a:xfrm flipH="1">
              <a:off x="2710440" y="5372280"/>
              <a:ext cx="2178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2" name=""/>
            <p:cNvCxnSpPr>
              <a:stCxn id="453" idx="2"/>
              <a:endCxn id="473" idx="0"/>
            </p:cNvCxnSpPr>
            <p:nvPr/>
          </p:nvCxnSpPr>
          <p:spPr>
            <a:xfrm>
              <a:off x="2928240" y="537228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4" name=""/>
            <p:cNvCxnSpPr>
              <a:stCxn id="454" idx="2"/>
              <a:endCxn id="475" idx="0"/>
            </p:cNvCxnSpPr>
            <p:nvPr/>
          </p:nvCxnSpPr>
          <p:spPr>
            <a:xfrm flipH="1">
              <a:off x="3574080" y="5372280"/>
              <a:ext cx="2178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54" idx="2"/>
              <a:endCxn id="477" idx="0"/>
            </p:cNvCxnSpPr>
            <p:nvPr/>
          </p:nvCxnSpPr>
          <p:spPr>
            <a:xfrm>
              <a:off x="3792240" y="5372280"/>
              <a:ext cx="2145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63" name=""/>
            <p:cNvSpPr/>
            <p:nvPr/>
          </p:nvSpPr>
          <p:spPr>
            <a:xfrm>
              <a:off x="83988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7116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0316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3480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6680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9844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3044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6208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992840" y="3932280"/>
            <a:ext cx="3310920" cy="2017800"/>
            <a:chOff x="4992840" y="3932280"/>
            <a:chExt cx="3310920" cy="2017800"/>
          </a:xfrm>
        </p:grpSpPr>
        <p:sp>
          <p:nvSpPr>
            <p:cNvPr id="479" name=""/>
            <p:cNvSpPr/>
            <p:nvPr/>
          </p:nvSpPr>
          <p:spPr>
            <a:xfrm>
              <a:off x="5425920" y="4581360"/>
              <a:ext cx="7171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36840" y="508464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00480" y="508464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54640" y="4579920"/>
              <a:ext cx="7171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67360" y="5083200"/>
              <a:ext cx="4280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29200" y="508320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16480" y="3932280"/>
              <a:ext cx="8632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6" name=""/>
            <p:cNvCxnSpPr>
              <a:stCxn id="485" idx="2"/>
              <a:endCxn id="479" idx="0"/>
            </p:cNvCxnSpPr>
            <p:nvPr/>
          </p:nvCxnSpPr>
          <p:spPr>
            <a:xfrm flipH="1">
              <a:off x="5784120" y="4220640"/>
              <a:ext cx="86400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stCxn id="485" idx="2"/>
              <a:endCxn id="482" idx="0"/>
            </p:cNvCxnSpPr>
            <p:nvPr/>
          </p:nvCxnSpPr>
          <p:spPr>
            <a:xfrm>
              <a:off x="6647760" y="4220640"/>
              <a:ext cx="865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79" idx="2"/>
              <a:endCxn id="480" idx="0"/>
            </p:cNvCxnSpPr>
            <p:nvPr/>
          </p:nvCxnSpPr>
          <p:spPr>
            <a:xfrm flipH="1">
              <a:off x="5352480" y="487008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9" name=""/>
            <p:cNvCxnSpPr>
              <a:stCxn id="479" idx="2"/>
              <a:endCxn id="481" idx="0"/>
            </p:cNvCxnSpPr>
            <p:nvPr/>
          </p:nvCxnSpPr>
          <p:spPr>
            <a:xfrm>
              <a:off x="5784120" y="48700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0" name=""/>
            <p:cNvCxnSpPr>
              <a:stCxn id="482" idx="2"/>
              <a:endCxn id="483" idx="0"/>
            </p:cNvCxnSpPr>
            <p:nvPr/>
          </p:nvCxnSpPr>
          <p:spPr>
            <a:xfrm flipH="1">
              <a:off x="7080840" y="486864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1" name=""/>
            <p:cNvCxnSpPr>
              <a:stCxn id="482" idx="2"/>
              <a:endCxn id="484" idx="0"/>
            </p:cNvCxnSpPr>
            <p:nvPr/>
          </p:nvCxnSpPr>
          <p:spPr>
            <a:xfrm>
              <a:off x="7513560" y="486864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2" name=""/>
            <p:cNvCxnSpPr>
              <a:stCxn id="480" idx="2"/>
              <a:endCxn id="493" idx="0"/>
            </p:cNvCxnSpPr>
            <p:nvPr/>
          </p:nvCxnSpPr>
          <p:spPr>
            <a:xfrm flipH="1">
              <a:off x="513612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4" name=""/>
            <p:cNvCxnSpPr>
              <a:stCxn id="480" idx="2"/>
              <a:endCxn id="495" idx="0"/>
            </p:cNvCxnSpPr>
            <p:nvPr/>
          </p:nvCxnSpPr>
          <p:spPr>
            <a:xfrm>
              <a:off x="535248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6" name=""/>
            <p:cNvCxnSpPr>
              <a:stCxn id="481" idx="2"/>
              <a:endCxn id="497" idx="0"/>
            </p:cNvCxnSpPr>
            <p:nvPr/>
          </p:nvCxnSpPr>
          <p:spPr>
            <a:xfrm flipH="1">
              <a:off x="599976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8" name=""/>
            <p:cNvCxnSpPr>
              <a:stCxn id="481" idx="2"/>
              <a:endCxn id="499" idx="0"/>
            </p:cNvCxnSpPr>
            <p:nvPr/>
          </p:nvCxnSpPr>
          <p:spPr>
            <a:xfrm>
              <a:off x="6216120" y="537372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83" idx="2"/>
              <a:endCxn id="501" idx="0"/>
            </p:cNvCxnSpPr>
            <p:nvPr/>
          </p:nvCxnSpPr>
          <p:spPr>
            <a:xfrm flipH="1">
              <a:off x="6863400" y="5372280"/>
              <a:ext cx="2178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>
              <a:stCxn id="483" idx="2"/>
              <a:endCxn id="503" idx="0"/>
            </p:cNvCxnSpPr>
            <p:nvPr/>
          </p:nvCxnSpPr>
          <p:spPr>
            <a:xfrm>
              <a:off x="7081560" y="5372280"/>
              <a:ext cx="2145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4" name=""/>
            <p:cNvCxnSpPr>
              <a:stCxn id="484" idx="2"/>
              <a:endCxn id="505" idx="0"/>
            </p:cNvCxnSpPr>
            <p:nvPr/>
          </p:nvCxnSpPr>
          <p:spPr>
            <a:xfrm flipH="1">
              <a:off x="7727040" y="5372280"/>
              <a:ext cx="2178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>
              <a:stCxn id="484" idx="2"/>
              <a:endCxn id="507" idx="0"/>
            </p:cNvCxnSpPr>
            <p:nvPr/>
          </p:nvCxnSpPr>
          <p:spPr>
            <a:xfrm>
              <a:off x="7945200" y="5372280"/>
              <a:ext cx="2145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3" name=""/>
            <p:cNvSpPr/>
            <p:nvPr/>
          </p:nvSpPr>
          <p:spPr>
            <a:xfrm>
              <a:off x="499284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2412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5612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8776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1976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5140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83400" y="566100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15040" y="566100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689-0867-41CE-8F8B-AD0365454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crivere un algoritmo parallelo per calcolare le somme prefisse di R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 numeri su m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assuma che i valori da sommare siano già memorizzati nei processori. Al termine dell’esecuzione il processore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ovrà avere la somma dei valori contenuti nelle righe superiori più quelli alla sua sinistra nella stessa ri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55640" y="4076640"/>
            <a:ext cx="2087640" cy="2014560"/>
            <a:chOff x="1655640" y="4076640"/>
            <a:chExt cx="2087640" cy="2014560"/>
          </a:xfrm>
        </p:grpSpPr>
        <p:cxnSp>
          <p:nvCxnSpPr>
            <p:cNvPr id="511" name=""/>
            <p:cNvCxnSpPr>
              <a:stCxn id="512" idx="2"/>
              <a:endCxn id="513" idx="0"/>
            </p:cNvCxnSpPr>
            <p:nvPr/>
          </p:nvCxnSpPr>
          <p:spPr>
            <a:xfrm>
              <a:off x="179964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515" idx="2"/>
              <a:endCxn id="516" idx="0"/>
            </p:cNvCxnSpPr>
            <p:nvPr/>
          </p:nvCxnSpPr>
          <p:spPr>
            <a:xfrm>
              <a:off x="230436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518" idx="2"/>
              <a:endCxn id="519" idx="0"/>
            </p:cNvCxnSpPr>
            <p:nvPr/>
          </p:nvCxnSpPr>
          <p:spPr>
            <a:xfrm>
              <a:off x="280764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2" idx="3"/>
              <a:endCxn id="518" idx="1"/>
            </p:cNvCxnSpPr>
            <p:nvPr/>
          </p:nvCxnSpPr>
          <p:spPr>
            <a:xfrm>
              <a:off x="1942920" y="42206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21" name=""/>
            <p:cNvCxnSpPr>
              <a:stCxn id="522" idx="1"/>
              <a:endCxn id="523" idx="3"/>
            </p:cNvCxnSpPr>
            <p:nvPr/>
          </p:nvCxnSpPr>
          <p:spPr>
            <a:xfrm flipH="1">
              <a:off x="1942560" y="47239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24" name=""/>
            <p:cNvCxnSpPr>
              <a:stCxn id="519" idx="1"/>
              <a:endCxn id="513" idx="3"/>
            </p:cNvCxnSpPr>
            <p:nvPr/>
          </p:nvCxnSpPr>
          <p:spPr>
            <a:xfrm flipH="1">
              <a:off x="1942560" y="52286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25" name=""/>
            <p:cNvCxnSpPr>
              <a:stCxn id="526" idx="2"/>
              <a:endCxn id="527" idx="0"/>
            </p:cNvCxnSpPr>
            <p:nvPr/>
          </p:nvCxnSpPr>
          <p:spPr>
            <a:xfrm>
              <a:off x="360000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8" name=""/>
            <p:cNvCxnSpPr>
              <a:stCxn id="529" idx="3"/>
              <a:endCxn id="530" idx="1"/>
            </p:cNvCxnSpPr>
            <p:nvPr/>
          </p:nvCxnSpPr>
          <p:spPr>
            <a:xfrm>
              <a:off x="1942920" y="59479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512" name=""/>
            <p:cNvSpPr/>
            <p:nvPr/>
          </p:nvSpPr>
          <p:spPr>
            <a:xfrm>
              <a:off x="165564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6036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5564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6036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6364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6364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5564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6036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6364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5600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5600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5564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6036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6364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5" name=""/>
            <p:cNvCxnSpPr>
              <a:stCxn id="518" idx="3"/>
              <a:endCxn id="526" idx="1"/>
            </p:cNvCxnSpPr>
            <p:nvPr/>
          </p:nvCxnSpPr>
          <p:spPr>
            <a:xfrm>
              <a:off x="2950560" y="422064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36" name=""/>
            <p:cNvCxnSpPr>
              <a:stCxn id="532" idx="1"/>
              <a:endCxn id="522" idx="3"/>
            </p:cNvCxnSpPr>
            <p:nvPr/>
          </p:nvCxnSpPr>
          <p:spPr>
            <a:xfrm flipH="1">
              <a:off x="2950200" y="472392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37" name=""/>
            <p:cNvCxnSpPr>
              <a:stCxn id="527" idx="1"/>
              <a:endCxn id="519" idx="3"/>
            </p:cNvCxnSpPr>
            <p:nvPr/>
          </p:nvCxnSpPr>
          <p:spPr>
            <a:xfrm flipH="1">
              <a:off x="2950200" y="522864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38" name=""/>
            <p:cNvCxnSpPr>
              <a:stCxn id="527" idx="2"/>
              <a:endCxn id="534" idx="0"/>
            </p:cNvCxnSpPr>
            <p:nvPr/>
          </p:nvCxnSpPr>
          <p:spPr>
            <a:xfrm>
              <a:off x="360000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9" name=""/>
            <p:cNvCxnSpPr>
              <a:stCxn id="534" idx="1"/>
              <a:endCxn id="530" idx="3"/>
            </p:cNvCxnSpPr>
            <p:nvPr/>
          </p:nvCxnSpPr>
          <p:spPr>
            <a:xfrm flipH="1">
              <a:off x="2950200" y="594792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40" name=""/>
            <p:cNvCxnSpPr>
              <a:stCxn id="519" idx="2"/>
              <a:endCxn id="530" idx="0"/>
            </p:cNvCxnSpPr>
            <p:nvPr/>
          </p:nvCxnSpPr>
          <p:spPr>
            <a:xfrm>
              <a:off x="280764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41" name=""/>
            <p:cNvCxnSpPr>
              <a:stCxn id="516" idx="2"/>
              <a:endCxn id="533" idx="0"/>
            </p:cNvCxnSpPr>
            <p:nvPr/>
          </p:nvCxnSpPr>
          <p:spPr>
            <a:xfrm>
              <a:off x="230436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42" name=""/>
            <p:cNvCxnSpPr>
              <a:stCxn id="513" idx="2"/>
              <a:endCxn id="529" idx="0"/>
            </p:cNvCxnSpPr>
            <p:nvPr/>
          </p:nvCxnSpPr>
          <p:spPr>
            <a:xfrm>
              <a:off x="179964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543" name=""/>
          <p:cNvGrpSpPr/>
          <p:nvPr/>
        </p:nvGrpSpPr>
        <p:grpSpPr>
          <a:xfrm>
            <a:off x="5400720" y="4076640"/>
            <a:ext cx="2087640" cy="2014560"/>
            <a:chOff x="5400720" y="4076640"/>
            <a:chExt cx="2087640" cy="2014560"/>
          </a:xfrm>
        </p:grpSpPr>
        <p:cxnSp>
          <p:nvCxnSpPr>
            <p:cNvPr id="544" name=""/>
            <p:cNvCxnSpPr>
              <a:stCxn id="545" idx="2"/>
              <a:endCxn id="546" idx="0"/>
            </p:cNvCxnSpPr>
            <p:nvPr/>
          </p:nvCxnSpPr>
          <p:spPr>
            <a:xfrm>
              <a:off x="554472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48" idx="2"/>
              <a:endCxn id="549" idx="0"/>
            </p:cNvCxnSpPr>
            <p:nvPr/>
          </p:nvCxnSpPr>
          <p:spPr>
            <a:xfrm>
              <a:off x="604944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51" idx="2"/>
              <a:endCxn id="552" idx="0"/>
            </p:cNvCxnSpPr>
            <p:nvPr/>
          </p:nvCxnSpPr>
          <p:spPr>
            <a:xfrm>
              <a:off x="655272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"/>
            <p:cNvCxnSpPr>
              <a:stCxn id="545" idx="3"/>
              <a:endCxn id="551" idx="1"/>
            </p:cNvCxnSpPr>
            <p:nvPr/>
          </p:nvCxnSpPr>
          <p:spPr>
            <a:xfrm>
              <a:off x="5688000" y="42206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54" name=""/>
            <p:cNvCxnSpPr>
              <a:stCxn id="555" idx="1"/>
              <a:endCxn id="556" idx="3"/>
            </p:cNvCxnSpPr>
            <p:nvPr/>
          </p:nvCxnSpPr>
          <p:spPr>
            <a:xfrm flipH="1">
              <a:off x="5687640" y="47239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57" name=""/>
            <p:cNvCxnSpPr>
              <a:stCxn id="552" idx="1"/>
              <a:endCxn id="546" idx="3"/>
            </p:cNvCxnSpPr>
            <p:nvPr/>
          </p:nvCxnSpPr>
          <p:spPr>
            <a:xfrm flipH="1">
              <a:off x="5687640" y="52286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58" name=""/>
            <p:cNvCxnSpPr>
              <a:stCxn id="559" idx="2"/>
              <a:endCxn id="560" idx="0"/>
            </p:cNvCxnSpPr>
            <p:nvPr/>
          </p:nvCxnSpPr>
          <p:spPr>
            <a:xfrm>
              <a:off x="7345080" y="436392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1" name=""/>
            <p:cNvCxnSpPr>
              <a:stCxn id="562" idx="3"/>
              <a:endCxn id="563" idx="1"/>
            </p:cNvCxnSpPr>
            <p:nvPr/>
          </p:nvCxnSpPr>
          <p:spPr>
            <a:xfrm>
              <a:off x="5688000" y="594792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545" name=""/>
            <p:cNvSpPr/>
            <p:nvPr/>
          </p:nvSpPr>
          <p:spPr>
            <a:xfrm>
              <a:off x="540072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0544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0072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544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0872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0872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0072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0544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0872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01080" y="4076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01080" y="45799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01080" y="5084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0072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0544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872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01080" y="58035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51" idx="3"/>
              <a:endCxn id="559" idx="1"/>
            </p:cNvCxnSpPr>
            <p:nvPr/>
          </p:nvCxnSpPr>
          <p:spPr>
            <a:xfrm>
              <a:off x="6695640" y="422064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69" name=""/>
            <p:cNvCxnSpPr>
              <a:stCxn id="565" idx="1"/>
              <a:endCxn id="555" idx="3"/>
            </p:cNvCxnSpPr>
            <p:nvPr/>
          </p:nvCxnSpPr>
          <p:spPr>
            <a:xfrm flipH="1">
              <a:off x="6695280" y="472392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70" name=""/>
            <p:cNvCxnSpPr>
              <a:stCxn id="560" idx="1"/>
              <a:endCxn id="552" idx="3"/>
            </p:cNvCxnSpPr>
            <p:nvPr/>
          </p:nvCxnSpPr>
          <p:spPr>
            <a:xfrm flipH="1">
              <a:off x="6695280" y="522864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71" name=""/>
            <p:cNvCxnSpPr>
              <a:stCxn id="560" idx="2"/>
              <a:endCxn id="567" idx="0"/>
            </p:cNvCxnSpPr>
            <p:nvPr/>
          </p:nvCxnSpPr>
          <p:spPr>
            <a:xfrm>
              <a:off x="734508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72" name=""/>
            <p:cNvCxnSpPr>
              <a:stCxn id="567" idx="1"/>
              <a:endCxn id="563" idx="3"/>
            </p:cNvCxnSpPr>
            <p:nvPr/>
          </p:nvCxnSpPr>
          <p:spPr>
            <a:xfrm flipH="1">
              <a:off x="6695280" y="5947920"/>
              <a:ext cx="50580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573" name=""/>
            <p:cNvCxnSpPr>
              <a:stCxn id="552" idx="2"/>
              <a:endCxn id="563" idx="0"/>
            </p:cNvCxnSpPr>
            <p:nvPr/>
          </p:nvCxnSpPr>
          <p:spPr>
            <a:xfrm>
              <a:off x="655272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74" name=""/>
            <p:cNvCxnSpPr>
              <a:stCxn id="549" idx="2"/>
              <a:endCxn id="566" idx="0"/>
            </p:cNvCxnSpPr>
            <p:nvPr/>
          </p:nvCxnSpPr>
          <p:spPr>
            <a:xfrm>
              <a:off x="604944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75" name=""/>
            <p:cNvCxnSpPr>
              <a:stCxn id="546" idx="2"/>
              <a:endCxn id="562" idx="0"/>
            </p:cNvCxnSpPr>
            <p:nvPr/>
          </p:nvCxnSpPr>
          <p:spPr>
            <a:xfrm>
              <a:off x="5544720" y="537156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76" name=""/>
          <p:cNvSpPr/>
          <p:nvPr/>
        </p:nvSpPr>
        <p:spPr>
          <a:xfrm>
            <a:off x="4068720" y="494172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FD6-0193-474D-9A5D-8CA7735A80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re l’algoritmo per la somma con la tecnica dell’Accelerated Cascading visto nella lezione del 13/03/2008 al problema delle somme prefi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162-C1B1-436D-8B54-E3AAA3D5E4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dattare l’algoritmo di simulazione della scrittura concorrente (con priorità) su PRAM EREW visto in questa lezione per simulare, sempre su PRAM EREW, la scrittura concorrente nei casi in c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scrive una funz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i valori concorrentemente scritti in una medesima locazione (es: max, somma, ec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crittura ha successo soltanto se i valori concorrentemente scritti in una medesima locazione sono identici (la condizione va verificata esplicita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178-5C92-462E-AAEF-23E9F2369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e pref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equ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fixSum(A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[ i ] = A[ i ] + A[ i-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po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003640" y="2852640"/>
            <a:ext cx="3455280" cy="1944000"/>
            <a:chOff x="5003640" y="2852640"/>
            <a:chExt cx="3455280" cy="1944000"/>
          </a:xfrm>
        </p:grpSpPr>
        <p:grpSp>
          <p:nvGrpSpPr>
            <p:cNvPr id="96" name=""/>
            <p:cNvGrpSpPr/>
            <p:nvPr/>
          </p:nvGrpSpPr>
          <p:grpSpPr>
            <a:xfrm>
              <a:off x="5003640" y="2852640"/>
              <a:ext cx="3455280" cy="432720"/>
              <a:chOff x="5003640" y="2852640"/>
              <a:chExt cx="3455280" cy="432720"/>
            </a:xfrm>
          </p:grpSpPr>
          <p:sp>
            <p:nvSpPr>
              <p:cNvPr id="97" name=""/>
              <p:cNvSpPr/>
              <p:nvPr/>
            </p:nvSpPr>
            <p:spPr>
              <a:xfrm>
                <a:off x="5003640" y="285264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6720" y="285264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7640" y="285264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98200" y="285264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31280" y="285264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64360" y="285264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95280" y="285264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25840" y="285264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03640" y="4363920"/>
              <a:ext cx="3455280" cy="432720"/>
              <a:chOff x="5003640" y="4363920"/>
              <a:chExt cx="3455280" cy="43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5003640" y="436392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36720" y="436392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640" y="436392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8200" y="4363920"/>
                <a:ext cx="43272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31280" y="436392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64360" y="436392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595280" y="436392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25840" y="4363920"/>
                <a:ext cx="433080" cy="43272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5E2-66EE-46E9-A9DE-DFBCB42BA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e prefisse su P-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-RAM EREW con n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fixSum(A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-1 -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[ j+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] = A[ j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] + A[ j+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O(log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364000" y="2276640"/>
            <a:ext cx="3384360" cy="3960720"/>
            <a:chOff x="5364000" y="2276640"/>
            <a:chExt cx="3384360" cy="3960720"/>
          </a:xfrm>
        </p:grpSpPr>
        <p:grpSp>
          <p:nvGrpSpPr>
            <p:cNvPr id="117" name=""/>
            <p:cNvGrpSpPr/>
            <p:nvPr/>
          </p:nvGrpSpPr>
          <p:grpSpPr>
            <a:xfrm>
              <a:off x="5364000" y="2276640"/>
              <a:ext cx="3384360" cy="422280"/>
              <a:chOff x="5364000" y="2276640"/>
              <a:chExt cx="3384360" cy="422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364000" y="2276640"/>
                <a:ext cx="421560" cy="422280"/>
              </a:xfrm>
              <a:custGeom>
                <a:avLst/>
                <a:gdLst>
                  <a:gd name="textAreaLeft" fmla="*/ 20520 w 421560"/>
                  <a:gd name="textAreaRight" fmla="*/ 401040 w 42156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37">
                    <a:moveTo>
                      <a:pt x="3600" y="0"/>
                    </a:moveTo>
                    <a:arcTo wR="3600" hR="3600" stAng="16200000" swAng="-5400000"/>
                    <a:lnTo>
                      <a:pt x="0" y="18037"/>
                    </a:lnTo>
                    <a:arcTo wR="3600" hR="3600" stAng="10800000" swAng="-5400000"/>
                    <a:lnTo>
                      <a:pt x="18000" y="216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5560" y="2276640"/>
                <a:ext cx="421200" cy="422280"/>
              </a:xfrm>
              <a:custGeom>
                <a:avLst/>
                <a:gdLst>
                  <a:gd name="textAreaLeft" fmla="*/ 20520 w 421200"/>
                  <a:gd name="textAreaRight" fmla="*/ 400680 w 42120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55">
                    <a:moveTo>
                      <a:pt x="3600" y="0"/>
                    </a:moveTo>
                    <a:arcTo wR="3600" hR="3600" stAng="16200000" swAng="-5400000"/>
                    <a:lnTo>
                      <a:pt x="0" y="18055"/>
                    </a:lnTo>
                    <a:arcTo wR="3600" hR="3600" stAng="10800000" swAng="-5400000"/>
                    <a:lnTo>
                      <a:pt x="18000" y="216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9640" y="2276640"/>
                <a:ext cx="421560" cy="422280"/>
              </a:xfrm>
              <a:custGeom>
                <a:avLst/>
                <a:gdLst>
                  <a:gd name="textAreaLeft" fmla="*/ 20520 w 421560"/>
                  <a:gd name="textAreaRight" fmla="*/ 401040 w 42156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37">
                    <a:moveTo>
                      <a:pt x="3600" y="0"/>
                    </a:moveTo>
                    <a:arcTo wR="3600" hR="3600" stAng="16200000" swAng="-5400000"/>
                    <a:lnTo>
                      <a:pt x="0" y="18037"/>
                    </a:lnTo>
                    <a:arcTo wR="3600" hR="3600" stAng="10800000" swAng="-5400000"/>
                    <a:lnTo>
                      <a:pt x="18000" y="216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34080" y="2276640"/>
                <a:ext cx="422640" cy="42228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056720" y="2276640"/>
                <a:ext cx="421560" cy="422280"/>
              </a:xfrm>
              <a:custGeom>
                <a:avLst/>
                <a:gdLst>
                  <a:gd name="textAreaLeft" fmla="*/ 20520 w 421560"/>
                  <a:gd name="textAreaRight" fmla="*/ 401040 w 42156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37">
                    <a:moveTo>
                      <a:pt x="3600" y="0"/>
                    </a:moveTo>
                    <a:arcTo wR="3600" hR="3600" stAng="16200000" swAng="-5400000"/>
                    <a:lnTo>
                      <a:pt x="0" y="18037"/>
                    </a:lnTo>
                    <a:arcTo wR="3600" hR="3600" stAng="10800000" swAng="-5400000"/>
                    <a:lnTo>
                      <a:pt x="18000" y="216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78640" y="2276640"/>
                <a:ext cx="421200" cy="422280"/>
              </a:xfrm>
              <a:custGeom>
                <a:avLst/>
                <a:gdLst>
                  <a:gd name="textAreaLeft" fmla="*/ 20520 w 421200"/>
                  <a:gd name="textAreaRight" fmla="*/ 400680 w 42120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55">
                    <a:moveTo>
                      <a:pt x="3600" y="0"/>
                    </a:moveTo>
                    <a:arcTo wR="3600" hR="3600" stAng="16200000" swAng="-5400000"/>
                    <a:lnTo>
                      <a:pt x="0" y="18055"/>
                    </a:lnTo>
                    <a:arcTo wR="3600" hR="3600" stAng="10800000" swAng="-5400000"/>
                    <a:lnTo>
                      <a:pt x="18000" y="216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02720" y="2276640"/>
                <a:ext cx="421560" cy="422280"/>
              </a:xfrm>
              <a:custGeom>
                <a:avLst/>
                <a:gdLst>
                  <a:gd name="textAreaLeft" fmla="*/ 20520 w 421560"/>
                  <a:gd name="textAreaRight" fmla="*/ 401040 w 42156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37">
                    <a:moveTo>
                      <a:pt x="3600" y="0"/>
                    </a:moveTo>
                    <a:arcTo wR="3600" hR="3600" stAng="16200000" swAng="-5400000"/>
                    <a:lnTo>
                      <a:pt x="0" y="18037"/>
                    </a:lnTo>
                    <a:arcTo wR="3600" hR="3600" stAng="10800000" swAng="-5400000"/>
                    <a:lnTo>
                      <a:pt x="18000" y="216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26800" y="2276640"/>
                <a:ext cx="421560" cy="422280"/>
              </a:xfrm>
              <a:custGeom>
                <a:avLst/>
                <a:gdLst>
                  <a:gd name="textAreaLeft" fmla="*/ 20520 w 421560"/>
                  <a:gd name="textAreaRight" fmla="*/ 401040 w 421560"/>
                  <a:gd name="textAreaTop" fmla="*/ 20520 h 422280"/>
                  <a:gd name="textAreaBottom" fmla="*/ 401760 h 422280"/>
                </a:gdLst>
                <a:ahLst/>
                <a:rect l="textAreaLeft" t="textAreaTop" r="textAreaRight" b="textAreaBottom"/>
                <a:pathLst>
                  <a:path w="21600" h="21637">
                    <a:moveTo>
                      <a:pt x="3600" y="0"/>
                    </a:moveTo>
                    <a:arcTo wR="3600" hR="3600" stAng="16200000" swAng="-5400000"/>
                    <a:lnTo>
                      <a:pt x="0" y="18037"/>
                    </a:lnTo>
                    <a:arcTo wR="3600" hR="3600" stAng="10800000" swAng="-5400000"/>
                    <a:lnTo>
                      <a:pt x="18000" y="216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364000" y="2938320"/>
              <a:ext cx="3384360" cy="798480"/>
              <a:chOff x="5364000" y="2938320"/>
              <a:chExt cx="3384360" cy="7984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364000" y="3123360"/>
                <a:ext cx="3384360" cy="613440"/>
                <a:chOff x="5364000" y="3123360"/>
                <a:chExt cx="3384360" cy="61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64000" y="3315960"/>
                  <a:ext cx="42120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785200" y="3315960"/>
                  <a:ext cx="42156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209640" y="3315960"/>
                  <a:ext cx="42120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634080" y="3315960"/>
                  <a:ext cx="42120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055280" y="3315960"/>
                  <a:ext cx="42264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478280" y="3315960"/>
                  <a:ext cx="42156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03080" y="3315960"/>
                  <a:ext cx="42120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327160" y="3315960"/>
                  <a:ext cx="421200" cy="420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6" name=""/>
                <p:cNvCxnSpPr>
                  <a:stCxn id="128" idx="0"/>
                  <a:endCxn id="129" idx="0"/>
                </p:cNvCxnSpPr>
                <p:nvPr/>
              </p:nvCxnSpPr>
              <p:spPr>
                <a:xfrm flipH="1" rot="16200000">
                  <a:off x="5679720" y="3210480"/>
                  <a:ext cx="61920" cy="27252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37" name=""/>
                <p:cNvCxnSpPr>
                  <a:stCxn id="129" idx="0"/>
                  <a:endCxn id="130" idx="0"/>
                </p:cNvCxnSpPr>
                <p:nvPr/>
              </p:nvCxnSpPr>
              <p:spPr>
                <a:xfrm flipH="1" rot="16200000">
                  <a:off x="6102720" y="3209040"/>
                  <a:ext cx="61920" cy="2754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38" name=""/>
                <p:cNvCxnSpPr>
                  <a:stCxn id="130" idx="0"/>
                  <a:endCxn id="131" idx="0"/>
                </p:cNvCxnSpPr>
                <p:nvPr/>
              </p:nvCxnSpPr>
              <p:spPr>
                <a:xfrm flipH="1" rot="16200000">
                  <a:off x="6526800" y="3209040"/>
                  <a:ext cx="61920" cy="2754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39" name=""/>
                <p:cNvCxnSpPr>
                  <a:stCxn id="131" idx="0"/>
                  <a:endCxn id="132" idx="0"/>
                </p:cNvCxnSpPr>
                <p:nvPr/>
              </p:nvCxnSpPr>
              <p:spPr>
                <a:xfrm flipH="1" rot="16200000">
                  <a:off x="6950160" y="3210480"/>
                  <a:ext cx="61920" cy="27252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40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7372800" y="3210480"/>
                  <a:ext cx="61920" cy="27252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41" name=""/>
                <p:cNvCxnSpPr>
                  <a:stCxn id="133" idx="0"/>
                  <a:endCxn id="134" idx="0"/>
                </p:cNvCxnSpPr>
                <p:nvPr/>
              </p:nvCxnSpPr>
              <p:spPr>
                <a:xfrm flipH="1" rot="16200000">
                  <a:off x="7795800" y="3209040"/>
                  <a:ext cx="61920" cy="2754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42" name=""/>
                <p:cNvCxnSpPr>
                  <a:stCxn id="134" idx="0"/>
                  <a:endCxn id="135" idx="0"/>
                </p:cNvCxnSpPr>
                <p:nvPr/>
              </p:nvCxnSpPr>
              <p:spPr>
                <a:xfrm flipH="1" rot="16200000">
                  <a:off x="8220240" y="3209040"/>
                  <a:ext cx="61920" cy="2754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</p:grpSp>
          <p:grpSp>
            <p:nvGrpSpPr>
              <p:cNvPr id="143" name=""/>
              <p:cNvGrpSpPr/>
              <p:nvPr/>
            </p:nvGrpSpPr>
            <p:grpSpPr>
              <a:xfrm>
                <a:off x="5670720" y="2938320"/>
                <a:ext cx="2960640" cy="422280"/>
                <a:chOff x="5670720" y="2938320"/>
                <a:chExt cx="2960640" cy="422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670720" y="29383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93000" y="2938320"/>
                  <a:ext cx="420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16720" y="2938320"/>
                  <a:ext cx="420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40440" y="29383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362720" y="29383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85000" y="29383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09080" y="29383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5364000" y="3946680"/>
              <a:ext cx="3384360" cy="1143000"/>
              <a:chOff x="5364000" y="3946680"/>
              <a:chExt cx="3384360" cy="11430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5364000" y="4124160"/>
                <a:ext cx="3384360" cy="807120"/>
                <a:chOff x="5364000" y="4124160"/>
                <a:chExt cx="3384360" cy="8071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364000" y="431676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85560" y="431676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09640" y="431676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633720" y="431676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55640" y="4316760"/>
                  <a:ext cx="422640" cy="42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478280" y="431676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02720" y="431676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326800" y="431676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61" name=""/>
                <p:cNvCxnSpPr>
                  <a:stCxn id="153" idx="0"/>
                  <a:endCxn id="155" idx="0"/>
                </p:cNvCxnSpPr>
                <p:nvPr/>
              </p:nvCxnSpPr>
              <p:spPr>
                <a:xfrm flipH="1" rot="16200000">
                  <a:off x="5892120" y="3998880"/>
                  <a:ext cx="61920" cy="696960"/>
                </a:xfrm>
                <a:prstGeom prst="curvedConnector5">
                  <a:avLst>
                    <a:gd name="adj1" fmla="val -312865"/>
                    <a:gd name="adj2" fmla="val 49974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62" name=""/>
                <p:cNvCxnSpPr>
                  <a:stCxn id="154" idx="2"/>
                  <a:endCxn id="156" idx="1"/>
                </p:cNvCxnSpPr>
                <p:nvPr/>
              </p:nvCxnSpPr>
              <p:spPr>
                <a:xfrm flipH="1" flipV="1" rot="5400000">
                  <a:off x="6314760" y="4358160"/>
                  <a:ext cx="61920" cy="699840"/>
                </a:xfrm>
                <a:prstGeom prst="curvedConnector5">
                  <a:avLst>
                    <a:gd name="adj1" fmla="val -312865"/>
                    <a:gd name="adj2" fmla="val 49974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63" name=""/>
                <p:cNvCxnSpPr>
                  <a:stCxn id="155" idx="0"/>
                  <a:endCxn id="157" idx="0"/>
                </p:cNvCxnSpPr>
                <p:nvPr/>
              </p:nvCxnSpPr>
              <p:spPr>
                <a:xfrm flipH="1" rot="16200000">
                  <a:off x="6737760" y="3999240"/>
                  <a:ext cx="61920" cy="6966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64" name=""/>
                <p:cNvCxnSpPr>
                  <a:stCxn id="156" idx="2"/>
                  <a:endCxn id="158" idx="1"/>
                </p:cNvCxnSpPr>
                <p:nvPr/>
              </p:nvCxnSpPr>
              <p:spPr>
                <a:xfrm flipH="1" flipV="1" rot="5400000">
                  <a:off x="7161120" y="4360320"/>
                  <a:ext cx="61920" cy="695520"/>
                </a:xfrm>
                <a:prstGeom prst="curvedConnector5">
                  <a:avLst>
                    <a:gd name="adj1" fmla="val -312865"/>
                    <a:gd name="adj2" fmla="val 49974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65" name=""/>
                <p:cNvCxnSpPr>
                  <a:stCxn id="157" idx="0"/>
                  <a:endCxn id="159" idx="0"/>
                </p:cNvCxnSpPr>
                <p:nvPr/>
              </p:nvCxnSpPr>
              <p:spPr>
                <a:xfrm flipH="1" rot="16200000">
                  <a:off x="7585200" y="3998880"/>
                  <a:ext cx="61920" cy="696960"/>
                </a:xfrm>
                <a:prstGeom prst="curvedConnector5">
                  <a:avLst>
                    <a:gd name="adj1" fmla="val -312865"/>
                    <a:gd name="adj2" fmla="val 49974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66" name=""/>
                <p:cNvCxnSpPr>
                  <a:stCxn id="158" idx="2"/>
                  <a:endCxn id="160" idx="1"/>
                </p:cNvCxnSpPr>
                <p:nvPr/>
              </p:nvCxnSpPr>
              <p:spPr>
                <a:xfrm flipH="1" flipV="1" rot="5400000">
                  <a:off x="8007840" y="4358160"/>
                  <a:ext cx="61920" cy="699840"/>
                </a:xfrm>
                <a:prstGeom prst="curvedConnector5">
                  <a:avLst>
                    <a:gd name="adj1" fmla="val -312865"/>
                    <a:gd name="adj2" fmla="val 49974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</p:grpSp>
          <p:grpSp>
            <p:nvGrpSpPr>
              <p:cNvPr id="167" name=""/>
              <p:cNvGrpSpPr/>
              <p:nvPr/>
            </p:nvGrpSpPr>
            <p:grpSpPr>
              <a:xfrm>
                <a:off x="6075360" y="3946680"/>
                <a:ext cx="2536920" cy="1143000"/>
                <a:chOff x="6075360" y="3946680"/>
                <a:chExt cx="2536920" cy="1143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075360" y="394668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97640" y="4667400"/>
                  <a:ext cx="42084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21360" y="3946680"/>
                  <a:ext cx="42084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45440" y="466740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767720" y="394668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190000" y="466740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364000" y="5199120"/>
              <a:ext cx="3384360" cy="1038240"/>
              <a:chOff x="5364000" y="5199120"/>
              <a:chExt cx="3384360" cy="10382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5364000" y="5308200"/>
                <a:ext cx="3384360" cy="807120"/>
                <a:chOff x="5364000" y="5308200"/>
                <a:chExt cx="3384360" cy="807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64000" y="550080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85200" y="550080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209640" y="550080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34080" y="550080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055280" y="5500800"/>
                  <a:ext cx="422640" cy="42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78280" y="5500800"/>
                  <a:ext cx="421560" cy="422280"/>
                </a:xfrm>
                <a:custGeom>
                  <a:avLst/>
                  <a:gdLst>
                    <a:gd name="textAreaLeft" fmla="*/ 20520 w 421560"/>
                    <a:gd name="textAreaRight" fmla="*/ 401040 w 42156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37">
                      <a:moveTo>
                        <a:pt x="3600" y="0"/>
                      </a:moveTo>
                      <a:arcTo wR="3600" hR="3600" stAng="16200000" swAng="-5400000"/>
                      <a:lnTo>
                        <a:pt x="0" y="18037"/>
                      </a:lnTo>
                      <a:arcTo wR="3600" hR="3600" stAng="10800000" swAng="-5400000"/>
                      <a:lnTo>
                        <a:pt x="18000" y="216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903080" y="550080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7160" y="5500800"/>
                  <a:ext cx="421200" cy="422280"/>
                </a:xfrm>
                <a:custGeom>
                  <a:avLst/>
                  <a:gdLst>
                    <a:gd name="textAreaLeft" fmla="*/ 20520 w 421200"/>
                    <a:gd name="textAreaRight" fmla="*/ 400680 w 421200"/>
                    <a:gd name="textAreaTop" fmla="*/ 20520 h 422280"/>
                    <a:gd name="textAreaBottom" fmla="*/ 401760 h 422280"/>
                  </a:gdLst>
                  <a:ahLst/>
                  <a:rect l="textAreaLeft" t="textAreaTop" r="textAreaRight" b="textAreaBottom"/>
                  <a:pathLst>
                    <a:path w="21600" h="21655">
                      <a:moveTo>
                        <a:pt x="3600" y="0"/>
                      </a:moveTo>
                      <a:arcTo wR="3600" hR="3600" stAng="16200000" swAng="-5400000"/>
                      <a:lnTo>
                        <a:pt x="0" y="18055"/>
                      </a:lnTo>
                      <a:arcTo wR="3600" hR="3600" stAng="10800000" swAng="-5400000"/>
                      <a:lnTo>
                        <a:pt x="18000" y="21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84" name=""/>
                <p:cNvCxnSpPr>
                  <a:stCxn id="176" idx="0"/>
                  <a:endCxn id="180" idx="0"/>
                </p:cNvCxnSpPr>
                <p:nvPr/>
              </p:nvCxnSpPr>
              <p:spPr>
                <a:xfrm flipH="1" rot="16200000">
                  <a:off x="6314760" y="4760280"/>
                  <a:ext cx="61920" cy="154260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85" name=""/>
                <p:cNvCxnSpPr>
                  <a:stCxn id="177" idx="2"/>
                  <a:endCxn id="181" idx="1"/>
                </p:cNvCxnSpPr>
                <p:nvPr/>
              </p:nvCxnSpPr>
              <p:spPr>
                <a:xfrm flipH="1" flipV="1" rot="5400000">
                  <a:off x="6735960" y="5119920"/>
                  <a:ext cx="61920" cy="154404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86" name=""/>
                <p:cNvCxnSpPr>
                  <a:stCxn id="178" idx="0"/>
                  <a:endCxn id="182" idx="0"/>
                </p:cNvCxnSpPr>
                <p:nvPr/>
              </p:nvCxnSpPr>
              <p:spPr>
                <a:xfrm flipH="1" rot="16200000">
                  <a:off x="7161120" y="4759560"/>
                  <a:ext cx="61920" cy="154404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  <p:cxnSp>
              <p:nvCxnSpPr>
                <p:cNvPr id="187" name=""/>
                <p:cNvCxnSpPr>
                  <a:stCxn id="179" idx="2"/>
                  <a:endCxn id="183" idx="1"/>
                </p:cNvCxnSpPr>
                <p:nvPr/>
              </p:nvCxnSpPr>
              <p:spPr>
                <a:xfrm flipH="1" flipV="1" rot="5400000">
                  <a:off x="7584840" y="5119920"/>
                  <a:ext cx="61920" cy="1544040"/>
                </a:xfrm>
                <a:prstGeom prst="curvedConnector5">
                  <a:avLst>
                    <a:gd name="adj1" fmla="val -312865"/>
                    <a:gd name="adj2" fmla="val 50000"/>
                    <a:gd name="adj3" fmla="val -312865"/>
                  </a:avLst>
                </a:prstGeom>
                <a:ln w="9360">
                  <a:solidFill>
                    <a:srgbClr val="000000"/>
                  </a:solidFill>
                  <a:miter/>
                  <a:tailEnd len="lg" type="diamond" w="sm"/>
                </a:ln>
              </p:spPr>
            </p:cxnSp>
          </p:grpSp>
          <p:grpSp>
            <p:nvGrpSpPr>
              <p:cNvPr id="188" name=""/>
              <p:cNvGrpSpPr/>
              <p:nvPr/>
            </p:nvGrpSpPr>
            <p:grpSpPr>
              <a:xfrm>
                <a:off x="6994440" y="5199120"/>
                <a:ext cx="1683000" cy="1038240"/>
                <a:chOff x="6994440" y="5199120"/>
                <a:chExt cx="1683000" cy="10382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994440" y="519912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07360" y="5815080"/>
                  <a:ext cx="420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840800" y="5199120"/>
                  <a:ext cx="420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255160" y="5815080"/>
                  <a:ext cx="4222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CF7-1561-4F0F-BC58-2603B6B83A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mulazione della lettura concorren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caso general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N processori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ogliono leggere il contenuto di K celle di memoria (in generale K&lt;N e non tutti i processori vogliono leggere dalla stessa locazione di memoria) su una P-RAM di tipo ER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costruisca M, vettore di coppie del tipo (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ciascuna indicante che il processore i-esimo vuole leggere la j-esima locazione di memoria (i=0…N-1, j=1…K). Questo vettore viene ordinato in modo stabile, rispetto ai valori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la stabilità garantisce l’ordinamento delle coppi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raggruppino i processori rispetto alla comune locazione di memoria a cui vogliono accedere e si individuino gli inizializzatori di ogni bloc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il primo processore di ogni blocco legge la locazione corrispondente e poi attiva un’operazione di broadcast sul bloc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tutti i processori, in parallelo leggono l’informazione richi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3C2-70E0-45E7-9CDD-F890AD49F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 1 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[ i ] = (i, L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coppie (proc, 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rt(M, lo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[ 0 ] = true; B[ 0 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[ i ].loc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[ i-1 ].loc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[ i ] = true; B[ i 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[ i ] = false; B[ i ]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fixSum(B,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vettore B è utilizzato per identificare il blocco di appartenenza di ogni process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867280" y="1341360"/>
            <a:ext cx="2952720" cy="4175280"/>
            <a:chOff x="5867280" y="1341360"/>
            <a:chExt cx="2952720" cy="4175280"/>
          </a:xfrm>
        </p:grpSpPr>
        <p:sp>
          <p:nvSpPr>
            <p:cNvPr id="198" name=""/>
            <p:cNvSpPr/>
            <p:nvPr/>
          </p:nvSpPr>
          <p:spPr>
            <a:xfrm>
              <a:off x="665964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7856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892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9928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5820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1486080"/>
              <a:ext cx="792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3440" y="1341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108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2144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036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4072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0108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5964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9080" y="1846440"/>
              <a:ext cx="792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5240" y="17017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964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7856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3892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9928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2349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3440" y="2349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6108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144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8036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4072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108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9640" y="2709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05240" y="27097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964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000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7856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3892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9928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5820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26120" y="3716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in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6108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2144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036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4072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0108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59640" y="42195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97120" y="4219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2000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7856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3892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9928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58200" y="515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95680" y="5156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68F-DDF5-4360-88B5-A1C10BEDD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ce di eseguire K broadcast differenti (uno per blocco) si esegue un unico broadcast multiplo che tiene conto della separazione in bloc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3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Broadcast multi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iz[ i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[ i ] = contenuto di M[ i ].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iz[ i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+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[ i ] = B[ i+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[ i+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] = D[ i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[ i+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[ i 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43560" y="2205000"/>
            <a:ext cx="2743200" cy="4032360"/>
            <a:chOff x="6343560" y="2205000"/>
            <a:chExt cx="2743200" cy="4032360"/>
          </a:xfrm>
        </p:grpSpPr>
        <p:sp>
          <p:nvSpPr>
            <p:cNvPr id="252" name=""/>
            <p:cNvSpPr/>
            <p:nvPr/>
          </p:nvSpPr>
          <p:spPr>
            <a:xfrm>
              <a:off x="678168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4204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0096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6132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2168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80600" y="2205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43560" y="22050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in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348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4384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240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6276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2312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82040" y="2708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03760" y="2708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096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6132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2168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80600" y="3429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13120" y="3429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8348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4384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0240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6276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82040" y="43639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03760" y="4363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3" idx="0"/>
              <a:endCxn id="274" idx="0"/>
            </p:cNvCxnSpPr>
            <p:nvPr/>
          </p:nvCxnSpPr>
          <p:spPr>
            <a:xfrm flipH="1" rot="16200000">
              <a:off x="7143120" y="4183560"/>
              <a:ext cx="2520" cy="3610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6" idx="0"/>
              <a:endCxn id="277" idx="0"/>
            </p:cNvCxnSpPr>
            <p:nvPr/>
          </p:nvCxnSpPr>
          <p:spPr>
            <a:xfrm flipH="1" rot="16200000">
              <a:off x="8222760" y="4183560"/>
              <a:ext cx="2520" cy="3610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"/>
            <p:cNvCxnSpPr>
              <a:stCxn id="278" idx="0"/>
            </p:cNvCxnSpPr>
            <p:nvPr/>
          </p:nvCxnSpPr>
          <p:spPr>
            <a:xfrm flipH="1" flipV="1" rot="5400000">
              <a:off x="8816760" y="4093560"/>
              <a:ext cx="216360" cy="324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675000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036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6928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2964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9000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48560" y="5084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0640" y="5084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3" idx="0"/>
              <a:endCxn id="285" idx="0"/>
            </p:cNvCxnSpPr>
            <p:nvPr/>
          </p:nvCxnSpPr>
          <p:spPr>
            <a:xfrm flipH="1" rot="16200000">
              <a:off x="7289280" y="4725000"/>
              <a:ext cx="2520" cy="7196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0"/>
            </p:cNvCxnSpPr>
            <p:nvPr/>
          </p:nvCxnSpPr>
          <p:spPr>
            <a:xfrm flipH="1" flipV="1" rot="5400000">
              <a:off x="8171280" y="4707000"/>
              <a:ext cx="216360" cy="538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  <p:cxnSp>
          <p:nvCxnSpPr>
            <p:cNvPr id="292" name=""/>
            <p:cNvCxnSpPr>
              <a:stCxn id="284" idx="0"/>
            </p:cNvCxnSpPr>
            <p:nvPr/>
          </p:nvCxnSpPr>
          <p:spPr>
            <a:xfrm flipH="1" flipV="1" rot="5400000">
              <a:off x="7451640" y="4708080"/>
              <a:ext cx="216360" cy="536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  <p:cxnSp>
          <p:nvCxnSpPr>
            <p:cNvPr id="293" name=""/>
            <p:cNvCxnSpPr>
              <a:stCxn id="287" idx="0"/>
            </p:cNvCxnSpPr>
            <p:nvPr/>
          </p:nvCxnSpPr>
          <p:spPr>
            <a:xfrm flipH="1" flipV="1" rot="5400000">
              <a:off x="8548560" y="4690440"/>
              <a:ext cx="216360" cy="572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  <p:sp>
          <p:nvSpPr>
            <p:cNvPr id="294" name=""/>
            <p:cNvSpPr/>
            <p:nvPr/>
          </p:nvSpPr>
          <p:spPr>
            <a:xfrm>
              <a:off x="674856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0892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6748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2784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8820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47120" y="5877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68840" y="5877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stCxn id="296" idx="0"/>
            </p:cNvCxnSpPr>
            <p:nvPr/>
          </p:nvCxnSpPr>
          <p:spPr>
            <a:xfrm flipH="1" flipV="1" rot="5400000">
              <a:off x="7826760" y="5482080"/>
              <a:ext cx="216720" cy="57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  <p:cxnSp>
          <p:nvCxnSpPr>
            <p:cNvPr id="302" name=""/>
            <p:cNvCxnSpPr>
              <a:stCxn id="294" idx="0"/>
            </p:cNvCxnSpPr>
            <p:nvPr/>
          </p:nvCxnSpPr>
          <p:spPr>
            <a:xfrm flipH="1" flipV="1" rot="5400000">
              <a:off x="7106760" y="5482800"/>
              <a:ext cx="216720" cy="572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068-0AA4-4300-9B8F-0D2728CCD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chi aveva richiesto l’i-esimo 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[ M[ i ].proc ] = D[ i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nel registro del proc i-e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 si carica il dato v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D[ i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 termine ogni processore i avrà nel suo registro R il dato contenuto alla locazione L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izialmente specific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o 1: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i 2, 3: logarit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o 4: co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6108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44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8036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74072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0108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59640" y="24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86320" y="2421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7856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3892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9928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413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3440" y="1413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6108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2144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8036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4072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964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05240" y="1773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6108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2144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8036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4072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0108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59640" y="30700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86320" y="3070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C15-0275-4757-B38A-AE7E784AC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mulazione della scrittura concorren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caso general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N processori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ogliono scrivere i valori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rispettivamente, in K diverse celle di memoria di una P-RAM di tipo EREW. In generale K&lt;N e si vuole simulare la concorrenz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priorità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scrive il processore di indice min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dea analoga a quello visto per il caso generale di lettura con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costruisca M, vettore di coppie del tipo (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ciascuna indicante che il processore i-esimo vuole scrivere nella j-esima locazione di memoria (i=0…N-1, j=1…K). Questo vettore viene ordinato in modo stabile, rispetto ai valori di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 raggruppino i processori rispetto alla comune locazione di memoria a cui vogliono accedere e si individuino gli inizializzatori di ogni bloc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asso 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in ogni blocco, il processore di indice minore (il primo del blocco) scrive la sua informazione nella locazione di memoria caratterizzante il bloc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34F-04C4-4DE1-9A31-8BE2DE452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iz[ i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rivi D[ M[ i ].proc ] in M[ i ].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[ i ] contiene il dato che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orrebbe scrivere nella sua lo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di scrittura con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1628640"/>
            <a:ext cx="7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69080" y="198900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13440" y="1341360"/>
            <a:ext cx="2806560" cy="2952720"/>
            <a:chOff x="6013440" y="1341360"/>
            <a:chExt cx="2806560" cy="2952720"/>
          </a:xfrm>
        </p:grpSpPr>
        <p:sp>
          <p:nvSpPr>
            <p:cNvPr id="340" name=""/>
            <p:cNvSpPr/>
            <p:nvPr/>
          </p:nvSpPr>
          <p:spPr>
            <a:xfrm>
              <a:off x="665964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2000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7856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892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9928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1341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13440" y="1341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6108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2144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036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072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0108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59640" y="170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5240" y="17017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5964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2000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856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892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9928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22068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84880" y="2206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964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2000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7856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3892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9928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58200" y="285264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3440" y="285264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6108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2144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8036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4072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0108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59640" y="321300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05240" y="32130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5964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2000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7856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3892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9928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58200" y="3933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26120" y="39337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in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899360" y="4941720"/>
            <a:ext cx="4617360" cy="1489320"/>
            <a:chOff x="1899360" y="4941720"/>
            <a:chExt cx="4617360" cy="1489320"/>
          </a:xfrm>
        </p:grpSpPr>
        <p:sp>
          <p:nvSpPr>
            <p:cNvPr id="383" name=""/>
            <p:cNvSpPr/>
            <p:nvPr/>
          </p:nvSpPr>
          <p:spPr>
            <a:xfrm>
              <a:off x="291780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816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3708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9744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780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1636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99360" y="580536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672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3708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744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56360" y="580536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3356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9392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5284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1320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7356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3248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9284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1356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72120" y="6070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708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744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5600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1636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7672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35640" y="494172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62320" y="4941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1" name=""/>
            <p:cNvCxnSpPr>
              <a:stCxn id="404" idx="2"/>
              <a:endCxn id="392" idx="0"/>
            </p:cNvCxnSpPr>
            <p:nvPr/>
          </p:nvCxnSpPr>
          <p:spPr>
            <a:xfrm>
              <a:off x="3817800" y="5302080"/>
              <a:ext cx="216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5" idx="2"/>
              <a:endCxn id="386" idx="0"/>
            </p:cNvCxnSpPr>
            <p:nvPr/>
          </p:nvCxnSpPr>
          <p:spPr>
            <a:xfrm>
              <a:off x="4177800" y="53020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"/>
            <p:cNvCxnSpPr>
              <a:stCxn id="407" idx="2"/>
              <a:endCxn id="393" idx="0"/>
            </p:cNvCxnSpPr>
            <p:nvPr/>
          </p:nvCxnSpPr>
          <p:spPr>
            <a:xfrm>
              <a:off x="4897440" y="5302080"/>
              <a:ext cx="144036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4" name=""/>
            <p:cNvSpPr/>
            <p:nvPr/>
          </p:nvSpPr>
          <p:spPr>
            <a:xfrm>
              <a:off x="4716360" y="53514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5320" y="5373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51440" y="5300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ECB-1A35-4E06-BC38-1C147B6E8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4-10T13:41:19Z</dcterms:modified>
  <cp:revision>409</cp:revision>
  <dc:subject/>
  <dc:title>Algoritmi Paralleli e Distribuiti</dc:title>
</cp:coreProperties>
</file>