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D11AB9-EA4A-4742-A679-EE16F6AA5D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85A-9B8B-4A70-B092-EF6271BF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3D7-0D71-4270-9DC1-D9FA107B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B62-DCC8-453B-B6B6-B5C35871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60C-2F37-4292-98CF-56C3C9E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616C-49D4-417B-B054-02122EF6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7152-0E0E-430A-8ECA-7F9C5FD6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ED6-FC05-4A9B-9D26-287F289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1FDE-F225-47B4-AD74-E13E069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A99C-3DC6-47E0-BCFF-E59411BB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9919-2E1D-40D3-9634-4F4B7E4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82F3-ECA9-4B4D-9126-C1D3E60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F80-8AD7-4758-8730-D3863680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CA10-E1E7-437F-A821-080485F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266-54BE-4081-ADE2-A844A4C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CAC9-E937-48E2-A219-78062DDB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CE72-E358-4FD3-9837-6965221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7108-7FE4-48B9-9513-CFFE697F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3C0-1AAE-4308-BDD9-5B538F5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3B4-4BC1-43D9-804F-8E17E9D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B81-13EE-423A-A332-58ED075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FC9-0647-48F9-B236-9AE97466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BDC-0D2A-48C6-AB33-D2DCB88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035-13B9-46B7-8E22-01E6851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70C-03C6-4730-87BF-B3104989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1AE-EBE5-4F29-863A-F32F401E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2A5A-95C0-49E3-95B7-6627B4FB8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ercitazione del 11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n foglie hanno già il valore da sommare nella variabile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log n -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j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g n 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j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s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88000" y="2060640"/>
            <a:ext cx="3093480" cy="1609200"/>
            <a:chOff x="5688000" y="2060640"/>
            <a:chExt cx="3093480" cy="1609200"/>
          </a:xfrm>
        </p:grpSpPr>
        <p:sp>
          <p:nvSpPr>
            <p:cNvPr id="96" name=""/>
            <p:cNvSpPr/>
            <p:nvPr/>
          </p:nvSpPr>
          <p:spPr>
            <a:xfrm>
              <a:off x="6274800" y="2556360"/>
              <a:ext cx="547560" cy="22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54120" y="2940840"/>
              <a:ext cx="329400" cy="22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3280" y="2940840"/>
              <a:ext cx="329760" cy="22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94920" y="2555280"/>
              <a:ext cx="54792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75320" y="2939760"/>
              <a:ext cx="32724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33760" y="2939760"/>
              <a:ext cx="32940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78520" y="2060640"/>
              <a:ext cx="65916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2" idx="2"/>
              <a:endCxn id="96" idx="0"/>
            </p:cNvCxnSpPr>
            <p:nvPr/>
          </p:nvCxnSpPr>
          <p:spPr>
            <a:xfrm flipH="1">
              <a:off x="6548040" y="2280960"/>
              <a:ext cx="659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4" name=""/>
            <p:cNvCxnSpPr>
              <a:stCxn id="102" idx="2"/>
              <a:endCxn id="99" idx="0"/>
            </p:cNvCxnSpPr>
            <p:nvPr/>
          </p:nvCxnSpPr>
          <p:spPr>
            <a:xfrm>
              <a:off x="7208280" y="2280600"/>
              <a:ext cx="660600" cy="27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 flipH="1">
              <a:off x="6218640" y="2777400"/>
              <a:ext cx="330480" cy="16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6" name=""/>
            <p:cNvCxnSpPr>
              <a:stCxn id="96" idx="2"/>
              <a:endCxn id="98" idx="0"/>
            </p:cNvCxnSpPr>
            <p:nvPr/>
          </p:nvCxnSpPr>
          <p:spPr>
            <a:xfrm>
              <a:off x="6548400" y="2777400"/>
              <a:ext cx="330120" cy="16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7" name=""/>
            <p:cNvCxnSpPr>
              <a:stCxn id="99" idx="2"/>
              <a:endCxn id="100" idx="0"/>
            </p:cNvCxnSpPr>
            <p:nvPr/>
          </p:nvCxnSpPr>
          <p:spPr>
            <a:xfrm flipH="1">
              <a:off x="7538760" y="2775600"/>
              <a:ext cx="33048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8" name=""/>
            <p:cNvCxnSpPr>
              <a:stCxn id="99" idx="2"/>
              <a:endCxn id="101" idx="0"/>
            </p:cNvCxnSpPr>
            <p:nvPr/>
          </p:nvCxnSpPr>
          <p:spPr>
            <a:xfrm>
              <a:off x="7868520" y="2775600"/>
              <a:ext cx="330120" cy="16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9" name=""/>
            <p:cNvCxnSpPr>
              <a:stCxn id="97" idx="2"/>
              <a:endCxn id="110" idx="0"/>
            </p:cNvCxnSpPr>
            <p:nvPr/>
          </p:nvCxnSpPr>
          <p:spPr>
            <a:xfrm flipH="1">
              <a:off x="6053400" y="3161520"/>
              <a:ext cx="16524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1" name=""/>
            <p:cNvCxnSpPr>
              <a:stCxn id="97" idx="2"/>
              <a:endCxn id="112" idx="0"/>
            </p:cNvCxnSpPr>
            <p:nvPr/>
          </p:nvCxnSpPr>
          <p:spPr>
            <a:xfrm>
              <a:off x="6219000" y="3161520"/>
              <a:ext cx="16560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3" name=""/>
            <p:cNvCxnSpPr>
              <a:stCxn id="98" idx="2"/>
              <a:endCxn id="114" idx="0"/>
            </p:cNvCxnSpPr>
            <p:nvPr/>
          </p:nvCxnSpPr>
          <p:spPr>
            <a:xfrm flipH="1">
              <a:off x="6712920" y="3161520"/>
              <a:ext cx="16560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5" name=""/>
            <p:cNvCxnSpPr>
              <a:stCxn id="98" idx="2"/>
              <a:endCxn id="116" idx="0"/>
            </p:cNvCxnSpPr>
            <p:nvPr/>
          </p:nvCxnSpPr>
          <p:spPr>
            <a:xfrm>
              <a:off x="6878520" y="3161520"/>
              <a:ext cx="16560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7" name=""/>
            <p:cNvCxnSpPr>
              <a:stCxn id="100" idx="2"/>
              <a:endCxn id="118" idx="0"/>
            </p:cNvCxnSpPr>
            <p:nvPr/>
          </p:nvCxnSpPr>
          <p:spPr>
            <a:xfrm flipH="1">
              <a:off x="7372080" y="3160080"/>
              <a:ext cx="16668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9" name=""/>
            <p:cNvCxnSpPr>
              <a:stCxn id="100" idx="2"/>
              <a:endCxn id="120" idx="0"/>
            </p:cNvCxnSpPr>
            <p:nvPr/>
          </p:nvCxnSpPr>
          <p:spPr>
            <a:xfrm>
              <a:off x="7538760" y="3160080"/>
              <a:ext cx="1645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21" name=""/>
            <p:cNvCxnSpPr>
              <a:stCxn id="101" idx="2"/>
              <a:endCxn id="122" idx="0"/>
            </p:cNvCxnSpPr>
            <p:nvPr/>
          </p:nvCxnSpPr>
          <p:spPr>
            <a:xfrm flipH="1">
              <a:off x="8031600" y="3160080"/>
              <a:ext cx="16668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23" name=""/>
            <p:cNvCxnSpPr>
              <a:stCxn id="101" idx="2"/>
              <a:endCxn id="124" idx="0"/>
            </p:cNvCxnSpPr>
            <p:nvPr/>
          </p:nvCxnSpPr>
          <p:spPr>
            <a:xfrm>
              <a:off x="8197920" y="3160080"/>
              <a:ext cx="1645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110" name=""/>
            <p:cNvSpPr/>
            <p:nvPr/>
          </p:nvSpPr>
          <p:spPr>
            <a:xfrm>
              <a:off x="5943600" y="3381480"/>
              <a:ext cx="220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73720" y="3381480"/>
              <a:ext cx="22032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03120" y="3381480"/>
              <a:ext cx="220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3240" y="3381480"/>
              <a:ext cx="22032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62640" y="3381480"/>
              <a:ext cx="220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2400" y="3381480"/>
              <a:ext cx="22032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2160" y="3381480"/>
              <a:ext cx="220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51920" y="3381480"/>
              <a:ext cx="220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7400" y="259416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2560" y="209772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8520" y="297864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8000" y="342000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7680" y="297864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7000" y="297864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37600" y="297864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6920" y="2594160"/>
              <a:ext cx="293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51360" y="3420000"/>
              <a:ext cx="33012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027840" y="4861080"/>
            <a:ext cx="54756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07160" y="5246640"/>
            <a:ext cx="328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65960" y="5246640"/>
            <a:ext cx="33012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46880" y="4861080"/>
            <a:ext cx="54792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28000" y="5245200"/>
            <a:ext cx="3268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86800" y="5245200"/>
            <a:ext cx="328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30840" y="4365720"/>
            <a:ext cx="65880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2"/>
            <a:endCxn id="134" idx="0"/>
          </p:cNvCxnSpPr>
          <p:nvPr/>
        </p:nvCxnSpPr>
        <p:spPr>
          <a:xfrm flipH="1">
            <a:off x="6300000" y="4586040"/>
            <a:ext cx="66132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37" idx="0"/>
          </p:cNvCxnSpPr>
          <p:nvPr/>
        </p:nvCxnSpPr>
        <p:spPr>
          <a:xfrm>
            <a:off x="6961320" y="4586040"/>
            <a:ext cx="6606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4" idx="2"/>
            <a:endCxn id="135" idx="0"/>
          </p:cNvCxnSpPr>
          <p:nvPr/>
        </p:nvCxnSpPr>
        <p:spPr>
          <a:xfrm flipH="1">
            <a:off x="5969880" y="5081760"/>
            <a:ext cx="33084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4" idx="2"/>
            <a:endCxn id="136" idx="0"/>
          </p:cNvCxnSpPr>
          <p:nvPr/>
        </p:nvCxnSpPr>
        <p:spPr>
          <a:xfrm>
            <a:off x="6300360" y="5081760"/>
            <a:ext cx="33084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2"/>
            <a:endCxn id="138" idx="0"/>
          </p:cNvCxnSpPr>
          <p:nvPr/>
        </p:nvCxnSpPr>
        <p:spPr>
          <a:xfrm flipH="1">
            <a:off x="7290720" y="5081760"/>
            <a:ext cx="33084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>
            <a:off x="7621200" y="5081760"/>
            <a:ext cx="32904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5" idx="2"/>
            <a:endCxn id="148" idx="0"/>
          </p:cNvCxnSpPr>
          <p:nvPr/>
        </p:nvCxnSpPr>
        <p:spPr>
          <a:xfrm flipH="1">
            <a:off x="5806800" y="5466960"/>
            <a:ext cx="164160" cy="219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9" name=""/>
          <p:cNvCxnSpPr>
            <a:stCxn id="135" idx="2"/>
            <a:endCxn id="150" idx="0"/>
          </p:cNvCxnSpPr>
          <p:nvPr/>
        </p:nvCxnSpPr>
        <p:spPr>
          <a:xfrm>
            <a:off x="5970240" y="5466960"/>
            <a:ext cx="165960" cy="219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52" idx="0"/>
          </p:cNvCxnSpPr>
          <p:nvPr/>
        </p:nvCxnSpPr>
        <p:spPr>
          <a:xfrm flipH="1">
            <a:off x="6465600" y="5466960"/>
            <a:ext cx="165600" cy="219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" name=""/>
          <p:cNvCxnSpPr>
            <a:stCxn id="136" idx="2"/>
            <a:endCxn id="154" idx="0"/>
          </p:cNvCxnSpPr>
          <p:nvPr/>
        </p:nvCxnSpPr>
        <p:spPr>
          <a:xfrm>
            <a:off x="6630480" y="5466960"/>
            <a:ext cx="165960" cy="219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5" name=""/>
          <p:cNvCxnSpPr>
            <a:stCxn id="138" idx="2"/>
            <a:endCxn id="156" idx="0"/>
          </p:cNvCxnSpPr>
          <p:nvPr/>
        </p:nvCxnSpPr>
        <p:spPr>
          <a:xfrm flipH="1">
            <a:off x="7124400" y="5465520"/>
            <a:ext cx="167040" cy="221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7" name=""/>
          <p:cNvCxnSpPr>
            <a:stCxn id="138" idx="2"/>
            <a:endCxn id="158" idx="0"/>
          </p:cNvCxnSpPr>
          <p:nvPr/>
        </p:nvCxnSpPr>
        <p:spPr>
          <a:xfrm>
            <a:off x="7291440" y="5465520"/>
            <a:ext cx="164160" cy="221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9" name=""/>
          <p:cNvCxnSpPr>
            <a:stCxn id="139" idx="2"/>
            <a:endCxn id="160" idx="0"/>
          </p:cNvCxnSpPr>
          <p:nvPr/>
        </p:nvCxnSpPr>
        <p:spPr>
          <a:xfrm flipH="1">
            <a:off x="7784280" y="5465520"/>
            <a:ext cx="165960" cy="221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1" name=""/>
          <p:cNvCxnSpPr>
            <a:stCxn id="139" idx="2"/>
            <a:endCxn id="162" idx="0"/>
          </p:cNvCxnSpPr>
          <p:nvPr/>
        </p:nvCxnSpPr>
        <p:spPr>
          <a:xfrm>
            <a:off x="7950240" y="5465520"/>
            <a:ext cx="164160" cy="221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69592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2604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6520" y="5686560"/>
            <a:ext cx="22032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8484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532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4544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412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04240" y="5686560"/>
            <a:ext cx="22068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05800" y="4633920"/>
            <a:ext cx="547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53240" y="4657680"/>
            <a:ext cx="547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21320" y="5070600"/>
            <a:ext cx="547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0240" y="5511960"/>
            <a:ext cx="547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64120" y="5473800"/>
            <a:ext cx="547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0200" y="5060880"/>
            <a:ext cx="547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0840" y="5051520"/>
            <a:ext cx="547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15200" y="5473800"/>
            <a:ext cx="547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it-IT" sz="9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2440" y="4168800"/>
            <a:ext cx="547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p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40480" y="4459320"/>
            <a:ext cx="1335240" cy="175428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8800" y="5084640"/>
            <a:ext cx="647640" cy="103356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5084640"/>
            <a:ext cx="648000" cy="103356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50000" y="5516640"/>
            <a:ext cx="344520" cy="50472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5516640"/>
            <a:ext cx="344520" cy="50472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5516640"/>
            <a:ext cx="344520" cy="50472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516640"/>
            <a:ext cx="344520" cy="504720"/>
          </a:xfrm>
          <a:custGeom>
            <a:avLst/>
            <a:gdLst/>
            <a:ahLst/>
            <a:rect l="l" t="t" r="r" b="b"/>
            <a:pathLst>
              <a:path w="841" h="1105">
                <a:moveTo>
                  <a:pt x="841" y="0"/>
                </a:moveTo>
                <a:cubicBezTo>
                  <a:pt x="792" y="11"/>
                  <a:pt x="630" y="9"/>
                  <a:pt x="547" y="65"/>
                </a:cubicBezTo>
                <a:cubicBezTo>
                  <a:pt x="464" y="121"/>
                  <a:pt x="394" y="183"/>
                  <a:pt x="341" y="335"/>
                </a:cubicBezTo>
                <a:cubicBezTo>
                  <a:pt x="288" y="487"/>
                  <a:pt x="286" y="848"/>
                  <a:pt x="229" y="976"/>
                </a:cubicBezTo>
                <a:cubicBezTo>
                  <a:pt x="172" y="1104"/>
                  <a:pt x="48" y="1078"/>
                  <a:pt x="0" y="1105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68920" y="1177920"/>
            <a:ext cx="32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me prefisse su albero b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84E-D62C-4DDE-83D7-728B7CBE5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054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ni processore ha il valore da sommare in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0,C-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su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0,C-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,C-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,C-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-1,C-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+ su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-1,C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j = C-2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= su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+ su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mpo parallelo R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59640" y="1557360"/>
            <a:ext cx="2087640" cy="1079280"/>
            <a:chOff x="6659640" y="1557360"/>
            <a:chExt cx="2087640" cy="1079280"/>
          </a:xfrm>
        </p:grpSpPr>
        <p:sp>
          <p:nvSpPr>
            <p:cNvPr id="183" name=""/>
            <p:cNvSpPr/>
            <p:nvPr/>
          </p:nvSpPr>
          <p:spPr>
            <a:xfrm>
              <a:off x="6804360" y="1557360"/>
              <a:ext cx="180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5" idx="2"/>
              <a:endCxn id="186" idx="0"/>
            </p:cNvCxnSpPr>
            <p:nvPr/>
          </p:nvCxnSpPr>
          <p:spPr>
            <a:xfrm>
              <a:off x="6804000" y="19177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8" idx="2"/>
              <a:endCxn id="189" idx="0"/>
            </p:cNvCxnSpPr>
            <p:nvPr/>
          </p:nvCxnSpPr>
          <p:spPr>
            <a:xfrm>
              <a:off x="7308720" y="19177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91" idx="2"/>
              <a:endCxn id="192" idx="0"/>
            </p:cNvCxnSpPr>
            <p:nvPr/>
          </p:nvCxnSpPr>
          <p:spPr>
            <a:xfrm>
              <a:off x="7812000" y="19177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5" idx="3"/>
              <a:endCxn id="191" idx="1"/>
            </p:cNvCxnSpPr>
            <p:nvPr/>
          </p:nvCxnSpPr>
          <p:spPr>
            <a:xfrm>
              <a:off x="6947280" y="17744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94" name=""/>
            <p:cNvCxnSpPr>
              <a:stCxn id="192" idx="1"/>
              <a:endCxn id="186" idx="3"/>
            </p:cNvCxnSpPr>
            <p:nvPr/>
          </p:nvCxnSpPr>
          <p:spPr>
            <a:xfrm flipH="1">
              <a:off x="6946920" y="22777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95" name=""/>
            <p:cNvCxnSpPr>
              <a:stCxn id="196" idx="2"/>
              <a:endCxn id="197" idx="0"/>
            </p:cNvCxnSpPr>
            <p:nvPr/>
          </p:nvCxnSpPr>
          <p:spPr>
            <a:xfrm>
              <a:off x="8604000" y="19177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>
              <a:off x="6659640" y="163044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4720" y="16304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59640" y="213372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4720" y="2133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8000" y="16304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68000" y="2133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60000" y="16304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60000" y="2133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"/>
            <p:cNvCxnSpPr>
              <a:stCxn id="191" idx="3"/>
              <a:endCxn id="196" idx="1"/>
            </p:cNvCxnSpPr>
            <p:nvPr/>
          </p:nvCxnSpPr>
          <p:spPr>
            <a:xfrm>
              <a:off x="7955280" y="177444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199" name=""/>
            <p:cNvCxnSpPr>
              <a:stCxn id="197" idx="1"/>
              <a:endCxn id="192" idx="3"/>
            </p:cNvCxnSpPr>
            <p:nvPr/>
          </p:nvCxnSpPr>
          <p:spPr>
            <a:xfrm flipH="1">
              <a:off x="7954920" y="227772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8604000" y="242064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01" name=""/>
            <p:cNvCxnSpPr/>
            <p:nvPr/>
          </p:nvCxnSpPr>
          <p:spPr>
            <a:xfrm>
              <a:off x="7812000" y="242064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02" name=""/>
            <p:cNvCxnSpPr/>
            <p:nvPr/>
          </p:nvCxnSpPr>
          <p:spPr>
            <a:xfrm>
              <a:off x="7308720" y="242064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03" name=""/>
            <p:cNvCxnSpPr/>
            <p:nvPr/>
          </p:nvCxnSpPr>
          <p:spPr>
            <a:xfrm>
              <a:off x="6804000" y="242064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</p:grpSp>
      <p:grpSp>
        <p:nvGrpSpPr>
          <p:cNvPr id="204" name=""/>
          <p:cNvGrpSpPr/>
          <p:nvPr/>
        </p:nvGrpSpPr>
        <p:grpSpPr>
          <a:xfrm>
            <a:off x="7235640" y="3106800"/>
            <a:ext cx="936720" cy="1509120"/>
            <a:chOff x="7235640" y="3106800"/>
            <a:chExt cx="936720" cy="1509120"/>
          </a:xfrm>
        </p:grpSpPr>
        <p:cxnSp>
          <p:nvCxnSpPr>
            <p:cNvPr id="205" name=""/>
            <p:cNvCxnSpPr>
              <a:stCxn id="206" idx="2"/>
              <a:endCxn id="207" idx="0"/>
            </p:cNvCxnSpPr>
            <p:nvPr/>
          </p:nvCxnSpPr>
          <p:spPr>
            <a:xfrm>
              <a:off x="7884720" y="3394080"/>
              <a:ext cx="1080" cy="719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7740720" y="310680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40720" y="3609720"/>
              <a:ext cx="28728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endCxn id="206" idx="1"/>
            </p:cNvCxnSpPr>
            <p:nvPr/>
          </p:nvCxnSpPr>
          <p:spPr>
            <a:xfrm>
              <a:off x="7236000" y="325080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10" name=""/>
            <p:cNvCxnSpPr>
              <a:stCxn id="208" idx="1"/>
            </p:cNvCxnSpPr>
            <p:nvPr/>
          </p:nvCxnSpPr>
          <p:spPr>
            <a:xfrm flipH="1">
              <a:off x="7235640" y="375408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8172360" y="3251160"/>
              <a:ext cx="0" cy="10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0720" y="4113000"/>
              <a:ext cx="28728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"/>
            <p:cNvCxnSpPr>
              <a:stCxn id="207" idx="1"/>
            </p:cNvCxnSpPr>
            <p:nvPr/>
          </p:nvCxnSpPr>
          <p:spPr>
            <a:xfrm flipH="1">
              <a:off x="7235640" y="425700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7884720" y="439992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6659640" y="5086440"/>
            <a:ext cx="2087640" cy="1079280"/>
            <a:chOff x="6659640" y="5086440"/>
            <a:chExt cx="2087640" cy="1079280"/>
          </a:xfrm>
        </p:grpSpPr>
        <p:sp>
          <p:nvSpPr>
            <p:cNvPr id="215" name=""/>
            <p:cNvSpPr/>
            <p:nvPr/>
          </p:nvSpPr>
          <p:spPr>
            <a:xfrm>
              <a:off x="6804360" y="5086440"/>
              <a:ext cx="180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7" idx="2"/>
              <a:endCxn id="218" idx="0"/>
            </p:cNvCxnSpPr>
            <p:nvPr/>
          </p:nvCxnSpPr>
          <p:spPr>
            <a:xfrm>
              <a:off x="6804000" y="54464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20" idx="2"/>
              <a:endCxn id="221" idx="0"/>
            </p:cNvCxnSpPr>
            <p:nvPr/>
          </p:nvCxnSpPr>
          <p:spPr>
            <a:xfrm>
              <a:off x="7308720" y="54464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2"/>
              <a:endCxn id="224" idx="0"/>
            </p:cNvCxnSpPr>
            <p:nvPr/>
          </p:nvCxnSpPr>
          <p:spPr>
            <a:xfrm>
              <a:off x="7812000" y="54464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" name=""/>
            <p:cNvCxnSpPr>
              <a:stCxn id="217" idx="3"/>
              <a:endCxn id="223" idx="1"/>
            </p:cNvCxnSpPr>
            <p:nvPr/>
          </p:nvCxnSpPr>
          <p:spPr>
            <a:xfrm>
              <a:off x="6947280" y="53035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26" name=""/>
            <p:cNvCxnSpPr>
              <a:stCxn id="224" idx="1"/>
              <a:endCxn id="218" idx="3"/>
            </p:cNvCxnSpPr>
            <p:nvPr/>
          </p:nvCxnSpPr>
          <p:spPr>
            <a:xfrm flipH="1">
              <a:off x="6946920" y="580680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27" name=""/>
            <p:cNvCxnSpPr>
              <a:stCxn id="228" idx="2"/>
              <a:endCxn id="229" idx="0"/>
            </p:cNvCxnSpPr>
            <p:nvPr/>
          </p:nvCxnSpPr>
          <p:spPr>
            <a:xfrm>
              <a:off x="8604000" y="54464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7" name=""/>
            <p:cNvSpPr/>
            <p:nvPr/>
          </p:nvSpPr>
          <p:spPr>
            <a:xfrm>
              <a:off x="6659640" y="5159160"/>
              <a:ext cx="287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64720" y="51591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59640" y="5662440"/>
              <a:ext cx="287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64720" y="566244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68000" y="51591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0" y="566244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60000" y="51591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60000" y="566244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"/>
            <p:cNvCxnSpPr>
              <a:stCxn id="223" idx="3"/>
              <a:endCxn id="228" idx="1"/>
            </p:cNvCxnSpPr>
            <p:nvPr/>
          </p:nvCxnSpPr>
          <p:spPr>
            <a:xfrm>
              <a:off x="7955280" y="530352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31" name=""/>
            <p:cNvCxnSpPr>
              <a:stCxn id="229" idx="1"/>
              <a:endCxn id="224" idx="3"/>
            </p:cNvCxnSpPr>
            <p:nvPr/>
          </p:nvCxnSpPr>
          <p:spPr>
            <a:xfrm flipH="1">
              <a:off x="7954920" y="580680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32" name=""/>
            <p:cNvCxnSpPr/>
            <p:nvPr/>
          </p:nvCxnSpPr>
          <p:spPr>
            <a:xfrm>
              <a:off x="8604000" y="594972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33" name=""/>
            <p:cNvCxnSpPr/>
            <p:nvPr/>
          </p:nvCxnSpPr>
          <p:spPr>
            <a:xfrm>
              <a:off x="7812000" y="594972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34" name=""/>
            <p:cNvCxnSpPr/>
            <p:nvPr/>
          </p:nvCxnSpPr>
          <p:spPr>
            <a:xfrm>
              <a:off x="7308720" y="594972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6804000" y="594972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</p:grpSp>
      <p:sp>
        <p:nvSpPr>
          <p:cNvPr id="236" name=""/>
          <p:cNvSpPr/>
          <p:nvPr/>
        </p:nvSpPr>
        <p:spPr>
          <a:xfrm>
            <a:off x="3336120" y="11764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mme prefisse su m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258-D936-4634-9789-FD2593BE20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3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49600" y="1674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adoperano k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cc00"/>
                </a:solidFill>
                <a:latin typeface="Arial"/>
              </a:rPr>
              <a:t>Per semplicità assumiamo n multiplo di k: n = h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  <a:ea typeface="Arial"/>
              </a:rPr>
              <a:t>·</a:t>
            </a:r>
            <a:r>
              <a:rPr b="0" lang="it-IT" sz="1600" spc="-1" strike="noStrike">
                <a:solidFill>
                  <a:srgbClr val="99cc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k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i * h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 inizio blocco i-es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 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j ] = 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j ] + 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j-1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[ i ] = 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h-1 ]          // l’ultimo del bl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fixSum(B,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k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 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j ] = A[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+ j ] + B[ i-1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parallelo O(h + log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70320" y="1185840"/>
            <a:ext cx="42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mme prefisse con Accellerated Casc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BA8-BA87-46CC-AD9C-3FCDACEC00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4.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rittura di qualsiasi funzione commutativa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dei valori (somma, max, ecc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cc00"/>
                </a:solidFill>
                <a:latin typeface="Arial"/>
              </a:rPr>
              <a:t>Per semplicità assumiamo n potenza d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sso 3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tecnica della metà su tutti i blocchi insi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ttivo[ i ] = tru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tutti lavorano inizi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[ i ] = dato che M[ i ].proc vuole scrivere in M[ i ].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og 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ttivo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B[ i ] = B[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[ i ]  =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D[ i ], D[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ttivo[ i ] =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iz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crivi D[ i ] in M[ i ].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51480" y="118584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zione di scrittura concorrente con funzione dei val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008-F661-4130-880B-C86C33672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4.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rittura di valori identici (con controllo espli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cc00"/>
                </a:solidFill>
                <a:latin typeface="Arial"/>
              </a:rPr>
              <a:t>Per semplicità assumiamo n potenza d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sso 3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tecnica della metà su tutti i blocchi insi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ttivo[ i ] = tru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tutti lavorano inizi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st[ i ] = tru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controllo di ugualgianza dei val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[ i ] = dato che M[ i ].proc vuole scrivere in M[ i ].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og 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ttivo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B[ i ] = B[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st[ i ] = test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test[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D[ i ] == D[ i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ttivo[ i ] =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iz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test[ i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crivi D[ i ] in M[ i ].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69360" y="118584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zione di scrittura concorrente di valori iden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2BF-E4AB-4D1C-80E1-CA94AE6468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12T12:15:41Z</dcterms:modified>
  <cp:revision>323</cp:revision>
  <dc:subject/>
  <dc:title>Algoritmi Paralleli e Distribuiti</dc:title>
</cp:coreProperties>
</file>