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9825CE7-9EBD-49A4-9A4A-04DE25D520E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no Accademico 200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87D-A5F4-485D-AC43-FE5185B2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DD9-36E2-4D31-8E22-9C2426D2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19C-3A7E-4C4B-BCE1-6AD51392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53C-3C19-47B8-9CC1-CC131FF0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32DD-E95E-4F58-B097-6A3EE3AA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50E0-3A17-4A5E-9C93-FC2EBDB6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DC85-9EE7-4424-B4EC-7E678E0C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3723-74AD-49A4-8999-8BBE2033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7374-1C99-4AD1-9ECE-FB6F0318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2FDE-4D28-45FD-B064-692E882A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56C4-1190-415A-9146-1E339359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1B2-1CEF-4B7A-B84C-7C354749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5424-417D-41BF-825B-E19D2D59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518B-BBBD-4EE4-9BFA-4F49DCDE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1CF7-2434-4175-BA7D-2102F80E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9A9B-BD47-4B2C-8A7E-55819B14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4B43-1F8E-43FE-9988-70919DB5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5F5-1EB0-47D6-BF44-7E6D2A3C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3FD-D748-4238-AA23-D45DECB5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B5B-9A22-4918-9DAD-5C372ECE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14F1-3FC7-4627-A493-4DD0500F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92A-B98A-49B2-87B1-89CA51A1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D0F-5578-4C0A-851B-83BC8812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96F-90E5-4378-BF2E-4DFF1D65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1280" y="6453000"/>
            <a:ext cx="4392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3B0A-625F-458D-BF29-C790E77CC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6684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8D1E-0EC6-47DB-8FAD-BDEEF21C0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332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95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 Paralleli e Distribuiti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a. 2007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ercitazione del 10/05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f.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s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ROSSELLA PETRES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cura del Dott. SAVERIO CAMIN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oluzione dell’esercizio 1</a:t>
            </a:r>
            <a:br>
              <a:rPr sz="40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ssegnato il 04/04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a TDE[ e ] = e.rev.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= adj[ r ]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/ primo arco uscente d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DE[ e.rev ] =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2(n-1)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[ e ]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fixSum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2(n-1)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[ e ] &lt; S[ e.rev ]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[ v ] = u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/ e = (u,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mpo parallelo logaritmico, 2(n-1) processori, PRAM ER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42960" y="1171800"/>
            <a:ext cx="3028320" cy="1536480"/>
            <a:chOff x="6042960" y="1171800"/>
            <a:chExt cx="3028320" cy="1536480"/>
          </a:xfrm>
        </p:grpSpPr>
        <p:grpSp>
          <p:nvGrpSpPr>
            <p:cNvPr id="96" name=""/>
            <p:cNvGrpSpPr/>
            <p:nvPr/>
          </p:nvGrpSpPr>
          <p:grpSpPr>
            <a:xfrm>
              <a:off x="7099200" y="1703520"/>
              <a:ext cx="650880" cy="215640"/>
              <a:chOff x="7099200" y="1703520"/>
              <a:chExt cx="650880" cy="215640"/>
            </a:xfrm>
          </p:grpSpPr>
          <p:sp>
            <p:nvSpPr>
              <p:cNvPr id="97" name=""/>
              <p:cNvSpPr/>
              <p:nvPr/>
            </p:nvSpPr>
            <p:spPr>
              <a:xfrm>
                <a:off x="7099200" y="1703520"/>
                <a:ext cx="21744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316640" y="1703520"/>
                <a:ext cx="21744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532640" y="1703520"/>
                <a:ext cx="21744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099200" y="2098800"/>
              <a:ext cx="650880" cy="215640"/>
              <a:chOff x="7099200" y="2098800"/>
              <a:chExt cx="650880" cy="215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099200" y="2098800"/>
                <a:ext cx="21744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6640" y="2098800"/>
                <a:ext cx="21744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32640" y="2098800"/>
                <a:ext cx="21744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6451560" y="1609560"/>
              <a:ext cx="289080" cy="3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1560" y="2006640"/>
              <a:ext cx="289080" cy="398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8105760" y="1703520"/>
              <a:ext cx="650880" cy="215640"/>
              <a:chOff x="8105760" y="1703520"/>
              <a:chExt cx="650880" cy="215640"/>
            </a:xfrm>
          </p:grpSpPr>
          <p:sp>
            <p:nvSpPr>
              <p:cNvPr id="107" name=""/>
              <p:cNvSpPr/>
              <p:nvPr/>
            </p:nvSpPr>
            <p:spPr>
              <a:xfrm>
                <a:off x="8105760" y="1703520"/>
                <a:ext cx="21744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323200" y="1703520"/>
                <a:ext cx="21744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539200" y="1703520"/>
                <a:ext cx="21744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0" name=""/>
            <p:cNvCxnSpPr>
              <a:stCxn id="104" idx="3"/>
              <a:endCxn id="97" idx="1"/>
            </p:cNvCxnSpPr>
            <p:nvPr/>
          </p:nvCxnSpPr>
          <p:spPr>
            <a:xfrm>
              <a:off x="6740640" y="1808280"/>
              <a:ext cx="35892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99" idx="3"/>
              <a:endCxn id="107" idx="1"/>
            </p:cNvCxnSpPr>
            <p:nvPr/>
          </p:nvCxnSpPr>
          <p:spPr>
            <a:xfrm>
              <a:off x="7750080" y="1810800"/>
              <a:ext cx="35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09" idx="3"/>
              <a:endCxn id="97" idx="0"/>
            </p:cNvCxnSpPr>
            <p:nvPr/>
          </p:nvCxnSpPr>
          <p:spPr>
            <a:xfrm flipH="1" flipV="1">
              <a:off x="7208280" y="1702800"/>
              <a:ext cx="1548360" cy="108360"/>
            </a:xfrm>
            <a:prstGeom prst="bentConnector4">
              <a:avLst>
                <a:gd name="adj1" fmla="val -8302"/>
                <a:gd name="adj2" fmla="val 219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" name=""/>
            <p:cNvCxnSpPr>
              <a:stCxn id="103" idx="3"/>
              <a:endCxn id="101" idx="0"/>
            </p:cNvCxnSpPr>
            <p:nvPr/>
          </p:nvCxnSpPr>
          <p:spPr>
            <a:xfrm flipH="1" flipV="1">
              <a:off x="7208280" y="2098440"/>
              <a:ext cx="541800" cy="108720"/>
            </a:xfrm>
            <a:prstGeom prst="bentConnector4">
              <a:avLst>
                <a:gd name="adj1" fmla="val -21077"/>
                <a:gd name="adj2" fmla="val 2086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05" idx="3"/>
              <a:endCxn id="101" idx="1"/>
            </p:cNvCxnSpPr>
            <p:nvPr/>
          </p:nvCxnSpPr>
          <p:spPr>
            <a:xfrm>
              <a:off x="6740640" y="2206440"/>
              <a:ext cx="358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7413480" y="1782720"/>
              <a:ext cx="703440" cy="925560"/>
            </a:xfrm>
            <a:custGeom>
              <a:avLst/>
              <a:gdLst/>
              <a:ahLst/>
              <a:rect l="l" t="t" r="r" b="b"/>
              <a:pathLst>
                <a:path w="443" h="583">
                  <a:moveTo>
                    <a:pt x="0" y="0"/>
                  </a:moveTo>
                  <a:cubicBezTo>
                    <a:pt x="443" y="69"/>
                    <a:pt x="408" y="180"/>
                    <a:pt x="165" y="5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435880" y="1825560"/>
              <a:ext cx="385920" cy="882720"/>
            </a:xfrm>
            <a:custGeom>
              <a:avLst/>
              <a:gdLst/>
              <a:ahLst/>
              <a:rect l="l" t="t" r="r" b="b"/>
              <a:pathLst>
                <a:path w="243" h="556">
                  <a:moveTo>
                    <a:pt x="10" y="0"/>
                  </a:moveTo>
                  <a:cubicBezTo>
                    <a:pt x="243" y="153"/>
                    <a:pt x="132" y="236"/>
                    <a:pt x="0" y="55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02680" y="2205000"/>
              <a:ext cx="193680" cy="401760"/>
            </a:xfrm>
            <a:custGeom>
              <a:avLst/>
              <a:gdLst/>
              <a:ahLst/>
              <a:rect l="l" t="t" r="r" b="b"/>
              <a:pathLst>
                <a:path w="122" h="253">
                  <a:moveTo>
                    <a:pt x="0" y="0"/>
                  </a:moveTo>
                  <a:cubicBezTo>
                    <a:pt x="122" y="77"/>
                    <a:pt x="99" y="211"/>
                    <a:pt x="0" y="25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42960" y="141588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ad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8900000">
              <a:off x="8219520" y="13219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8900000">
              <a:off x="8469720" y="13219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51560" y="2401920"/>
              <a:ext cx="289080" cy="21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6BA-39ED-4E0B-8E22-696C134B00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oluzione dell’esercizio 2</a:t>
            </a:r>
            <a:br>
              <a:rPr sz="40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ssegnato il 04/04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ssumiamo che ogni processore 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bbia associato un arc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nelle liste di adiacenza. Nelle liste troviamo sia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sia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,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assegnati a processori differenti. Vogliamo un vettore A di n-1 archi non orient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criveremo un arco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in A ss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Per conteggiarli e identificare il loro indice nel vettore A usiamo somme prefi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2(n-1)-1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[ i ] = 1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[ 0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fixSum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2(n-1)-1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[ S[ i ]-1 ] = 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F49-0689-4550-9553-0909BA3A58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zione dell’esercizio 1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gnato il 17/04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eguiamo prima l’algoritmo escludendo il ciclo per la gestione delle st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4520" y="332748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sto di alb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3619440"/>
          <a:ext cx="2203560" cy="1412640"/>
        </p:xfrm>
        <a:graphic>
          <a:graphicData uri="http://schemas.openxmlformats.org/drawingml/2006/table">
            <a:tbl>
              <a:tblPr/>
              <a:tblGrid>
                <a:gridCol w="246240"/>
                <a:gridCol w="242640"/>
                <a:gridCol w="246240"/>
                <a:gridCol w="244440"/>
                <a:gridCol w="244440"/>
                <a:gridCol w="245880"/>
                <a:gridCol w="243000"/>
                <a:gridCol w="246240"/>
                <a:gridCol w="244440"/>
              </a:tblGrid>
              <a:tr h="14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984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254160" y="513396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to del punt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5280" y="5521320"/>
          <a:ext cx="2203560" cy="428760"/>
        </p:xfrm>
        <a:graphic>
          <a:graphicData uri="http://schemas.openxmlformats.org/drawingml/2006/table">
            <a:tbl>
              <a:tblPr/>
              <a:tblGrid>
                <a:gridCol w="246240"/>
                <a:gridCol w="242640"/>
                <a:gridCol w="246240"/>
                <a:gridCol w="244440"/>
                <a:gridCol w="244440"/>
                <a:gridCol w="245880"/>
                <a:gridCol w="243000"/>
                <a:gridCol w="246240"/>
                <a:gridCol w="244440"/>
              </a:tblGrid>
              <a:tr h="14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52720" y="285264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a Ite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987640" y="270792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600" y="332748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sto di alb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492360" y="3619440"/>
          <a:ext cx="2203560" cy="1230480"/>
        </p:xfrm>
        <a:graphic>
          <a:graphicData uri="http://schemas.openxmlformats.org/drawingml/2006/table">
            <a:tbl>
              <a:tblPr/>
              <a:tblGrid>
                <a:gridCol w="246240"/>
                <a:gridCol w="243000"/>
                <a:gridCol w="245880"/>
                <a:gridCol w="244440"/>
                <a:gridCol w="244440"/>
                <a:gridCol w="246240"/>
                <a:gridCol w="242640"/>
                <a:gridCol w="246240"/>
                <a:gridCol w="244440"/>
              </a:tblGrid>
              <a:tr h="14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024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351600" y="513396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to del punt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492360" y="5521320"/>
          <a:ext cx="2203560" cy="428760"/>
        </p:xfrm>
        <a:graphic>
          <a:graphicData uri="http://schemas.openxmlformats.org/drawingml/2006/table">
            <a:tbl>
              <a:tblPr/>
              <a:tblGrid>
                <a:gridCol w="246240"/>
                <a:gridCol w="242640"/>
                <a:gridCol w="246240"/>
                <a:gridCol w="244440"/>
                <a:gridCol w="244440"/>
                <a:gridCol w="245880"/>
                <a:gridCol w="243000"/>
                <a:gridCol w="246240"/>
                <a:gridCol w="244440"/>
              </a:tblGrid>
              <a:tr h="14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3349440" y="285264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conda Ite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084720" y="270792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75600" y="332748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sto di alb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516720" y="3619440"/>
          <a:ext cx="2203560" cy="1047960"/>
        </p:xfrm>
        <a:graphic>
          <a:graphicData uri="http://schemas.openxmlformats.org/drawingml/2006/table">
            <a:tbl>
              <a:tblPr/>
              <a:tblGrid>
                <a:gridCol w="245880"/>
                <a:gridCol w="243000"/>
                <a:gridCol w="246240"/>
                <a:gridCol w="244440"/>
                <a:gridCol w="244440"/>
                <a:gridCol w="245880"/>
                <a:gridCol w="243000"/>
                <a:gridCol w="246240"/>
                <a:gridCol w="244440"/>
              </a:tblGrid>
              <a:tr h="14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19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6375600" y="513396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to del punt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516720" y="5521320"/>
          <a:ext cx="2203560" cy="428760"/>
        </p:xfrm>
        <a:graphic>
          <a:graphicData uri="http://schemas.openxmlformats.org/drawingml/2006/table">
            <a:tbl>
              <a:tblPr/>
              <a:tblGrid>
                <a:gridCol w="246240"/>
                <a:gridCol w="242640"/>
                <a:gridCol w="246240"/>
                <a:gridCol w="244440"/>
                <a:gridCol w="244440"/>
                <a:gridCol w="245880"/>
                <a:gridCol w="243000"/>
                <a:gridCol w="246240"/>
                <a:gridCol w="244440"/>
              </a:tblGrid>
              <a:tr h="14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6374160" y="285264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za Ite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-15840" y="4339080"/>
            <a:ext cx="884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ntativi di scrittura concorr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B1B1-14C7-4A17-B6B2-F1A9BD87B2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zione dell’esercizio 1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gnato il 17/04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544500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esecuzione ha richiesto O(n) iterazi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4520" y="210348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sto di alb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4160" y="357336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to del punt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3960720"/>
          <a:ext cx="2203560" cy="428760"/>
        </p:xfrm>
        <a:graphic>
          <a:graphicData uri="http://schemas.openxmlformats.org/drawingml/2006/table">
            <a:tbl>
              <a:tblPr/>
              <a:tblGrid>
                <a:gridCol w="246240"/>
                <a:gridCol w="242640"/>
                <a:gridCol w="246240"/>
                <a:gridCol w="244440"/>
                <a:gridCol w="244440"/>
                <a:gridCol w="245880"/>
                <a:gridCol w="243000"/>
                <a:gridCol w="246240"/>
                <a:gridCol w="244440"/>
              </a:tblGrid>
              <a:tr h="14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252360" y="1628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uarta Ite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987640" y="148392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1600" y="210348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sto di alb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492360" y="2395440"/>
          <a:ext cx="2203560" cy="712800"/>
        </p:xfrm>
        <a:graphic>
          <a:graphicData uri="http://schemas.openxmlformats.org/drawingml/2006/table">
            <a:tbl>
              <a:tblPr/>
              <a:tblGrid>
                <a:gridCol w="246240"/>
                <a:gridCol w="243000"/>
                <a:gridCol w="245880"/>
                <a:gridCol w="244440"/>
                <a:gridCol w="244440"/>
                <a:gridCol w="246240"/>
                <a:gridCol w="242640"/>
                <a:gridCol w="246240"/>
                <a:gridCol w="244440"/>
              </a:tblGrid>
              <a:tr h="14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351600" y="357336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to del punt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492360" y="3960720"/>
          <a:ext cx="2203560" cy="428760"/>
        </p:xfrm>
        <a:graphic>
          <a:graphicData uri="http://schemas.openxmlformats.org/drawingml/2006/table">
            <a:tbl>
              <a:tblPr/>
              <a:tblGrid>
                <a:gridCol w="246240"/>
                <a:gridCol w="242640"/>
                <a:gridCol w="246240"/>
                <a:gridCol w="244440"/>
                <a:gridCol w="244440"/>
                <a:gridCol w="245880"/>
                <a:gridCol w="243000"/>
                <a:gridCol w="246240"/>
                <a:gridCol w="244440"/>
              </a:tblGrid>
              <a:tr h="14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3348720" y="162864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uinta Ite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084720" y="148392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5600" y="210348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sto di alb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516720" y="2395440"/>
          <a:ext cx="2203560" cy="712800"/>
        </p:xfrm>
        <a:graphic>
          <a:graphicData uri="http://schemas.openxmlformats.org/drawingml/2006/table">
            <a:tbl>
              <a:tblPr/>
              <a:tblGrid>
                <a:gridCol w="245880"/>
                <a:gridCol w="243000"/>
                <a:gridCol w="246240"/>
                <a:gridCol w="244440"/>
                <a:gridCol w="244440"/>
                <a:gridCol w="245880"/>
                <a:gridCol w="243000"/>
                <a:gridCol w="230040"/>
                <a:gridCol w="260640"/>
              </a:tblGrid>
              <a:tr h="14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6372360" y="357336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tti i nodi appartengono a qualche stella, quindi l’algoritmo term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4520" y="162864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sta Ite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95280" y="2421000"/>
          <a:ext cx="2203560" cy="865080"/>
        </p:xfrm>
        <a:graphic>
          <a:graphicData uri="http://schemas.openxmlformats.org/drawingml/2006/table">
            <a:tbl>
              <a:tblPr/>
              <a:tblGrid>
                <a:gridCol w="246240"/>
                <a:gridCol w="242640"/>
                <a:gridCol w="246240"/>
                <a:gridCol w="244440"/>
                <a:gridCol w="244440"/>
                <a:gridCol w="245880"/>
                <a:gridCol w="243000"/>
                <a:gridCol w="246240"/>
                <a:gridCol w="244440"/>
              </a:tblGrid>
              <a:tr h="14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374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5AA-774F-4A71-A1E0-9CD1F9E524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zione dell’esercizio 1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gnato il 17/04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eguiamo ora l’algoritmo includendo il ciclo per la gestione delle st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4520" y="23922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sto di alb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2684520"/>
          <a:ext cx="2203560" cy="1412640"/>
        </p:xfrm>
        <a:graphic>
          <a:graphicData uri="http://schemas.openxmlformats.org/drawingml/2006/table">
            <a:tbl>
              <a:tblPr/>
              <a:tblGrid>
                <a:gridCol w="246240"/>
                <a:gridCol w="242640"/>
                <a:gridCol w="246240"/>
                <a:gridCol w="244440"/>
                <a:gridCol w="244440"/>
                <a:gridCol w="245880"/>
                <a:gridCol w="243000"/>
                <a:gridCol w="246240"/>
                <a:gridCol w="244440"/>
              </a:tblGrid>
              <a:tr h="14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984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254160" y="534996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to del punt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5737320"/>
          <a:ext cx="2203560" cy="428400"/>
        </p:xfrm>
        <a:graphic>
          <a:graphicData uri="http://schemas.openxmlformats.org/drawingml/2006/table">
            <a:tbl>
              <a:tblPr/>
              <a:tblGrid>
                <a:gridCol w="246240"/>
                <a:gridCol w="242640"/>
                <a:gridCol w="246240"/>
                <a:gridCol w="244440"/>
                <a:gridCol w="244440"/>
                <a:gridCol w="245880"/>
                <a:gridCol w="243000"/>
                <a:gridCol w="246240"/>
                <a:gridCol w="244440"/>
              </a:tblGrid>
              <a:tr h="14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252720" y="191772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a Ite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87640" y="1915920"/>
            <a:ext cx="0" cy="43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51600" y="23922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sto di alb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492360" y="2684520"/>
          <a:ext cx="2203560" cy="712800"/>
        </p:xfrm>
        <a:graphic>
          <a:graphicData uri="http://schemas.openxmlformats.org/drawingml/2006/table">
            <a:tbl>
              <a:tblPr/>
              <a:tblGrid>
                <a:gridCol w="246240"/>
                <a:gridCol w="243000"/>
                <a:gridCol w="245880"/>
                <a:gridCol w="244440"/>
                <a:gridCol w="244440"/>
                <a:gridCol w="246240"/>
                <a:gridCol w="242640"/>
                <a:gridCol w="246240"/>
                <a:gridCol w="244440"/>
              </a:tblGrid>
              <a:tr h="14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3351600" y="393372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to del punt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492360" y="4321080"/>
          <a:ext cx="2203560" cy="428760"/>
        </p:xfrm>
        <a:graphic>
          <a:graphicData uri="http://schemas.openxmlformats.org/drawingml/2006/table">
            <a:tbl>
              <a:tblPr/>
              <a:tblGrid>
                <a:gridCol w="245880"/>
                <a:gridCol w="243000"/>
                <a:gridCol w="230400"/>
                <a:gridCol w="260280"/>
                <a:gridCol w="244440"/>
                <a:gridCol w="245880"/>
                <a:gridCol w="243000"/>
                <a:gridCol w="246240"/>
                <a:gridCol w="244440"/>
              </a:tblGrid>
              <a:tr h="14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3349440" y="191772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conda Ite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084720" y="191772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25560" y="239544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sto di alber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74160" y="19177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za Ite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3800" y="42242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sto di st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95280" y="4516560"/>
          <a:ext cx="2203560" cy="712800"/>
        </p:xfrm>
        <a:graphic>
          <a:graphicData uri="http://schemas.openxmlformats.org/drawingml/2006/table">
            <a:tbl>
              <a:tblPr/>
              <a:tblGrid>
                <a:gridCol w="246240"/>
                <a:gridCol w="242640"/>
                <a:gridCol w="246240"/>
                <a:gridCol w="244440"/>
                <a:gridCol w="244440"/>
                <a:gridCol w="245880"/>
                <a:gridCol w="243000"/>
                <a:gridCol w="246240"/>
                <a:gridCol w="244440"/>
              </a:tblGrid>
              <a:tr h="14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3300840" y="350532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sto di stel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72360" y="310824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tti i nodi appartengono a qualche stella, quindi l’algoritmo term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5200" y="278460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sto di stel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360" y="5516640"/>
            <a:ext cx="49658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esecuzione ha richiesto O(log n) iterazi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806-BC3A-4F95-BBC7-5379132CFD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9:23:06Z</dcterms:created>
  <dc:creator>Utente della copia di valutazione di Office 2004</dc:creator>
  <dc:description/>
  <dc:language>en-US</dc:language>
  <cp:lastModifiedBy>Saverio Caminiti</cp:lastModifiedBy>
  <cp:lastPrinted>2008-02-15T15:49:41Z</cp:lastPrinted>
  <dcterms:modified xsi:type="dcterms:W3CDTF">2008-05-12T10:27:35Z</dcterms:modified>
  <cp:revision>330</cp:revision>
  <dc:subject/>
  <dc:title>Algoritmi Paralleli e Distribuiti</dc:title>
</cp:coreProperties>
</file>